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D5E-B1CF-43B8-A98B-64BC39B9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374-CDE9-4A0D-A8C5-D92C56E3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E42-5B09-4BDF-8414-C24BB8D0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5EB-2A31-4273-B842-311D06E4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2D27-8232-4F18-92C6-52671CDA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6DF2-4D67-4426-8166-AC7D6985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9BB5-778E-4808-A975-115F0739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A6B8-9335-4082-AD44-D0B60A61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77A6-2F03-4A5B-BD23-02510C7F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7AE8-DEE8-45D7-BFAB-759803E7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3FB5-AF26-4652-9597-163B9449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E91-8AE1-456F-AA79-93308316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2245-56A5-40A9-8A0A-D04F1D2C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8491-F7AA-4A8D-ACDB-BFFEBFE4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B733-06BA-4AD0-A1DE-3AA820E6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FA46-5CED-4482-85B5-D11D57BE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2A77-E6CF-461D-84F5-7DD6E093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B90-40D9-4E24-9FE9-6A7D85FD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094-FCC6-4544-A11C-E02C0E99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08D-A6A5-4424-8EE8-462CF368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692-C2DB-4ABC-8BF7-B29D4D7A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776-1B94-4459-9C2E-599675A4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E63-ACC3-4F31-8072-48B2262B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C37-73E6-4513-9C53-50406006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4C6C-2ED2-4E21-AB42-39924900F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7D40-EA0C-4D1D-BA60-CD97DC49E8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kk.wikipedia.org/wiki/&#1058;&#1088;&#1086;&#1087;&#1086;&#1089;&#1092;&#1077;&#1088;&#1072;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763560" y="1859400"/>
            <a:ext cx="822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Сабақтың тақырыб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Атмосфера – Жердің ауа  қабаты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125800" y="1218240"/>
            <a:ext cx="48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eorgia"/>
              </a:rPr>
              <a:t>ІҮ.Қорытынды бөлім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2455920" y="297072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.Бекіту тапсырмала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369600" y="437400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І. Үйге тапсы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900720" y="5256360"/>
            <a:ext cx="75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Не себепті адам үшін тропосфера маңыз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Өз мысалдарың мен дәлел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457200" y="1461240"/>
            <a:ext cx="816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Сабақтың мақса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Оқушыларға тақырып бойынша түсінік бе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Жердің ауа қабаты – Атмосфера тура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толық мағлұмат беру.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04920" y="325440"/>
            <a:ext cx="853416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Үй тапсырмасын сұр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.Оқушылараға 4 сұрақ қойыла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Адамдардың шаруашылық іс-әрекетінің нәтижесінде су қоймаларына қандай зиян келеді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Дистелденген су дегеніміз н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Қандай жануарларды және өсімдіктерді су қоймаларының  санитары деп атай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Суды тазартуға бола ма? Құдық және бұлақтың суларын тазарту қажет п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ІІ.Тәжірибе жас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шіне су құйылған ыдыс алып, кішігірім саз кесекті салып, оны лайланғанша араластыр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Біраз уақыт өткеннен кейін су біртіндеп тұнып, тұнбалар ыдыстың төменгі жағына жинала бастайды. Ендігі кезекте сүзбе қағазды алып, «Воронка» арқылы суды екінші ыдысқа құй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Осы кезде екінші ыдысқа тек қана оның жоғарғы жағындағы су ағады да тұнба алғашқы ыдыста қалып қояды. Осылай тазартылған суды (фильтрленген су) сүзгіден өткізген су дей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1"/>
          <p:cNvSpPr/>
          <p:nvPr/>
        </p:nvSpPr>
        <p:spPr>
          <a:xfrm rot="20956200">
            <a:off x="3524040" y="2195280"/>
            <a:ext cx="342720" cy="79992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 rot="823200">
            <a:off x="352404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58180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 rot="740400">
            <a:off x="5695560" y="2195640"/>
            <a:ext cx="343080" cy="799920"/>
          </a:xfrm>
          <a:prstGeom prst="ca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 rot="1508400">
            <a:off x="3867120" y="279864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 rot="11014200">
            <a:off x="5009760" y="464616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3867120" y="4646520"/>
            <a:ext cx="571680" cy="343080"/>
          </a:xfrm>
          <a:custGeom>
            <a:avLst/>
            <a:gdLst>
              <a:gd name="textAreaLeft" fmla="*/ 100080 w 571680"/>
              <a:gd name="textAreaRight" fmla="*/ 414720 w 571680"/>
              <a:gd name="textAreaTop" fmla="*/ 45720 h 343080"/>
              <a:gd name="textAreaBottom" fmla="*/ 29736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 rot="2334000">
            <a:off x="5238720" y="2195640"/>
            <a:ext cx="343080" cy="571320"/>
          </a:xfrm>
          <a:custGeom>
            <a:avLst/>
            <a:gdLst>
              <a:gd name="textAreaLeft" fmla="*/ 45720 w 343080"/>
              <a:gd name="textAreaRight" fmla="*/ 297360 w 343080"/>
              <a:gd name="textAreaTop" fmla="*/ 99720 h 571320"/>
              <a:gd name="textAreaBottom" fmla="*/ 4143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1109160" y="610200"/>
            <a:ext cx="6438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ІІІ.Жаңа саба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1" i="1" lang="kk-K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тм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ттегі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з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963080" y="2163240"/>
            <a:ext cx="39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1925280" y="2953800"/>
            <a:ext cx="2885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-240840" y="3291480"/>
            <a:ext cx="58971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                                                      </a:t>
            </a: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Ауа</a:t>
            </a:r>
            <a:r>
              <a:rPr b="0" i="1" lang="kk-KZ" sz="1600" spc="-1" strike="noStrike">
                <a:solidFill>
                  <a:srgbClr val="ffffff"/>
                </a:solidFill>
                <a:latin typeface="Georgi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703800" y="4571640"/>
            <a:ext cx="80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ргон                                        Көмір -  қышқыл га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360" y="-63360"/>
            <a:ext cx="923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Шамамен 100 км-ге дейінг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биіктік аралығында ауа құрамы мынадай газдарда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зот — 78%, оттек — 21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инертті газдар — 1%-ға жуық (оның 0,93%-ы аргон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көмірқышқыл газынан — 0,03%-ы тұр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220px-Top_of_Atmosphere"/>
          <p:cNvPicPr/>
          <p:nvPr/>
        </p:nvPicPr>
        <p:blipFill>
          <a:blip r:embed="rId1"/>
          <a:stretch/>
        </p:blipFill>
        <p:spPr>
          <a:xfrm>
            <a:off x="990720" y="304920"/>
            <a:ext cx="6933960" cy="35049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1843200" y="445032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 Жердің ауа қабаты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220px-Sunset_from_the_ISS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3581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526400" y="46472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ның қырынан көрінісі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http://upload.wikimedia.org/wikipedia/commons/c/c9/Atmospher.png"/>
          <p:cNvPicPr/>
          <p:nvPr/>
        </p:nvPicPr>
        <p:blipFill>
          <a:blip r:embed="rId1"/>
          <a:stretch/>
        </p:blipFill>
        <p:spPr>
          <a:xfrm>
            <a:off x="228600" y="304920"/>
            <a:ext cx="3657600" cy="617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4041720" y="685080"/>
            <a:ext cx="16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Экзосфера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041360" y="22089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Терм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4039200" y="441900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Мез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80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3966120" y="518076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Страт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50-55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164480" y="59428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Троп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-11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534240" y="649044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Жердің қорғаныш қабығ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6840" y="2514600"/>
            <a:ext cx="935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ттегін шығарушы өсімдік болс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адамдар мен жануарла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Ал көміртегін шығарушы адам мен жануар бол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өсімдік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jitov Nurken</cp:lastModifiedBy>
  <dcterms:modified xsi:type="dcterms:W3CDTF">2012-01-15T10:55:1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50500207f7000400038000</vt:lpwstr>
  </property>
  <property fmtid="{D5CDD505-2E9C-101B-9397-08002B2CF9AE}" pid="3" name="Version">
    <vt:r8>1</vt:r8>
  </property>
</Properties>
</file>