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D25-9E47-48DC-AB4A-3B0E1316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283-C8AD-4B75-B469-B89DD9A9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16A-BF21-47A1-9665-8583668D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5DF-CB1C-4A02-9098-E1AE4BC5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71B5-ACC1-4F57-BC68-C8D44116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8549-33E0-42E2-981C-C6FA489F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C5A3-F604-45E7-891F-7A0AB415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CF66-9810-4BC2-949E-A2593248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CAAB-E0D4-4C1B-84B0-70F3999D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3096-05F6-4992-99D5-9CB4FEC7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DA8B-4ED5-45BE-933D-42F401DC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99E-6FD9-4098-B907-27572363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491E-8DC5-44CE-AA5C-3EBF4C9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6C37-0B61-4129-9357-F76A51B4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FD67-313E-4FB6-B5A5-2B09CC15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BC28-B52B-42DA-8D43-1DA637AB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182A-2E19-4086-A78D-895702FF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4DB-F006-4066-9D9C-71AFA85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B4A-DB50-4CE6-B461-9771E0E0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6C0-3406-4B22-8552-834D420F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2FD-1A6B-4CF1-BCA5-83477279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38F-D3C6-4522-8DCB-7B0ED286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FED-417D-434E-A2B0-32803F1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472-6A27-4368-9664-6487F50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7515-BF5D-42B3-83E1-8E3BB1D14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996C-D45A-477B-A84D-9D3BAF2169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kk.wikipedia.org/wiki/&#1058;&#1088;&#1086;&#1087;&#1086;&#1089;&#1092;&#1077;&#1088;&#1072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763560" y="1859400"/>
            <a:ext cx="822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Сабақтың тақырыб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Атмосфера – Жердің ауа  қабаты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125800" y="121824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eorgia"/>
              </a:rPr>
              <a:t>ІҮ.Қорытынды бөлім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455920" y="29707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.Бекіту тапсырмала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69600" y="437400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І. Үйге тапсы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900720" y="5256360"/>
            <a:ext cx="75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Не себепті адам үшін тропосфера маңыз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Өз мысалдарың мен дәлел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457200" y="1461240"/>
            <a:ext cx="816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Сабақтың мақса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Оқушыларға тақырып бойынша түсінік б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Жердің ауа қабаты – Атмосфера тура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толық мағлұмат беру.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04920" y="325440"/>
            <a:ext cx="853416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Үй тапсырмасын сұр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.Оқушылараға 4 сұрақ қойыла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Адамдардың шаруашылық іс-әрекетінің нәтижесінде су қоймаларына қандай зиян келеді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Дистелденген су дегеніміз н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Қандай жануарларды және өсімдіктерді су қоймаларының  санитары деп атай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Суды тазартуға бола ма? Құдық және бұлақтың суларын тазарту қажет п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ІІ.Тәжірибе жас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шіне су құйылған ыдыс алып, кішігірім саз кесекті салып, оны лайланғанша араластыр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Біраз уақыт өткеннен кейін су біртіндеп тұнып, тұнбалар ыдыстың төменгі жағына жинала бастайды. Ендігі кезекте сүзбе қағазды алып, «Воронка» арқылы суды екінші ыдысқа құй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Осы кезде екінші ыдысқа тек қана оның жоғарғы жағындағы су ағады да тұнба алғашқы ыдыста қалып қояды. Осылай тазартылған суды (фильтрленген су) сүзгіден өткізген су дей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1"/>
          <p:cNvSpPr/>
          <p:nvPr/>
        </p:nvSpPr>
        <p:spPr>
          <a:xfrm rot="20956200">
            <a:off x="3524040" y="2195280"/>
            <a:ext cx="342720" cy="7999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823200">
            <a:off x="352404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58180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 rot="740400">
            <a:off x="5695560" y="2195640"/>
            <a:ext cx="343080" cy="7999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rot="1508400">
            <a:off x="3867120" y="279864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rot="11014200">
            <a:off x="5009760" y="464616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867120" y="4646520"/>
            <a:ext cx="571680" cy="343080"/>
          </a:xfrm>
          <a:custGeom>
            <a:avLst/>
            <a:gdLst>
              <a:gd name="textAreaLeft" fmla="*/ 100080 w 571680"/>
              <a:gd name="textAreaRight" fmla="*/ 414720 w 571680"/>
              <a:gd name="textAreaTop" fmla="*/ 45720 h 343080"/>
              <a:gd name="textAreaBottom" fmla="*/ 2973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 rot="2334000">
            <a:off x="5238720" y="2195640"/>
            <a:ext cx="343080" cy="571320"/>
          </a:xfrm>
          <a:custGeom>
            <a:avLst/>
            <a:gdLst>
              <a:gd name="textAreaLeft" fmla="*/ 45720 w 343080"/>
              <a:gd name="textAreaRight" fmla="*/ 297360 w 343080"/>
              <a:gd name="textAreaTop" fmla="*/ 99720 h 571320"/>
              <a:gd name="textAreaBottom" fmla="*/ 4143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09160" y="610200"/>
            <a:ext cx="6438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ІІІ.Жаңа саба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1" i="1" lang="kk-K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ттегі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з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963080" y="2163240"/>
            <a:ext cx="39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925280" y="2953800"/>
            <a:ext cx="288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-240840" y="3291480"/>
            <a:ext cx="5897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                                                      </a:t>
            </a: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Ауа</a:t>
            </a:r>
            <a:r>
              <a:rPr b="0" i="1" lang="kk-KZ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703800" y="4571640"/>
            <a:ext cx="80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гон                                        Көмір -  қышқыл г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360" y="-63360"/>
            <a:ext cx="923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Шамамен 100 км-ге дейінг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биіктік аралығында ауа құрамы мынадай газдард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зот — 78%, оттек — 21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инертті газдар — 1%-ға жуық (оның 0,93%-ы аргон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көмірқышқыл газынан — 0,03%-ы тұр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220px-Top_of_Atmosphere"/>
          <p:cNvPicPr/>
          <p:nvPr/>
        </p:nvPicPr>
        <p:blipFill>
          <a:blip r:embed="rId1"/>
          <a:stretch/>
        </p:blipFill>
        <p:spPr>
          <a:xfrm>
            <a:off x="990720" y="304920"/>
            <a:ext cx="6933960" cy="3504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1843200" y="44503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 Жердің ауа қабаты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20px-Sunset_from_the_ISS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581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526400" y="46472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ның қырынан көрініс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http://upload.wikimedia.org/wikipedia/commons/c/c9/Atmospher.png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617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4041720" y="68508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Экзосфера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041360" y="22089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Терм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039200" y="441900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Мез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80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966120" y="51807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Страт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50-55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164480" y="5942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Троп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-11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534240" y="649044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Жердің қорғаныш қабығ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6840" y="2514600"/>
            <a:ext cx="935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ттегін шығарушы өсімдік болс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адамдар мен жануарл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Ал көміртегін шығарушы адам мен жануар бол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өсімді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jitov Nurken</cp:lastModifiedBy>
  <dcterms:modified xsi:type="dcterms:W3CDTF">2012-01-15T10:55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50500207f7000400038000</vt:lpwstr>
  </property>
  <property fmtid="{D5CDD505-2E9C-101B-9397-08002B2CF9AE}" pid="3" name="Version">
    <vt:r8>1</vt:r8>
  </property>
</Properties>
</file>