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A5AE-55F8-4B2E-8778-80D85FA0D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92E-7252-45BD-B8E7-118BE97F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BF9C09-F0F6-4976-B633-71D0801F9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6CBDFC-2510-40AB-84F6-704A46326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094514-ACBC-47A5-86F4-37B910D8F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8AE76-3364-45DB-8737-AC9E85F14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2F50B6-D4FE-4181-A619-E9A2F2BA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466045-37FE-47B3-8B5C-7D66A5BE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7F0148-50F0-4F5B-939C-BB9AAD0B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C192AB-06A0-4735-8483-0ABFFE7AC7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E94ED9-0F66-446A-93F1-1B6465A86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FE97C2-168B-4927-9D3B-E90187C29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41E-A6B7-49A7-9CA0-D7200D398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AFAD7-D1B4-4135-A4BF-3D718AAB4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B7BC03-275F-400D-BE60-CE1B894F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2F296-C6C1-4E56-8D01-CBD71951F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414F44-9EFB-4553-830A-FB2E7375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0F665C-66DB-4A6F-A12B-A983079D6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A353C1-5AF3-4945-BB4B-9AA64CDE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C463E5-79DF-4417-B020-4FE277F7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5F0E06-A696-4036-8797-0003BFA61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F4A415F-3399-42B1-9941-84F2A6CC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915BB5-DF01-4808-A3A5-DE9BF9126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2A97-14A5-4E10-BA0E-BBD5A5082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A69FD0-1732-4922-98CE-89508E950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858252-E40C-4B27-BF80-6824148FA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F607CF-D3EE-4A7B-A59E-D893A2155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8257D8-B43A-4D4B-81CE-6442B5AF7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A251F7-5A42-433B-B11D-C8FB03CC3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15B91-F72D-49A5-BEE9-1F41FD2DE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B11C2-9508-444A-89F8-CF5FAECB8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A57F1C-6686-4A5D-915F-CFA778BED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875ED5-E212-40B7-8C5F-A2FCF782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2E45E8B-724A-4460-A123-7C76D01F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16474-003F-4922-A333-0588FB67F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16443-066F-4E87-A306-A6FFF887B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4C436E-24E6-4A34-A446-DAC420D5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7EFDEF-48BD-47D5-BE7C-C90D97EB4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5753F5-1946-44D0-9F02-50836F2F1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15E9F7-E93C-4941-A8E2-BBE5EAEE9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EAC54A-58DC-4D7D-9CB1-FE8AD10BE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AEEF4F-F1A8-4C0A-A352-8A987E45F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00182A-DDF7-47E8-95A1-BA4373C4D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DC5D48-75F3-4762-B499-7E61E956F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C5DD56B-FA91-4649-9DC8-67D9976DE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54C3-C27C-4A13-88C0-3503B2667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A76E7-BB59-48BE-A5F7-F7EB73B74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4498BC-A6B4-45E8-A442-582EDE9EE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E41D59-6DDC-4505-9E13-F9D2DED9A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143A89-FD9D-469C-B89B-454615F1D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117468-17A6-4182-AD79-6DFC4CD5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A1F4A0C-F5C9-4A27-83F3-69352B12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FEE76E-FA34-4E32-AF60-A6849016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AB8DCA-E93C-4D6C-B6B9-2704D72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A5EC71-FAD8-4D6B-B120-90EEC3B0D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BCB7AE-7C70-40B5-9A21-3B4A2D1F9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2B52-6E12-419A-B17B-B9B023C02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789457C-58E8-4B5F-A722-AB7853460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52BBD6-F17E-4FB3-9853-87ECB5166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3F0621-6A9D-4D82-97FD-AFF6BC11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283B03-E7CA-4D40-B7A0-65B1E1440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0BC9EA-5AC0-4BEC-9AC4-7350D48B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88AB35-04B2-43AA-857B-41F5E201B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40485-F4C2-4F59-A912-D8CE299DD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BA56D-02C8-42D1-9D14-A52FF066B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90871-DD1C-48C4-83FD-DB62E6B7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27FCB-3FC0-44B8-B602-09787B0F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D0CE-80A5-4BE4-851B-268CBECB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1FD9-C974-4086-9CA6-6E4BF1F3F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67AB2-B76C-4FFC-BF79-5026365E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65C2C-6F95-4386-87EA-46B838D3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F9A42-F2E6-4153-B6AA-BBC17F1D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CEF2-97AD-4960-B7CC-91B52AF5B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7FEE4-D880-430D-8E54-B7C4A242D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75B05D-B231-4638-8E11-52A8662F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8CA64E-D16B-4D17-8A94-D4D760902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EE9AA-58E7-44D9-8875-B223B661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40591-95FC-45B1-90C6-4332D51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251B5-486F-4060-A951-950F836B3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12DD-BCBF-466B-8E16-F4E55E2C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3FFCC-7BE6-4683-A499-CAF70FC6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ECD578-2F11-4660-AA97-428B1915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A872D3-085A-4BC2-B268-01EAB2AC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211F44-E04A-4C8B-80AE-194582BA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1D24DD-BC3E-4208-A5C0-0D185D131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E64C4-F1FE-4117-86F4-1B3A34A41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FA8DC-AAE9-46D6-A12C-374BF6C95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C4BFC-4F91-43CB-9F07-EBAC840CC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F1E5D-579F-4EC3-AFFD-D21A1BB44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9A505D-19EE-4510-A458-8D90F4C6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EF05-5CE9-4A2C-AEA9-D7289356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230D5-81FA-4A6C-9428-5F65A03A4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F1553E-26E2-40BB-AB97-D7C576223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24DBB-B049-4E71-A5C5-0C3F8821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5D6DBF-B21B-42C1-9441-54E0B8E2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E54DB-A23E-4EC6-BA32-7A0342DD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236DD-4E3C-4BA2-B2FC-31AC03BF8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5F1522-D708-4F1A-AD8E-B1164D9D3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5BA7E9-4F04-448C-93A9-5D1F4D605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9E369-70A9-4718-A173-9B719C0F9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18E86-9087-4BBE-AC50-F56C400AE5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5C6D-AD30-41DF-811A-A755C6A1E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D71017-B325-4E09-854A-4EF3CF0C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9674-A8AC-4F39-B0C7-9F6BA1395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DFFA35-E857-440A-99C8-A664F58E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82AADA-1789-44E7-B476-0447DA25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B56D9C-B682-4987-A479-6047FB756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6B490C-30AB-45D6-B68E-96EE6B8EF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71EBD-22F8-42ED-A1F9-DC95E741B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7ACCB0-43F0-44F2-A44C-98A82370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45991-CBA5-4892-93A2-925F756E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A3B98-433B-477C-B78E-8B1856CC0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0A77-43C6-4A98-9C2F-E6DCE19D6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717A29-4AA9-43D7-B6F7-D47063059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FF8079-7C25-4A95-BFD6-7F48A226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6BB74-090D-42FE-A4C7-D094E661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7384C0-6081-45D9-9758-E0429E59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08CB4-EA6B-40CE-BEBC-5192AC0F1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F94DF-8114-494D-9D40-64B20E374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4AD90A-DBE1-4879-9F23-92A7732E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50F21E-4279-4AF1-BF57-1877AA47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92A1E2-2D51-41D5-A408-A46EAEFA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781E3D-2CC9-411B-9B26-24950F94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5779-5863-4B0B-BAE3-75BF542C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03041-6F2C-42D5-87AC-26BF3E223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EBC145-E462-42E7-A882-3047CDA9C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21EDD3-E80F-46FD-8AAE-B253F6CF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9BC25B-AE2D-4881-9399-56E08E1868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CAFA27-1DBB-4F75-B7AE-9242B0EF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191B1-BA8B-4C3C-80B8-1CEE85492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FBF8DE-5209-4FAB-B5C3-DB7F6852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CF593A-C2D5-4C20-A4DB-36691697B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0613E4-6294-4924-B894-719285DB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2FCB2-5B34-4AD6-B3D6-AAFEA70A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EA24-4F7B-483C-810D-AAD8F0841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15EE9B-BF33-4617-853E-5C02729DB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F01FA8-85F2-4C3C-B67D-05CF51FC4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7D1333-629F-4A70-A8E5-DA96C6E7E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F314F-8B5F-429A-8CE4-A9F8E7841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57BB4-C7FA-4389-8E8E-53224792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D87C9-F86F-4A61-A0DD-A2EAC17EA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B38DAE-4815-4264-9286-2E48D015A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FE3C0-F077-4D11-8457-4FC6D75F3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39E11-0FD8-458A-BB5F-9F5E7F429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560C37-645E-4B6C-9543-090337195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3A63-D851-44E0-B8BE-F0C933EE4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7A489-3D46-479E-87CF-B1493147A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3E8026-5D01-40D7-8424-CA39F556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FD1BBD-F25C-4C9A-93DD-86BED1510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2BEFF6-77AD-4F75-8D3D-3A2A41A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74370-DBC5-4CAD-89CB-F82C76388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1F87B8-EDD5-4971-B517-A31F6E4A8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26AFE-4CBB-4026-B83D-4A5E80EFC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D03FEB-81F5-4917-930E-877F4D09D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40AE2C-2106-47D2-B2CE-85281F7F3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5E7868-9C08-4A9A-829A-1628D0BA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2F281-9D9B-4244-950F-B037A0CEE0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CDE00-248C-4F62-80BF-09A31514B3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5837-EDBE-4ED8-BD18-8A1FA596780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D407-D1EE-4360-97F2-D2197E746E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5243-95FA-40B6-9A18-4E96BB1DA01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6B86-C69C-4FCD-B0FB-13A0BEAD862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4A4ED-356C-450F-A050-CC6EFE58D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3D115-D797-4309-9867-F9D4855161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0D097-5E4B-4AC0-A3B1-C05ECC90CE8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12696-D050-4978-ADEA-295E6794652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7BFC-BB1E-459C-8F5E-D7AF2C43B19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87E06-3E2D-414B-9635-5DD9F11883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687F-2DA8-4C19-8A7A-B75D30D594B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94920" y="1557360"/>
            <a:ext cx="8286840" cy="928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№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79 орта мектеб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539280" y="3068640"/>
            <a:ext cx="8286840" cy="2571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10 сынып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География пәнінің мұғалімі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0000"/>
                </a:solidFill>
                <a:latin typeface="Times New Roman"/>
              </a:rPr>
              <a:t>Марқабаева Қамар Марқабайқыз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89898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5" name="Picture 4" descr="GUESTAN"/>
          <p:cNvPicPr/>
          <p:nvPr/>
        </p:nvPicPr>
        <p:blipFill>
          <a:blip r:embed="rId1"/>
          <a:stretch/>
        </p:blipFill>
        <p:spPr>
          <a:xfrm>
            <a:off x="6588000" y="189000"/>
            <a:ext cx="2248200" cy="1727280"/>
          </a:xfrm>
          <a:prstGeom prst="rect">
            <a:avLst/>
          </a:prstGeom>
          <a:ln w="0">
            <a:noFill/>
          </a:ln>
        </p:spPr>
      </p:pic>
    </p:spTree>
  </p:cSld>
  <p:transition spd="med" advTm="1000">
    <p:diamond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Жалпы сөздік қоры-  </a:t>
            </a:r>
            <a:br>
              <a:rPr sz="3200"/>
            </a:b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Автомоби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бы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Өзен-кө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Әу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Контейнерлік көпірле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400" spc="-1" strike="noStrike">
                <a:solidFill>
                  <a:srgbClr val="000000"/>
                </a:solidFill>
                <a:latin typeface="Times New Roman"/>
              </a:rPr>
              <a:t>Құрғақ жү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ІІ-түрі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ңіз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еф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ейнерлік көпі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ұбыр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 асты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Географиялық диктан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214200" y="1213920"/>
            <a:ext cx="3929040" cy="56437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Д</a:t>
            </a: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ние жүзіндегі теміржолдың жалпы ұзындығы жөнінен қай мемлекет алда келеді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Теңіз жолының ежелден белгілі аудан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Шаруашылық саласыныың басты үшінші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Қазақстан әлемдік интернет  жүйесі қай жылдан бері тұрақты қосыл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Байланыс жүйесі өте күшті дамыған ел?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Дүние жүзіндегі ең ірі әуежайлар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Көліктің ең жаңа және қарқынды дамып келе жатқан түрі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Дүние жүзіндегі ең ірі мұнай құбырлар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.Қазақстандағы жолаушы және жүк тасымалының аса қарқынды салас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.Ірі кеме жүзетін каналдар  мен өзен жолдарына қандай  су жолы жатады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1" name=""/>
          <p:cNvGraphicFramePr/>
          <p:nvPr/>
        </p:nvGraphicFramePr>
        <p:xfrm>
          <a:off x="4429080" y="4286160"/>
          <a:ext cx="2397240" cy="365040"/>
        </p:xfrm>
        <a:graphic>
          <a:graphicData uri="http://schemas.openxmlformats.org/drawingml/2006/table">
            <a:tbl>
              <a:tblPr/>
              <a:tblGrid>
                <a:gridCol w="23972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2" name=""/>
          <p:cNvGraphicFramePr/>
          <p:nvPr/>
        </p:nvGraphicFramePr>
        <p:xfrm>
          <a:off x="4357800" y="1214280"/>
          <a:ext cx="3452760" cy="5143680"/>
        </p:xfrm>
        <a:graphic>
          <a:graphicData uri="http://schemas.openxmlformats.org/drawingml/2006/table">
            <a:tbl>
              <a:tblPr/>
              <a:tblGrid>
                <a:gridCol w="2500200"/>
                <a:gridCol w="952560"/>
              </a:tblGrid>
              <a:tr h="644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) Жағалық, Ұлы, Волга, Рейн-Майн-Дуна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ауаб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24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өлі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троу, Хане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тлант мұхи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ьюстон, Нью-Йор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9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Қ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93 жылы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міржол көлігі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91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Әуе көлігі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563" name="Picture 8" descr="WHICHB"/>
          <p:cNvPicPr/>
          <p:nvPr/>
        </p:nvPicPr>
        <p:blipFill>
          <a:blip r:embed="rId2"/>
          <a:stretch/>
        </p:blipFill>
        <p:spPr>
          <a:xfrm>
            <a:off x="7524720" y="5572080"/>
            <a:ext cx="161928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219240" y="227160"/>
            <a:ext cx="8353440" cy="84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Логикалық ойлау    </a:t>
            </a:r>
            <a:r>
              <a:rPr b="1" i="1" lang="kk-KZ" sz="2400" spc="-1" strike="noStrike">
                <a:solidFill>
                  <a:srgbClr val="000000"/>
                </a:solidFill>
                <a:latin typeface="Times New Roman"/>
              </a:rPr>
              <a:t>(сөзжұмбақ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"/>
          <p:cNvSpPr txBox="1"/>
          <p:nvPr/>
        </p:nvSpPr>
        <p:spPr>
          <a:xfrm>
            <a:off x="142560" y="1268280"/>
            <a:ext cx="3492360" cy="511344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уе көліг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рі кеме жүзетін су жолы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андай елдерде көлік қатынасы жоғары дамыған 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оғары жылдамдықтағы теміржол желісі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алықаралық маңызы бар ірі порт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ң ірі әуежайдың бірі Хитроу қай қалада орналасқан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әулігіне 140км өтетін бұғаз 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4 жылдан бері Қазақстан қандай әлемдік жүйеге қосылды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дық станц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ҚШ-тың аса ірі машина жасау компанияс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6" name=""/>
          <p:cNvGraphicFramePr/>
          <p:nvPr/>
        </p:nvGraphicFramePr>
        <p:xfrm>
          <a:off x="3786120" y="1000080"/>
          <a:ext cx="5072040" cy="5572080"/>
        </p:xfrm>
        <a:graphic>
          <a:graphicData uri="http://schemas.openxmlformats.org/drawingml/2006/table">
            <a:tbl>
              <a:tblPr/>
              <a:tblGrid>
                <a:gridCol w="338040"/>
                <a:gridCol w="33840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  <a:gridCol w="338040"/>
                <a:gridCol w="338400"/>
                <a:gridCol w="338040"/>
                <a:gridCol w="338040"/>
              </a:tblGrid>
              <a:tr h="557280">
                <a:tc gridSpan="7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5572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1872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6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57280"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56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e9edf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gridSpan="7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67" name="TextBox 4"/>
          <p:cNvSpPr/>
          <p:nvPr/>
        </p:nvSpPr>
        <p:spPr>
          <a:xfrm>
            <a:off x="6500880" y="6000840"/>
            <a:ext cx="35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8" name=""/>
          <p:cNvGraphicFramePr/>
          <p:nvPr/>
        </p:nvGraphicFramePr>
        <p:xfrm>
          <a:off x="6500880" y="6072120"/>
          <a:ext cx="357120" cy="487440"/>
        </p:xfrm>
        <a:graphic>
          <a:graphicData uri="http://schemas.openxmlformats.org/drawingml/2006/table">
            <a:tbl>
              <a:tblPr/>
              <a:tblGrid>
                <a:gridCol w="357120"/>
              </a:tblGrid>
              <a:tr h="48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9" name="Picture 4" descr="52"/>
          <p:cNvPicPr/>
          <p:nvPr/>
        </p:nvPicPr>
        <p:blipFill>
          <a:blip r:embed="rId2"/>
          <a:stretch/>
        </p:blipFill>
        <p:spPr>
          <a:xfrm>
            <a:off x="0" y="-747720"/>
            <a:ext cx="1463760" cy="18003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а) жүгір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ә) ауыр атлети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б) ұзындыққа секір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в) күре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Жүгір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ім бірінші болып белгілі бір тақырып бойынша 10 сөз жазад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Ауыр атлет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ауыр сөзді жазады, ең көп әріптен тұратын сө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Ұзындыққа секір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м ең ұзын сөйлемді бірінші жазады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үре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р оқушы бір – біріне сұрақтар қояд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bf1de"/>
          </a:solidFill>
          <a:ln w="9360">
            <a:solidFill>
              <a:srgbClr val="fcd5b5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.... – гидросфераны танкерлер мен мыңдаған шаршы жерлерді қатерсіз (мұнай) ластайды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000000"/>
                </a:solidFill>
                <a:latin typeface="Times New Roman"/>
              </a:rPr>
              <a:t>Атмосфераны басты ластаушы  ................ көлігі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AutoShape 4"/>
          <p:cNvSpPr/>
          <p:nvPr/>
        </p:nvSpPr>
        <p:spPr>
          <a:xfrm>
            <a:off x="2195640" y="2924280"/>
            <a:ext cx="2952720" cy="3025800"/>
          </a:xfrm>
          <a:prstGeom prst="hexagon">
            <a:avLst>
              <a:gd name="adj" fmla="val 25000"/>
              <a:gd name="vf" fmla="val 115470"/>
            </a:avLst>
          </a:prstGeom>
          <a:solidFill>
            <a:srgbClr val="a6a6a6"/>
          </a:solidFill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5"/>
          <p:cNvSpPr/>
          <p:nvPr/>
        </p:nvSpPr>
        <p:spPr>
          <a:xfrm>
            <a:off x="2050920" y="3213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6"/>
          <p:cNvSpPr/>
          <p:nvPr/>
        </p:nvSpPr>
        <p:spPr>
          <a:xfrm>
            <a:off x="2050920" y="350028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7"/>
          <p:cNvSpPr/>
          <p:nvPr/>
        </p:nvSpPr>
        <p:spPr>
          <a:xfrm>
            <a:off x="2700360" y="321300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3276720" y="3213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9"/>
          <p:cNvSpPr/>
          <p:nvPr/>
        </p:nvSpPr>
        <p:spPr>
          <a:xfrm>
            <a:off x="3276720" y="3357720"/>
            <a:ext cx="142920" cy="142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0"/>
          <p:cNvSpPr/>
          <p:nvPr/>
        </p:nvSpPr>
        <p:spPr>
          <a:xfrm>
            <a:off x="3708360" y="3213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1"/>
          <p:cNvSpPr/>
          <p:nvPr/>
        </p:nvSpPr>
        <p:spPr>
          <a:xfrm>
            <a:off x="370836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"/>
          <p:cNvSpPr/>
          <p:nvPr/>
        </p:nvSpPr>
        <p:spPr>
          <a:xfrm>
            <a:off x="370836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3"/>
          <p:cNvSpPr/>
          <p:nvPr/>
        </p:nvSpPr>
        <p:spPr>
          <a:xfrm flipH="1">
            <a:off x="4284360" y="3213000"/>
            <a:ext cx="14292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4"/>
          <p:cNvSpPr/>
          <p:nvPr/>
        </p:nvSpPr>
        <p:spPr>
          <a:xfrm>
            <a:off x="5003640" y="3213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15"/>
          <p:cNvSpPr/>
          <p:nvPr/>
        </p:nvSpPr>
        <p:spPr>
          <a:xfrm>
            <a:off x="4643280" y="3141720"/>
            <a:ext cx="1447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16"/>
          <p:cNvSpPr/>
          <p:nvPr/>
        </p:nvSpPr>
        <p:spPr>
          <a:xfrm>
            <a:off x="5580000" y="3141720"/>
            <a:ext cx="1443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7"/>
          <p:cNvSpPr/>
          <p:nvPr/>
        </p:nvSpPr>
        <p:spPr>
          <a:xfrm>
            <a:off x="1835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8"/>
          <p:cNvSpPr/>
          <p:nvPr/>
        </p:nvSpPr>
        <p:spPr>
          <a:xfrm>
            <a:off x="183528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9"/>
          <p:cNvSpPr/>
          <p:nvPr/>
        </p:nvSpPr>
        <p:spPr>
          <a:xfrm>
            <a:off x="1835280" y="465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20"/>
          <p:cNvSpPr/>
          <p:nvPr/>
        </p:nvSpPr>
        <p:spPr>
          <a:xfrm>
            <a:off x="234000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21"/>
          <p:cNvSpPr/>
          <p:nvPr/>
        </p:nvSpPr>
        <p:spPr>
          <a:xfrm>
            <a:off x="255600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22"/>
          <p:cNvSpPr/>
          <p:nvPr/>
        </p:nvSpPr>
        <p:spPr>
          <a:xfrm flipH="1">
            <a:off x="234000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23"/>
          <p:cNvSpPr/>
          <p:nvPr/>
        </p:nvSpPr>
        <p:spPr>
          <a:xfrm flipH="1">
            <a:off x="234000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24"/>
          <p:cNvSpPr/>
          <p:nvPr/>
        </p:nvSpPr>
        <p:spPr>
          <a:xfrm>
            <a:off x="2843280" y="4508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25"/>
          <p:cNvSpPr/>
          <p:nvPr/>
        </p:nvSpPr>
        <p:spPr>
          <a:xfrm>
            <a:off x="341964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26"/>
          <p:cNvSpPr/>
          <p:nvPr/>
        </p:nvSpPr>
        <p:spPr>
          <a:xfrm>
            <a:off x="3419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27"/>
          <p:cNvSpPr/>
          <p:nvPr/>
        </p:nvSpPr>
        <p:spPr>
          <a:xfrm>
            <a:off x="3924360" y="450864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28"/>
          <p:cNvSpPr/>
          <p:nvPr/>
        </p:nvSpPr>
        <p:spPr>
          <a:xfrm flipV="1">
            <a:off x="4067280" y="4508280"/>
            <a:ext cx="14436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29"/>
          <p:cNvSpPr/>
          <p:nvPr/>
        </p:nvSpPr>
        <p:spPr>
          <a:xfrm>
            <a:off x="4500720" y="450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30"/>
          <p:cNvSpPr/>
          <p:nvPr/>
        </p:nvSpPr>
        <p:spPr>
          <a:xfrm>
            <a:off x="450072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31"/>
          <p:cNvSpPr/>
          <p:nvPr/>
        </p:nvSpPr>
        <p:spPr>
          <a:xfrm>
            <a:off x="5076720" y="4508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32"/>
          <p:cNvSpPr/>
          <p:nvPr/>
        </p:nvSpPr>
        <p:spPr>
          <a:xfrm>
            <a:off x="5076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33"/>
          <p:cNvSpPr/>
          <p:nvPr/>
        </p:nvSpPr>
        <p:spPr>
          <a:xfrm>
            <a:off x="5364000" y="479736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34"/>
          <p:cNvSpPr/>
          <p:nvPr/>
        </p:nvSpPr>
        <p:spPr>
          <a:xfrm flipH="1">
            <a:off x="5076720" y="4941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35"/>
          <p:cNvSpPr/>
          <p:nvPr/>
        </p:nvSpPr>
        <p:spPr>
          <a:xfrm>
            <a:off x="5651640" y="4508640"/>
            <a:ext cx="21564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36"/>
          <p:cNvSpPr/>
          <p:nvPr/>
        </p:nvSpPr>
        <p:spPr>
          <a:xfrm>
            <a:off x="5867280" y="4437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37"/>
          <p:cNvSpPr/>
          <p:nvPr/>
        </p:nvSpPr>
        <p:spPr>
          <a:xfrm flipH="1">
            <a:off x="6156360" y="4508640"/>
            <a:ext cx="216000" cy="43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38"/>
          <p:cNvSpPr/>
          <p:nvPr/>
        </p:nvSpPr>
        <p:spPr>
          <a:xfrm>
            <a:off x="6732720" y="479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39"/>
          <p:cNvSpPr/>
          <p:nvPr/>
        </p:nvSpPr>
        <p:spPr>
          <a:xfrm>
            <a:off x="7020000" y="479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40"/>
          <p:cNvSpPr/>
          <p:nvPr/>
        </p:nvSpPr>
        <p:spPr>
          <a:xfrm flipH="1">
            <a:off x="6732720" y="501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4" descr="52"/>
          <p:cNvPicPr/>
          <p:nvPr/>
        </p:nvPicPr>
        <p:blipFill>
          <a:blip r:embed="rId1"/>
          <a:stretch/>
        </p:blipFill>
        <p:spPr>
          <a:xfrm>
            <a:off x="0" y="4626000"/>
            <a:ext cx="1655640" cy="22320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тақырыбы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263520" y="1844280"/>
            <a:ext cx="738648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</a:rPr>
              <a:t>Көлік және байланыс” географиясы тақырыбын қайталау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Times New Roman"/>
              </a:rPr>
              <a:t>Бағалау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263520" y="1143000"/>
            <a:ext cx="7386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ПМ-матрица посадочных мес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1-әр оқушының  таңбасы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// - жоқ оқушының белгісі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2" name=""/>
          <p:cNvGraphicFramePr/>
          <p:nvPr/>
        </p:nvGraphicFramePr>
        <p:xfrm>
          <a:off x="785880" y="1785960"/>
          <a:ext cx="6095880" cy="1854000"/>
        </p:xfrm>
        <a:graphic>
          <a:graphicData uri="http://schemas.openxmlformats.org/drawingml/2006/table">
            <a:tbl>
              <a:tblPr/>
              <a:tblGrid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Ж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Үйге тапсырм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</a:t>
            </a: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қайта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Назар қойып тыңдағандарыңызға рахмет</a:t>
            </a:r>
            <a:r>
              <a:rPr b="1" i="1" lang="kk-KZ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kk-KZ" sz="3600" spc="-1" strike="noStrike">
                <a:solidFill>
                  <a:srgbClr val="000000"/>
                </a:solidFill>
                <a:latin typeface="Times New Roman"/>
              </a:rPr>
              <a:t>Бірде – бір ұстаз өзінің ең маңызды міндеті – тәрбиеленушілерді ақыл – ой еңбегіне үйретуден тұратынын және бұл міндеттің пәннің өзін айтып жеткізуге қарағанда анағұрлым маңызды екенін ұмытуға тиіс емес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.Д.Ушински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7" name="Picture 4" descr="GUESTAN"/>
          <p:cNvPicPr/>
          <p:nvPr/>
        </p:nvPicPr>
        <p:blipFill>
          <a:blip r:embed="rId1"/>
          <a:stretch/>
        </p:blipFill>
        <p:spPr>
          <a:xfrm>
            <a:off x="539640" y="5445000"/>
            <a:ext cx="1779840" cy="17272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абақтың мақсаты:</a:t>
            </a:r>
            <a:r>
              <a:rPr b="0" lang="kk-KZ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ілімділік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 дүниежүзіндегі көліктің даму сипаты мен байланыс құралдары жайында білімдерін жинақтау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әрбиелік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 оқушыларды танымдық – эстетикалық әрекеттерге тәрбиеле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Дамытушылық</a:t>
            </a: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: оқушылардың өткен білімдеріне сүйене отырып, жылдам ойлау дағдысын қалыптастыру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</a:t>
            </a:r>
            <a:r>
              <a:rPr b="1" lang="kk-KZ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қтың бөлімі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Жалпы сөздік қоры (жаңа сөздер бойынш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Географиялық диктан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Логикалық ойла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Спорт жарыс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Құпия сөзді шеш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Жылдам жаттығ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) сұрақт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б) сызба нұсқа бойынша жұмыс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в) картамен жұмыс  жасау</a:t>
            </a:r>
            <a:r>
              <a:rPr b="0" lang="kk-K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000000"/>
                </a:solidFill>
                <a:latin typeface="Times New Roman"/>
              </a:rPr>
              <a:t>Сұрақтар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жүйесі дегеніміз не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ең тараған қандай байланыс құралдарын білесіңдер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Теміржол желілерінің жиілігі нені көрсетеді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Көлік түрлерінің ең ежелгі және ең жаңа түрлерін атаңдар?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6" name="Picture 8" descr="WHICHB"/>
          <p:cNvPicPr/>
          <p:nvPr/>
        </p:nvPicPr>
        <p:blipFill>
          <a:blip r:embed="rId1"/>
          <a:stretch/>
        </p:blipFill>
        <p:spPr>
          <a:xfrm>
            <a:off x="6804000" y="5373720"/>
            <a:ext cx="2000160" cy="1285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7" name=""/>
          <p:cNvGraphicFramePr/>
          <p:nvPr/>
        </p:nvGraphicFramePr>
        <p:xfrm>
          <a:off x="611280" y="2286000"/>
          <a:ext cx="6889680" cy="2855880"/>
        </p:xfrm>
        <a:graphic>
          <a:graphicData uri="http://schemas.openxmlformats.org/drawingml/2006/table">
            <a:tbl>
              <a:tblPr/>
              <a:tblGrid>
                <a:gridCol w="1339920"/>
                <a:gridCol w="1339560"/>
                <a:gridCol w="995400"/>
                <a:gridCol w="1239840"/>
                <a:gridCol w="19749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налды</a:t>
                      </a: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ң ат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реңдігі,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ні,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Ұзынды-ғы, км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рн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0-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-3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4-2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Сызба нұсқ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еме жүзетін ірі каналда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diamond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000000"/>
                </a:solidFill>
                <a:latin typeface="Times New Roman"/>
              </a:rPr>
              <a:t>Елдердің телефонмен қамтамасыз етілуі (1000 адамға шаққанд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2" name=""/>
          <p:cNvGraphicFramePr/>
          <p:nvPr/>
        </p:nvGraphicFramePr>
        <p:xfrm>
          <a:off x="571680" y="1714680"/>
          <a:ext cx="7000560" cy="3663720"/>
        </p:xfrm>
        <a:graphic>
          <a:graphicData uri="http://schemas.openxmlformats.org/drawingml/2006/table">
            <a:tbl>
              <a:tblPr/>
              <a:tblGrid>
                <a:gridCol w="2333520"/>
                <a:gridCol w="2333520"/>
                <a:gridCol w="23335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жоғары көрсеткіш (600-ден артық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Орташа көрсеткіш (200-3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k-KZ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ң төменгі көрсеткіш (10-нан төмен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рландия -2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твия-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рея Республикасы -2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гария -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4400" spc="-1" strike="noStrike">
                <a:solidFill>
                  <a:srgbClr val="000000"/>
                </a:solidFill>
                <a:latin typeface="Times New Roman"/>
              </a:rPr>
              <a:t>Картамен жұмыс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4" name="Picture 3" descr=""/>
          <p:cNvPicPr/>
          <p:nvPr/>
        </p:nvPicPr>
        <p:blipFill>
          <a:blip r:embed="rId1"/>
          <a:stretch/>
        </p:blipFill>
        <p:spPr>
          <a:xfrm>
            <a:off x="500040" y="1214280"/>
            <a:ext cx="7929720" cy="5353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4T08:04:02Z</dcterms:created>
  <dc:creator>Zavuch</dc:creator>
  <dc:description/>
  <dc:language>en-US</dc:language>
  <cp:lastModifiedBy>User</cp:lastModifiedBy>
  <dcterms:modified xsi:type="dcterms:W3CDTF">2010-03-21T17:29:50Z</dcterms:modified>
  <cp:revision>25</cp:revision>
  <dc:subject/>
  <dc:title>№79 орта мектеп</dc:title>
</cp:coreProperties>
</file>