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162-EA8C-4DAA-968D-CF47B260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271-2AB1-41C5-BD0B-C05E1149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0966C-882F-47AF-940C-81CC7CBC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B3023-6137-40D8-AFE7-DB40E904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98718-4FE5-45A4-9CE2-7C92C53C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E1448-86A3-4997-BE02-98EB2DF4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68565-8F45-4B67-9804-DB344EB8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0C50B-D3ED-4A5F-AA88-C9ABC947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898E2-617E-4CC0-B1B4-0F712E02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1226C-1036-416E-BA85-29E90CBB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ED502-6623-46BE-B346-B4F2957C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75B5D-C118-4656-B678-AF30A15B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06C-29C1-41E0-803F-47CAAB4D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2EC84-0767-4B44-9E08-CCAC1E94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20716-5B32-474E-8B00-D4BAE547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E1051-33FF-4DCE-9D5B-B7CD3D3D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854F4-EFB2-46C8-805E-0A952681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DA7A0-A92C-4066-A07D-2A23CF80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074AD-0B07-47DB-8D0D-2E422DA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9A90C-303E-4C1B-84A3-30332C2D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77B3E-A385-4815-8635-DA88D726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72BE8-A760-4B37-8C49-37AA768F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561A7-A0B2-4979-B659-DE97F557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A07-30B0-4DD1-A5F5-ADFA7ADA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3E0B7-6140-468F-98CE-5CCD3036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0E683-4F65-4F53-9EAB-D9146772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C6D65-4DDA-4758-8969-A12D6742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CCBDB-9498-4241-8B04-7D373715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557AE-3377-4387-B053-01DE5C3E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67781-B6E0-4292-988C-2FE7A260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0A7B5-60B3-4E35-8E1D-F0D5DDD5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E43CD-BD48-46D5-8243-EBD1CAB1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085FB-D29C-4359-B28D-FEF6FD06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0B29C-E53F-4527-AC8E-DD216774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4891-2F53-481E-9BC3-1374A791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F0E77-457A-4C13-985A-10A6175B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48B75-F46B-41D8-B766-0291B1CE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1A7E7-0543-42F5-AFD3-85095B22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45928-9756-4DF7-AA73-D7F4ED2C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3C8BF-6A0D-467D-9E5F-3F09B631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A272F-C826-42BB-BDE1-543707BC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448BF-48EC-453E-ABEA-F053796C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A7E9D-9748-4474-B425-5D991FD4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12805-1DB1-4312-B95A-B83BD55D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F530D-8FE6-4D87-8946-0BE1DD49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1BF0-4AB1-41C1-A7CF-0CF67003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88C57-F82E-4144-910E-18C64EF1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62A7F-E712-4121-BC95-A61B5A8B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B0C57-1066-4339-89BF-5E85B98A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7304C-BF5A-4373-BF08-06C28534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10D77-8604-4BDD-B3C8-6E792F8B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67C06-747E-41F5-8F57-AF92A5BC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404DA-CEB9-4A52-BCA0-5C3E16EA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0CA91-B0F8-411A-8C13-F9C61885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C833C-3971-46FB-964D-90C5EA67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392ED-3912-4737-98B1-F85722EF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2CB5-AA7A-497D-B134-C8F02464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06E1F-800D-4B28-B4A4-7B8B8BB6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451B4-6ECD-4DA5-8157-AD3BB2AE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C8338-C022-409C-A404-7EA3070A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B43E4-AF7A-4503-B001-56F1051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9FD91-4536-42D4-A55F-54BFFAB9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89342-8476-4776-BDCE-96755039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D67FC-33E0-4A60-9B8E-DE0A7C2B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30D2-E3D9-425D-878A-C84F13AF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F128-3269-498C-BE0D-7393B995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31AE-B856-4A75-946A-87606B11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150E-2FBF-450C-8E67-8317AB48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06A-5381-491C-BE19-55D5AAE6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1CB3-928A-433F-82D6-E02B314F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F7B4-0D2F-4B33-AF5C-75694C38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CDD1-1F75-4A04-A356-E905E3AF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1DA9-7D60-421D-9A4E-F2922664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892E-4CE8-435B-A370-3EBFEE2D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C25E-E5DA-4856-912E-EF65C36C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CE0E-DDA2-48DB-BF15-EFC54632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F9BF6-7D14-4168-9973-0091785F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9F36-4E64-4270-91C0-D526E87C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A58B6-D90A-4A3A-B7EA-3F33589A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BAA-0FB5-4F8C-B1EF-D5BA2D18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4C7E-C46B-4DD7-87AB-2D4199A9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7A62-A6EA-4C49-BCB1-A31E450A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E505-2192-4751-AE90-32649F91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F2C8B-6977-4C15-A581-7E4142B8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12AC8-6BE2-4BF0-9541-A43CC463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1C94A-700D-4620-8B44-D64FDA32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20AA-6CD3-49FB-97EF-D25ADBA8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3D30A-91D9-4572-93F8-F28EF711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D4EA3-A2E6-4A95-83C9-55959916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50F52-C913-4A68-8C12-5F155400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963-574F-4292-82BF-BC12B09A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FC0AE-70B3-4900-9E13-F8439EA2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CF62-35E6-4313-BCD2-CAFE4B3E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688BD-844E-4FDC-B834-D64471D9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86F57-5043-4EEC-B023-EA343013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8DDB7-E15B-4BC5-B3AD-DFBC28CA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5ED2A-E262-46AE-85C8-3F43587A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FACFD-BF95-4472-AFC6-B73FF5D7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D658-7355-48B6-8622-AB96421F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A1F33-3C53-435D-8678-972CCBD8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8C7D1-1222-47B7-AD6D-FC1CED55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253-BF98-4485-99BB-AEA01A61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0BAB9-B906-4005-9A34-58326F09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ACBB3-4002-4575-9E44-C6C613E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166FE-1F0B-4AA1-82E9-590F969D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80EDA-5B3F-41B3-9993-59467D39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B2F9C-778B-42CA-AD7F-A399C7F3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45868-7421-4EEA-96B6-86ECD6F6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738AB-6C99-4C30-9C4C-52A0A42F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E6D4D-B906-46A9-BB4B-C08ECDC3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BE094-626F-4389-8AB9-B7F4BF79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BFC4A-6642-428A-93DF-89C6143D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CDF-3423-4E05-BFE1-42FDE0B3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F6064-FF12-4A5B-A07A-6F1311FB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65BF5-D9DD-4DBE-B110-971BEAE5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67339-5B93-488A-98C4-7482B04A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4EEC4-648E-4679-9AFF-3B25631E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26535-847A-4144-8319-DF2A85B3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A03DD-B529-4023-BCAE-ACC2C44B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3AD33-38AF-4BDC-89B0-F3D64747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B3DF6-AC7A-4415-BE83-B04E162C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DAB06-AB31-4C5B-86D4-E1DBBCD2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D1188-58F4-45A9-A819-EFAF4682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D96-1AE6-41EA-99B3-8FD9F34D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4E910-14D4-44C5-B6BE-CCE5B25D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5C028-F63F-4F74-B267-F2751BDC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E721B-3334-4183-82BA-5FD39942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1A2D3-A354-4170-9776-A9BB5328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AC53F-9B91-407B-88AE-9E1D7AFA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031AC-80FB-44EC-9921-22DD16AE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395DE-3491-4145-B01A-CFB2430C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9D888-C746-4A94-9328-58FC5D30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7B89E-70E7-40B5-B407-1761D0B4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5A207-F339-4383-8FC5-956774B1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7FE-5808-4732-B688-24A25269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006A6-2C6B-449B-9881-5C240DD2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6F236-A9FC-4470-8AAB-196B6AEC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B17B8-DA7B-47CC-9413-A1674356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D89EF-AEA9-4589-8D44-91B01ADB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6A683-B729-4F08-A749-394B388D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B68C5-8DAF-4EDB-9408-20BAC59F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5F2AA-1179-4AE4-AEFB-4F22ABA4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EEF95-F8EC-4EC6-A2E8-FCF781F5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16E6C-9B4A-4150-AFEC-50895144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65229-000C-4842-B1FC-99B22092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5AB-F497-4252-9F13-645E426A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DDD99-1984-4010-A366-BAAC293A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CCD0E-4068-43A9-9B0F-CFF63ED2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49F02-C9B3-4CD3-BBCF-611E1C92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30808-977A-4E3C-9096-4CD3E328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7AADC-DD54-4018-B19B-5C61D1A5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EFF46-3EFE-4813-B138-A1561118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9A215-6A51-4E3A-B18F-8876A24E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7AC5F-0244-432F-A7DE-FD586F4E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DF458-2A38-4F61-8E98-F9FB1022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A127E-9FC2-4764-88B1-2F97EB4E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97FC-752B-43CD-8A88-F7941160D3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A047-D244-42FA-A1F8-2B5F966D9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5511-1CEF-4212-A658-ED81FF38CE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9F40-10D1-46E6-BB86-D9BA60FCE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E975-45A2-4AA2-9F0A-12A5E78C6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588D-13FB-4B06-A664-0F4923058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8B42-4B6A-49BE-B65F-12A03C10C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E2A4-6BB6-49C2-8A7F-1BD6701575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8D7D-8499-4745-A5DE-BE3B8B9589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4A55-E56D-4259-A823-F24A988AC7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D290-45FD-4CA0-B497-9C87661C95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AB36-0583-42A1-A3C7-D6EBEC45CB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8156-B620-4573-AC4A-9D0E35129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79 орта мектеб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539280" y="306864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10 сыны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Марқабаева Қамар Марқабайқыз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4" descr="GUESTAN"/>
          <p:cNvPicPr/>
          <p:nvPr/>
        </p:nvPicPr>
        <p:blipFill>
          <a:blip r:embed="rId1"/>
          <a:stretch/>
        </p:blipFill>
        <p:spPr>
          <a:xfrm>
            <a:off x="6588000" y="189000"/>
            <a:ext cx="2248200" cy="17272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Жалпы сөздік қоры-  </a:t>
            </a:r>
            <a:br>
              <a:rPr sz="3200"/>
            </a:b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Автомоб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бы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Өзен-к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Әу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Контейнерлік көпір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рғақ жү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ІІ-түр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йнерлік көпі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ұбы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4200" y="1213920"/>
            <a:ext cx="3929040" cy="564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ние жүзіндегі теміржолдың жалпы ұзындығы жөнінен қай мемлекет алда келеді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еңіз жолының ежелден белгілі аудан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Шаруашылық саласыныың басты үшінші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Қазақстан әлемдік интернет  жүйесі қай жылдан бері тұрақты қосыл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айланыс жүйесі өте күшті дамыған ел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үние жүзіндегі ең ірі әуежайлар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өліктің ең жаңа және қарқынды дамып келе жатқан түрі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Дүние жүзіндегі ең ірі мұнай құбырлар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Қазақстандағы жолаушы және жүк тасымалының аса қарқынды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Ірі кеме жүзетін каналдар  мен өзен жолдарына қандай  су жолы жата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4429080" y="4286160"/>
          <a:ext cx="2397240" cy="365040"/>
        </p:xfrm>
        <a:graphic>
          <a:graphicData uri="http://schemas.openxmlformats.org/drawingml/2006/table">
            <a:tbl>
              <a:tblPr/>
              <a:tblGrid>
                <a:gridCol w="2397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357800" y="1214280"/>
          <a:ext cx="3452760" cy="5143680"/>
        </p:xfrm>
        <a:graphic>
          <a:graphicData uri="http://schemas.openxmlformats.org/drawingml/2006/table">
            <a:tbl>
              <a:tblPr/>
              <a:tblGrid>
                <a:gridCol w="2500200"/>
                <a:gridCol w="95256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Жағалық, Ұлы, Волга, Рейн-Майн-Дун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ауа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өл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троу, Хан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нт мұх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ьюстон, Нью-Йор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жыл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іржол көліг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уе көліг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63" name="Picture 8" descr="WHICHB"/>
          <p:cNvPicPr/>
          <p:nvPr/>
        </p:nvPicPr>
        <p:blipFill>
          <a:blip r:embed="rId2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83534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Логикалық ойлау    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(сөзжұмба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42560" y="1268280"/>
            <a:ext cx="3492360" cy="511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уе көліг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рі кеме жүзетін су жол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ндай елдерде көлік қатынасы жоғары дамыған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ғары жылдамдықтағы теміржол желіс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ықаралық маңызы бар ірі по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ң ірі әуежайдың бірі Хитроу қай қалада орналасқа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улігіне 140км өтетін бұғаз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 жылдан бері Қазақстан қандай әлемдік жүйеге қосыл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дық стан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ҚШ-тың аса ірі машина жасау компанияс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786120" y="1000080"/>
          <a:ext cx="5072040" cy="5572080"/>
        </p:xfrm>
        <a:graphic>
          <a:graphicData uri="http://schemas.openxmlformats.org/drawingml/2006/table">
            <a:tbl>
              <a:tblPr/>
              <a:tblGrid>
                <a:gridCol w="338040"/>
                <a:gridCol w="33840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</a:tblGrid>
              <a:tr h="557280">
                <a:tc gridSpan="7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557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6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TextBox 4"/>
          <p:cNvSpPr/>
          <p:nvPr/>
        </p:nvSpPr>
        <p:spPr>
          <a:xfrm>
            <a:off x="6500880" y="6000840"/>
            <a:ext cx="35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6500880" y="6072120"/>
          <a:ext cx="357120" cy="487440"/>
        </p:xfrm>
        <a:graphic>
          <a:graphicData uri="http://schemas.openxmlformats.org/drawingml/2006/table">
            <a:tbl>
              <a:tblPr/>
              <a:tblGrid>
                <a:gridCol w="35712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9" name="Picture 4" descr="52"/>
          <p:cNvPicPr/>
          <p:nvPr/>
        </p:nvPicPr>
        <p:blipFill>
          <a:blip r:embed="rId2"/>
          <a:stretch/>
        </p:blipFill>
        <p:spPr>
          <a:xfrm>
            <a:off x="0" y="-747720"/>
            <a:ext cx="1463760" cy="1800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жүгі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 ауыр атле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ұзындыққа секі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в) күре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Жүгір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ім бірінші болып белгілі бір тақырып бойынша 10 сөз жаз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Ауыр атл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ауыр сөзді жазады, ең көп әріптен тұратын сө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Ұзындыққа секі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ұзын сөйлемді бірінші жаза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үре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р оқушы бір – біріне сұрақтар қоя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9360">
            <a:solidFill>
              <a:srgbClr val="fcd5b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.... – гидросфераны танкерлер мен мыңдаған шаршы жерлерді қатерсіз (мұнай) ластай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тмосфераны басты ластаушы  ................ көліг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2195640" y="2924280"/>
            <a:ext cx="2952720" cy="3025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6a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"/>
          <p:cNvSpPr/>
          <p:nvPr/>
        </p:nvSpPr>
        <p:spPr>
          <a:xfrm>
            <a:off x="205092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6"/>
          <p:cNvSpPr/>
          <p:nvPr/>
        </p:nvSpPr>
        <p:spPr>
          <a:xfrm>
            <a:off x="205092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7"/>
          <p:cNvSpPr/>
          <p:nvPr/>
        </p:nvSpPr>
        <p:spPr>
          <a:xfrm>
            <a:off x="2700360" y="3213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8"/>
          <p:cNvSpPr/>
          <p:nvPr/>
        </p:nvSpPr>
        <p:spPr>
          <a:xfrm>
            <a:off x="327672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9"/>
          <p:cNvSpPr/>
          <p:nvPr/>
        </p:nvSpPr>
        <p:spPr>
          <a:xfrm>
            <a:off x="3276720" y="335772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"/>
          <p:cNvSpPr/>
          <p:nvPr/>
        </p:nvSpPr>
        <p:spPr>
          <a:xfrm>
            <a:off x="37083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1"/>
          <p:cNvSpPr/>
          <p:nvPr/>
        </p:nvSpPr>
        <p:spPr>
          <a:xfrm>
            <a:off x="370836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>
            <a:off x="3708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3"/>
          <p:cNvSpPr/>
          <p:nvPr/>
        </p:nvSpPr>
        <p:spPr>
          <a:xfrm flipH="1">
            <a:off x="4284360" y="3213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"/>
          <p:cNvSpPr/>
          <p:nvPr/>
        </p:nvSpPr>
        <p:spPr>
          <a:xfrm>
            <a:off x="500364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5"/>
          <p:cNvSpPr/>
          <p:nvPr/>
        </p:nvSpPr>
        <p:spPr>
          <a:xfrm>
            <a:off x="4643280" y="3141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6"/>
          <p:cNvSpPr/>
          <p:nvPr/>
        </p:nvSpPr>
        <p:spPr>
          <a:xfrm>
            <a:off x="5580000" y="31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7"/>
          <p:cNvSpPr/>
          <p:nvPr/>
        </p:nvSpPr>
        <p:spPr>
          <a:xfrm>
            <a:off x="1835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8"/>
          <p:cNvSpPr/>
          <p:nvPr/>
        </p:nvSpPr>
        <p:spPr>
          <a:xfrm>
            <a:off x="183528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9"/>
          <p:cNvSpPr/>
          <p:nvPr/>
        </p:nvSpPr>
        <p:spPr>
          <a:xfrm>
            <a:off x="183528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0"/>
          <p:cNvSpPr/>
          <p:nvPr/>
        </p:nvSpPr>
        <p:spPr>
          <a:xfrm>
            <a:off x="2340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1"/>
          <p:cNvSpPr/>
          <p:nvPr/>
        </p:nvSpPr>
        <p:spPr>
          <a:xfrm>
            <a:off x="255600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2"/>
          <p:cNvSpPr/>
          <p:nvPr/>
        </p:nvSpPr>
        <p:spPr>
          <a:xfrm flipH="1">
            <a:off x="2340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3"/>
          <p:cNvSpPr/>
          <p:nvPr/>
        </p:nvSpPr>
        <p:spPr>
          <a:xfrm flipH="1">
            <a:off x="234000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4"/>
          <p:cNvSpPr/>
          <p:nvPr/>
        </p:nvSpPr>
        <p:spPr>
          <a:xfrm>
            <a:off x="284328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5"/>
          <p:cNvSpPr/>
          <p:nvPr/>
        </p:nvSpPr>
        <p:spPr>
          <a:xfrm>
            <a:off x="341964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6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7"/>
          <p:cNvSpPr/>
          <p:nvPr/>
        </p:nvSpPr>
        <p:spPr>
          <a:xfrm>
            <a:off x="3924360" y="450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8"/>
          <p:cNvSpPr/>
          <p:nvPr/>
        </p:nvSpPr>
        <p:spPr>
          <a:xfrm flipV="1">
            <a:off x="4067280" y="4508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9"/>
          <p:cNvSpPr/>
          <p:nvPr/>
        </p:nvSpPr>
        <p:spPr>
          <a:xfrm>
            <a:off x="450072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0"/>
          <p:cNvSpPr/>
          <p:nvPr/>
        </p:nvSpPr>
        <p:spPr>
          <a:xfrm>
            <a:off x="450072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1"/>
          <p:cNvSpPr/>
          <p:nvPr/>
        </p:nvSpPr>
        <p:spPr>
          <a:xfrm>
            <a:off x="507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2"/>
          <p:cNvSpPr/>
          <p:nvPr/>
        </p:nvSpPr>
        <p:spPr>
          <a:xfrm>
            <a:off x="5076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3"/>
          <p:cNvSpPr/>
          <p:nvPr/>
        </p:nvSpPr>
        <p:spPr>
          <a:xfrm>
            <a:off x="5364000" y="47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34"/>
          <p:cNvSpPr/>
          <p:nvPr/>
        </p:nvSpPr>
        <p:spPr>
          <a:xfrm flipH="1">
            <a:off x="507672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5"/>
          <p:cNvSpPr/>
          <p:nvPr/>
        </p:nvSpPr>
        <p:spPr>
          <a:xfrm>
            <a:off x="5651640" y="450864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6"/>
          <p:cNvSpPr/>
          <p:nvPr/>
        </p:nvSpPr>
        <p:spPr>
          <a:xfrm>
            <a:off x="586728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7"/>
          <p:cNvSpPr/>
          <p:nvPr/>
        </p:nvSpPr>
        <p:spPr>
          <a:xfrm flipH="1">
            <a:off x="6156360" y="4508640"/>
            <a:ext cx="216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8"/>
          <p:cNvSpPr/>
          <p:nvPr/>
        </p:nvSpPr>
        <p:spPr>
          <a:xfrm>
            <a:off x="6732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9"/>
          <p:cNvSpPr/>
          <p:nvPr/>
        </p:nvSpPr>
        <p:spPr>
          <a:xfrm>
            <a:off x="7020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0"/>
          <p:cNvSpPr/>
          <p:nvPr/>
        </p:nvSpPr>
        <p:spPr>
          <a:xfrm flipH="1">
            <a:off x="6732720" y="501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52"/>
          <p:cNvPicPr/>
          <p:nvPr/>
        </p:nvPicPr>
        <p:blipFill>
          <a:blip r:embed="rId1"/>
          <a:stretch/>
        </p:blipFill>
        <p:spPr>
          <a:xfrm>
            <a:off x="0" y="462600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63520" y="1844280"/>
            <a:ext cx="7386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өлік және байланыс” географиясы тақырыбын қайтала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Times New Roman"/>
              </a:rPr>
              <a:t>Бағала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63520" y="11430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М-матрица посадочных м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-әр оқушының  таңбас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/ - жоқ оқушының белгісі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785880" y="1785960"/>
          <a:ext cx="6095880" cy="1854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Үйге тапсыр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қайта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Назар қойып тыңдағандарыңызға рахмет</a:t>
            </a:r>
            <a:r>
              <a:rPr b="1" i="1" lang="kk-K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Бірде – бір ұстаз өзінің ең маңызды міндеті – тәрбиеленушілерді ақыл – ой еңбегіне үйретуден тұратынын және бұл міндеттің пәннің өзін айтып жеткізуге қарағанда анағұрлым маңызды екенін ұмытуға тиіс еме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.Д.Уш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" descr="GUESTAN"/>
          <p:cNvPicPr/>
          <p:nvPr/>
        </p:nvPicPr>
        <p:blipFill>
          <a:blip r:embed="rId1"/>
          <a:stretch/>
        </p:blipFill>
        <p:spPr>
          <a:xfrm>
            <a:off x="539640" y="5445000"/>
            <a:ext cx="1779840" cy="1727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ілімділік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 дүниежүзіндегі көліктің даму сипаты мен байланыс құралдары жайында білімдерін жинақта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 оқушыларды танымдық – эстетикалық әрекеттерге тәрбиеле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оқушылардың өткен білімдеріне сүйене отырып, жылдам ойлау дағдысын қалыптасты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тың бөлімі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алпы сөздік қоры 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еографиялық диктан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огикалық ой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) сұрақт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) сызба нұсқа бойынша жұмы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в) картамен жұмыс  жасау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Сұрақта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жүйесі дегеніміз 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ң тараған қандай байланыс құралдарын білесіңде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еміржол желілерінің жиілігі нені көрсетеді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түрлерінің ең ежелгі және ең жаңа түрлерін атаңдар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8" descr="WHICHB"/>
          <p:cNvPicPr/>
          <p:nvPr/>
        </p:nvPicPr>
        <p:blipFill>
          <a:blip r:embed="rId1"/>
          <a:stretch/>
        </p:blipFill>
        <p:spPr>
          <a:xfrm>
            <a:off x="6804000" y="5373720"/>
            <a:ext cx="200016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611280" y="2286000"/>
          <a:ext cx="6889680" cy="2855880"/>
        </p:xfrm>
        <a:graphic>
          <a:graphicData uri="http://schemas.openxmlformats.org/drawingml/2006/table">
            <a:tbl>
              <a:tblPr/>
              <a:tblGrid>
                <a:gridCol w="1339920"/>
                <a:gridCol w="1339560"/>
                <a:gridCol w="995400"/>
                <a:gridCol w="1239840"/>
                <a:gridCol w="1974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ды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ң а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ңдігі,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і,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Ұзынды-ғы, к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-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-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ызба нұсқ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 жүзетін ірі каналд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Елдердің телефонмен қамтамасыз етілуі (1000 адамға шаққан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2" name=""/>
          <p:cNvGraphicFramePr/>
          <p:nvPr/>
        </p:nvGraphicFramePr>
        <p:xfrm>
          <a:off x="571680" y="1714680"/>
          <a:ext cx="7000560" cy="366372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23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жоғары көрсеткіш (600-ден артық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таша көрсеткіш (200-3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төменгі көрсеткіш (10-нан төм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ландия -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-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я Республикасы -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гария 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арт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929720" cy="535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8:04:02Z</dcterms:created>
  <dc:creator>Zavuch</dc:creator>
  <dc:description/>
  <dc:language>en-US</dc:language>
  <cp:lastModifiedBy>User</cp:lastModifiedBy>
  <dcterms:modified xsi:type="dcterms:W3CDTF">2010-03-21T17:29:50Z</dcterms:modified>
  <cp:revision>25</cp:revision>
  <dc:subject/>
  <dc:title>№79 орта мектеп</dc:title>
</cp:coreProperties>
</file>