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gif" ContentType="image/gif"/>
  <Override PartName="/ppt/media/image2.gif" ContentType="image/gif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15E85-5707-4D99-831E-B633C4F76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4A6D7-F8DB-4115-AC6E-9BB8B28FD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0BC31B-A042-45BB-BE03-7F10D0325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79A626-533B-48BD-BE2A-DEB504108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767472-303A-401A-A60A-08366625C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6A7EED-DF7E-4623-A7EB-389B15DAC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082519-08B0-48CB-824A-23EEA921F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8F9534-F791-406F-B3E2-719E22C7A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A7E035-F284-4AB0-83F8-B339C74F7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B51030-5377-4F2A-AC92-A560A3443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B0FACC-A2CA-44C5-A945-3B439FAE6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FD3DCC-E606-4A7B-8412-95A15E50C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9F746-85C2-48D4-990B-B28FBC8F3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4ECA47-CBFD-4D56-88C8-EDE7DE193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BB4DE5-2A73-49FB-90AD-AC4C045C7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AEC893-DA96-4914-8198-4434CD7DE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F2C8AA-E243-4DC9-9241-9690DA2EA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51EFA0-6D3F-4CE4-AFE5-33C28C98D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08343A-FB43-4583-B1B3-5C1631977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1DB102-F6F0-4F03-9D94-06C791343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86CC03-103D-4FA2-BB71-3E3D64BCF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4FD01D-07EE-49CA-A800-15202B375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322D4C-1DBF-4175-813D-AE5B00328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3A830-9B45-4A87-9CB0-E78296D67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B19DE3-3949-4C1D-8C3F-C7DF15BE6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DE93E3-999A-4A73-BA1D-A2E2A15F0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1B4F73-B5A2-4732-A908-2A50C33D3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CBF52B-2654-4FE6-A08E-3420EBE84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FDC504-8B82-4303-A7D7-86A6EAFD5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BA7F47-F1EF-41F0-BC17-4D550AC3A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7129FB-AE0B-4DD0-967A-C1DA8D9EB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344BA8-5B0D-4124-A4DF-6B1F92CB1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128B27-BAD1-4FAE-9A4D-A2E2EEB7C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AC06BB-0CAC-45E6-9596-103E542D3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2E99E-184D-4B75-9C00-7824583EA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D83D04-083C-49BC-AF15-0883D75FA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027732-51F7-4C35-9A8F-336E27D42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A76543-E140-420D-889B-F0A265827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D293E1-3C9C-4F8C-BBEB-4E15EC5F9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DFE0F1-E613-439E-A5C7-38CDBC1A8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CDF7B4-11F5-457A-9F06-DC872C844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293DBC-EC56-48FE-ADB4-3396D8D22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D56EED-BAF5-4549-BAF7-08D2C8C04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E8E85B-427D-494A-B108-95EBD8B78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1E0589-5B28-4C2F-91DE-190DC4359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A490B-213F-4A24-B9FE-498A16F83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40C425-A585-43A8-82F8-43FA4E19D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3FCA88-3563-4A91-AF29-275DB8A96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728EAE-4E83-4837-8B17-710FA9E4F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04C5E7-C8D8-4BBC-A474-46F8E0D18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0E3C6B-2F91-4F02-A05F-ABF7815CB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FBF732F-C2EE-412B-908D-1ABB059CE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C92B5D3-AD08-46DC-8F2C-C8AD892D8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4B63DFA-513A-47FC-9DB1-4BA028D95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6D6DE62-99EC-480C-A95D-525FCF530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1BBF0F1-8777-4BAC-99D9-1EF7B59BA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C902A-3C1E-4497-A226-9243BD914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4D61205-C69D-4833-9101-F8C4EC521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E093BA1-1188-48DB-B0FE-8C3423A3B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490C025-211B-4B8F-B31B-F5C475ECE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1D33793-1722-4B0C-8CE0-EE813E0B7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03B3378-3F7F-4459-B776-179395BE7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DC2C929-9C79-44B0-B874-217E4046F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3839BE9-F21B-4388-B47C-B428C2908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888D6-1B50-4EA7-92FD-74D88DF8D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4B009-A961-431A-83E3-DDB20C671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88A6B-9269-424B-A45A-B98377EA9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C81C5-52A0-4EE4-8932-6CCA7C9A5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C8ED7-5837-4F9F-AAFC-8EB818A99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0B685-8857-4CF8-996B-D1F3DC604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07733-D0DB-4E8D-900A-96853BD98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2BAD1-DF11-4744-A62F-019AA4D8C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82D2A-6B0A-4C36-AFD5-F42D2D473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DB47F-9112-4885-89EC-6F6AFCF50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FCD7B2-B848-43C5-9347-AAF4A4A60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513C50-8167-4E4D-8E50-D7B59A58C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91A872-B1E1-4D3D-8214-43DF9B117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AE54BB-4E9C-4180-BAD7-26EE55D61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D92081-7913-4B82-8ACB-01EAC50E5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1B335-149F-42A9-A55E-BC1BA15CA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149B0A-C04D-4CEA-A8B8-916F37BD1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95A456-C6E1-4621-B0DB-41650778B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C8ADBD-BA01-463D-8206-EAA320B35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CBF44B-CA7F-4620-A489-BB1F7369E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A22D7A-BFC2-4858-A018-D434E9ABC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FFA0AE-53EE-491C-BD85-1373D526C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B19608-7B43-4E7B-933B-9ED25E4D5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ED4890-6CBA-41D3-A4C2-1C4CCB2D4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AF6E5F-533C-4415-88E0-D97839D28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55F12B-4D87-43F2-8B12-5E4E249F1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75F1A-69A2-4260-A126-A38047709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BA1B2E-4D16-4F6C-9E7D-4E64698B4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4E400F-2D6D-4631-9071-FA763AD13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2CB441-CCCC-436E-AF7C-F7A6AA67C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AED1EC-867A-4977-BD8F-D91F6CC84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3EA82D-7C6B-4DB3-8154-E4EE11AE5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4F9B57-0FD2-48FD-8609-F386C12D3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5F74F5-A80A-488F-9709-8C2FC805B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152835-21CE-4B97-B4B2-FB30CEAB4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BA69F5-FF19-472E-B82C-85AA3491E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68778D-1ABC-4B14-AB6B-6720CFA29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695C9-4492-41BF-BD9D-3DE7D6A79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A0B37D-ADFB-417E-834B-EA443EAC3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137574-E5BB-43A1-B0B6-F7BFF3097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A8E78A-B423-45FE-B611-5B908ED27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AF20A8-D014-41C4-B4B3-0CA61BB1A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C29F48-A205-4F11-9388-B83A038B2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B18B5F-FEF2-4175-B303-BC943641E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4B6380-70E5-4141-9E3B-84BE91C80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AFE2C8-7CEB-4863-B080-E8612DAD3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3D5BA4-AC9A-4D23-8723-2BDF897AD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88027D-E0EC-4BE4-813B-2CC894FE8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332A3-50BC-422A-BA79-37862C94A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2F5C85-C997-4855-B649-237244AED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2E83E2-34B5-43B2-9925-154BA7A46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155495-BFC8-4FF9-8673-FF9A7290A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088BAE-52D7-4795-AE10-E793374A4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4DA7F9-34A8-4A95-B613-3EA63A107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637CB2-8934-4833-B073-A7E4A3F44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0EE4BD-29E7-44DC-85BE-F4A38AB9D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8BF6B8-F1A5-41DA-A46D-7082F105C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E1624C-AC3F-432B-B327-04116C26E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3DA6B6-DC93-4A50-BC12-3258C3D41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75EC5-FC01-4EB5-8537-F8D4156AD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EB7F3F-872D-4F19-AF36-ED7213F77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484A5E-51EC-49C7-95FC-BB35657E2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7A2264-78D8-456D-8518-EDC666E07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904C55-997A-466B-ABC7-87902CF4F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27ABFA-1E64-4892-AE4C-3D4EE51F4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22A7E7-4329-4DD4-8B75-ED59AD0A5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E0A425-4EEF-411D-93B0-282777389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258FD9-3A66-4D55-9BD2-FB93C5DA5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E22B03-5A52-4041-B7F9-68E5A6A78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6A195B-5C5B-492B-80E7-FDFF075A2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2D0D3-1BB4-404F-8E97-E1B52DC84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860B8F-BC3F-467C-802A-50806B1FC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ECAD3E-6538-4C66-8054-FBA8EEDBB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071234-F9CA-47A7-9CBB-C9D7540E0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3B8F4A-82F2-44AF-B266-65D124251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FA5070-65E1-4891-9F01-2590E63A8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8EA636-F01A-4582-A213-0304F8433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E37BDD-BAD1-4012-8095-7C355702E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8E1DCF-99FB-43E5-B49A-B9C60549C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FDFC79-1442-4A8E-BEF9-539B1E5E6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65AE64-724C-4B25-83CF-E0A7DA6D5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26911-F8F3-4BAD-849A-2206C934B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C77D35-EC8D-44FA-9066-521E74FEF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54D645-4004-42F6-BF98-2E7684F0D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E94BCC-1183-4F73-B87D-36CF84AC2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2A3546-80F9-48CE-BC8E-FC3A50E47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6E272E-563B-49F7-AEE8-2819500C4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6567EA-C0E3-4C78-B73E-E2F57AED7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946B7D-DB65-4590-8903-22D19257C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03D789-8A66-4354-B89A-6FFD6173A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3EFA4C-8411-4836-8DAB-185FF3290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FB961F-DF6A-4A85-9C11-5B1082C24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17DFE-B292-4749-94B0-0D9E293021B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1E90D-021A-4706-992B-FC0E4066E8C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08B23-6A0D-4468-BEC8-13E6FF73108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86B22-BB22-42E7-8872-26019D733D2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BAC53-F29B-4DAC-AA2F-D0EF5144307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81BD1-2481-4599-BED1-EB3D3DABEFB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C9961-E361-47AA-B4D9-AEE9A5C2A6B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CE8E2-26F2-45E0-9408-FC50C688B96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A9C12-B12A-44B1-A352-F8AC7238AF8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90538-3D51-4227-8EB2-26CAE7D3551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545F2-B01D-4B5E-B5D8-5D4DB0BD9BE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88398-3E7B-4B6B-A5D2-1D4D03787BF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40EC4-7E90-4A96-9B50-C28A1114F1C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94920" y="1557360"/>
            <a:ext cx="8286840" cy="928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400" spc="-1" strike="noStrike">
                <a:solidFill>
                  <a:srgbClr val="000000"/>
                </a:solidFill>
                <a:latin typeface="Times New Roman"/>
              </a:rPr>
              <a:t>№</a:t>
            </a:r>
            <a:r>
              <a:rPr b="1" i="1" lang="kk-KZ" sz="4400" spc="-1" strike="noStrike">
                <a:solidFill>
                  <a:srgbClr val="000000"/>
                </a:solidFill>
                <a:latin typeface="Times New Roman"/>
              </a:rPr>
              <a:t>79 орта мектебі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subTitle"/>
          </p:nvPr>
        </p:nvSpPr>
        <p:spPr>
          <a:xfrm>
            <a:off x="539280" y="3068640"/>
            <a:ext cx="8286840" cy="25718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200" spc="-1" strike="noStrike">
                <a:solidFill>
                  <a:srgbClr val="ff0000"/>
                </a:solidFill>
                <a:latin typeface="Times New Roman"/>
              </a:rPr>
              <a:t>10 сынып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200" spc="-1" strike="noStrike">
                <a:solidFill>
                  <a:srgbClr val="ff0000"/>
                </a:solidFill>
                <a:latin typeface="Times New Roman"/>
              </a:rPr>
              <a:t>География пәнінің мұғалімі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200" spc="-1" strike="noStrike">
                <a:solidFill>
                  <a:srgbClr val="ff0000"/>
                </a:solidFill>
                <a:latin typeface="Times New Roman"/>
              </a:rPr>
              <a:t>Марқабаева Қамар Марқабайқызы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200" spc="-1" strike="noStrike">
                <a:solidFill>
                  <a:srgbClr val="89898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5" name="Picture 4" descr="GUESTAN"/>
          <p:cNvPicPr/>
          <p:nvPr/>
        </p:nvPicPr>
        <p:blipFill>
          <a:blip r:embed="rId1"/>
          <a:stretch/>
        </p:blipFill>
        <p:spPr>
          <a:xfrm>
            <a:off x="6588000" y="189000"/>
            <a:ext cx="2248200" cy="1727280"/>
          </a:xfrm>
          <a:prstGeom prst="rect">
            <a:avLst/>
          </a:prstGeom>
          <a:ln w="0">
            <a:noFill/>
          </a:ln>
        </p:spPr>
      </p:pic>
    </p:spTree>
  </p:cSld>
  <p:transition spd="med" advTm="1000"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200" spc="-1" strike="noStrike">
                <a:solidFill>
                  <a:srgbClr val="000000"/>
                </a:solidFill>
                <a:latin typeface="Times New Roman"/>
              </a:rPr>
              <a:t>Жалпы сөздік қоры-  </a:t>
            </a:r>
            <a:br>
              <a:rPr sz="3200"/>
            </a:br>
            <a:r>
              <a:rPr b="1" i="1" lang="kk-KZ" sz="3200" spc="-1" strike="noStrike">
                <a:solidFill>
                  <a:srgbClr val="000000"/>
                </a:solidFill>
                <a:latin typeface="Times New Roman"/>
              </a:rPr>
              <a:t>(жаңа сөздер бойынша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400" spc="-1" strike="noStrike">
                <a:solidFill>
                  <a:srgbClr val="000000"/>
                </a:solidFill>
                <a:latin typeface="Times New Roman"/>
              </a:rPr>
              <a:t>Автомобил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400" spc="-1" strike="noStrike">
                <a:solidFill>
                  <a:srgbClr val="000000"/>
                </a:solidFill>
                <a:latin typeface="Times New Roman"/>
              </a:rPr>
              <a:t>Құбы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400" spc="-1" strike="noStrike">
                <a:solidFill>
                  <a:srgbClr val="000000"/>
                </a:solidFill>
                <a:latin typeface="Times New Roman"/>
              </a:rPr>
              <a:t>Теңіз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400" spc="-1" strike="noStrike">
                <a:solidFill>
                  <a:srgbClr val="000000"/>
                </a:solidFill>
                <a:latin typeface="Times New Roman"/>
              </a:rPr>
              <a:t>Өзен-кө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400" spc="-1" strike="noStrike">
                <a:solidFill>
                  <a:srgbClr val="000000"/>
                </a:solidFill>
                <a:latin typeface="Times New Roman"/>
              </a:rPr>
              <a:t>Әу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400" spc="-1" strike="noStrike">
                <a:solidFill>
                  <a:srgbClr val="000000"/>
                </a:solidFill>
                <a:latin typeface="Times New Roman"/>
              </a:rPr>
              <a:t>Телефо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400" spc="-1" strike="noStrike">
                <a:solidFill>
                  <a:srgbClr val="000000"/>
                </a:solidFill>
                <a:latin typeface="Times New Roman"/>
              </a:rPr>
              <a:t>Контейнерлік көпірле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400" spc="-1" strike="noStrike">
                <a:solidFill>
                  <a:srgbClr val="000000"/>
                </a:solidFill>
                <a:latin typeface="Times New Roman"/>
              </a:rPr>
              <a:t>Су асты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400" spc="-1" strike="noStrike">
                <a:solidFill>
                  <a:srgbClr val="000000"/>
                </a:solidFill>
                <a:latin typeface="Times New Roman"/>
              </a:rPr>
              <a:t>Құрғақ жү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400" spc="-1" strike="noStrike">
                <a:solidFill>
                  <a:srgbClr val="000000"/>
                </a:solidFill>
                <a:latin typeface="Times New Roman"/>
              </a:rPr>
              <a:t>ІІ-түрі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ңіз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лефо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ейнерлік көпір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Құбыр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 асты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amond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400" spc="-1" strike="noStrike">
                <a:solidFill>
                  <a:srgbClr val="000000"/>
                </a:solidFill>
                <a:latin typeface="Times New Roman"/>
              </a:rPr>
              <a:t>Географиялық диктан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214200" y="1213920"/>
            <a:ext cx="3929040" cy="564372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Д</a:t>
            </a:r>
            <a:r>
              <a:rPr b="0" lang="kk-KZ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үние жүзіндегі теміржолдың жалпы ұзындығы жөнінен қай мемлекет алда келеді?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Теңіз жолының ежелден белгілі ауданы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Шаруашылық саласыныың басты үшінші саласы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Қазақстан әлемдік интернет  жүйесі қай жылдан бері тұрақты қосылды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Байланыс жүйесі өте күшті дамыған ел?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Дүние жүзіндегі ең ірі әуежайлар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Көліктің ең жаңа және қарқынды дамып келе жатқан түрі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Дүние жүзіндегі ең ірі мұнай құбырлары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Қазақстандағы жолаушы және жүк тасымалының аса қарқынды саласы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Ірі кеме жүзетін каналдар  мен өзен жолдарына қандай  су жолы жатады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61" name=""/>
          <p:cNvGraphicFramePr/>
          <p:nvPr/>
        </p:nvGraphicFramePr>
        <p:xfrm>
          <a:off x="4429080" y="4286160"/>
          <a:ext cx="2397240" cy="365040"/>
        </p:xfrm>
        <a:graphic>
          <a:graphicData uri="http://schemas.openxmlformats.org/drawingml/2006/table">
            <a:tbl>
              <a:tblPr/>
              <a:tblGrid>
                <a:gridCol w="23972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62" name=""/>
          <p:cNvGraphicFramePr/>
          <p:nvPr/>
        </p:nvGraphicFramePr>
        <p:xfrm>
          <a:off x="4357800" y="1214280"/>
          <a:ext cx="3452760" cy="5143680"/>
        </p:xfrm>
        <a:graphic>
          <a:graphicData uri="http://schemas.openxmlformats.org/drawingml/2006/table">
            <a:tbl>
              <a:tblPr/>
              <a:tblGrid>
                <a:gridCol w="2500200"/>
                <a:gridCol w="952560"/>
              </a:tblGrid>
              <a:tr h="6444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) Жағалық, Ұлы, Волга, Рейн-Майн-Дуна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жауаб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824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8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өлі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итроу, Ханед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8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тлант мұхи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8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Қ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8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ьюстон, Нью-Йор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9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Қ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8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93 жылы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8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міржол көліг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9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Әуе көлігі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pic>
        <p:nvPicPr>
          <p:cNvPr id="563" name="Picture 8" descr="WHICHB"/>
          <p:cNvPicPr/>
          <p:nvPr/>
        </p:nvPicPr>
        <p:blipFill>
          <a:blip r:embed="rId2"/>
          <a:stretch/>
        </p:blipFill>
        <p:spPr>
          <a:xfrm>
            <a:off x="7524720" y="5572080"/>
            <a:ext cx="1619280" cy="128592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219240" y="227160"/>
            <a:ext cx="8353440" cy="84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i="1" lang="kk-KZ" sz="4400" spc="-1" strike="noStrike">
                <a:solidFill>
                  <a:srgbClr val="000000"/>
                </a:solidFill>
                <a:latin typeface="Times New Roman"/>
              </a:rPr>
              <a:t>Логикалық ойлау    </a:t>
            </a:r>
            <a:r>
              <a:rPr b="1" i="1" lang="kk-KZ" sz="2400" spc="-1" strike="noStrike">
                <a:solidFill>
                  <a:srgbClr val="000000"/>
                </a:solidFill>
                <a:latin typeface="Times New Roman"/>
              </a:rPr>
              <a:t>(сөзжұмбақ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"/>
          <p:cNvSpPr txBox="1"/>
          <p:nvPr/>
        </p:nvSpPr>
        <p:spPr>
          <a:xfrm>
            <a:off x="142560" y="1268280"/>
            <a:ext cx="3492360" cy="511344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Әуе көлігі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Ірі кеме жүзетін су жолы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Қандай елдерде көлік қатынасы жоғары дамыған 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оғары жылдамдықтағы теміржол желісі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алықаралық маңызы бар ірі порт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ң ірі әуежайдың бірі Хитроу қай қалада орналасқан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әулігіне 140км өтетін бұғаз 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94 жылдан бері Қазақстан қандай әлемдік жүйеге қосылды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ндық станц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ҚШ-тың аса ірі машина жасау компаниясы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66" name=""/>
          <p:cNvGraphicFramePr/>
          <p:nvPr/>
        </p:nvGraphicFramePr>
        <p:xfrm>
          <a:off x="3786120" y="1000080"/>
          <a:ext cx="5072040" cy="5572080"/>
        </p:xfrm>
        <a:graphic>
          <a:graphicData uri="http://schemas.openxmlformats.org/drawingml/2006/table">
            <a:tbl>
              <a:tblPr/>
              <a:tblGrid>
                <a:gridCol w="338040"/>
                <a:gridCol w="338400"/>
                <a:gridCol w="338040"/>
                <a:gridCol w="338040"/>
                <a:gridCol w="338400"/>
                <a:gridCol w="338040"/>
                <a:gridCol w="338040"/>
                <a:gridCol w="338040"/>
                <a:gridCol w="338400"/>
                <a:gridCol w="338040"/>
                <a:gridCol w="338040"/>
                <a:gridCol w="338040"/>
                <a:gridCol w="338400"/>
                <a:gridCol w="338040"/>
                <a:gridCol w="338040"/>
              </a:tblGrid>
              <a:tr h="557280">
                <a:tc gridSpan="7"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f81bd"/>
                    </a:solidFill>
                  </a:tcPr>
                </a:tc>
              </a:tr>
              <a:tr h="55728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1872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69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gridSpan="6"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72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72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57280"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569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67" name="TextBox 4"/>
          <p:cNvSpPr/>
          <p:nvPr/>
        </p:nvSpPr>
        <p:spPr>
          <a:xfrm>
            <a:off x="6500880" y="6000840"/>
            <a:ext cx="35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8" name=""/>
          <p:cNvGraphicFramePr/>
          <p:nvPr/>
        </p:nvGraphicFramePr>
        <p:xfrm>
          <a:off x="6500880" y="6072120"/>
          <a:ext cx="357120" cy="487440"/>
        </p:xfrm>
        <a:graphic>
          <a:graphicData uri="http://schemas.openxmlformats.org/drawingml/2006/table">
            <a:tbl>
              <a:tblPr/>
              <a:tblGrid>
                <a:gridCol w="357120"/>
              </a:tblGrid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69" name="Picture 4" descr="52"/>
          <p:cNvPicPr/>
          <p:nvPr/>
        </p:nvPicPr>
        <p:blipFill>
          <a:blip r:embed="rId2"/>
          <a:stretch/>
        </p:blipFill>
        <p:spPr>
          <a:xfrm>
            <a:off x="0" y="-747720"/>
            <a:ext cx="1463760" cy="180036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400" spc="-1" strike="noStrike">
                <a:solidFill>
                  <a:srgbClr val="000000"/>
                </a:solidFill>
                <a:latin typeface="Times New Roman"/>
              </a:rPr>
              <a:t>Спорт жарыс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Times New Roman"/>
              </a:rPr>
              <a:t>а) жүгір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Times New Roman"/>
              </a:rPr>
              <a:t>ә) ауыр атлетик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Times New Roman"/>
              </a:rPr>
              <a:t>б) ұзындыққа секіру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Times New Roman"/>
              </a:rPr>
              <a:t>в) күрес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amond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400" spc="-1" strike="noStrike">
                <a:solidFill>
                  <a:srgbClr val="000000"/>
                </a:solidFill>
                <a:latin typeface="Times New Roman"/>
              </a:rPr>
              <a:t>Жүгіру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Times New Roman"/>
              </a:rPr>
              <a:t>Кім бірінші болып белгілі бір тақырып бойынша 10 сөз жазад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amond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400" spc="-1" strike="noStrike">
                <a:solidFill>
                  <a:srgbClr val="000000"/>
                </a:solidFill>
                <a:latin typeface="Times New Roman"/>
              </a:rPr>
              <a:t>Ауыр атлети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ім ең ауыр сөзді жазады, ең көп әріптен тұратын сөз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amond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400" spc="-1" strike="noStrike">
                <a:solidFill>
                  <a:srgbClr val="000000"/>
                </a:solidFill>
                <a:latin typeface="Times New Roman"/>
              </a:rPr>
              <a:t>Ұзындыққа секір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ім ең ұзын сөйлемді бірінші жазады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amond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400" spc="-1" strike="noStrike">
                <a:solidFill>
                  <a:srgbClr val="000000"/>
                </a:solidFill>
                <a:latin typeface="Times New Roman"/>
              </a:rPr>
              <a:t>Күрес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Әр оқушы бір – біріне сұрақтар қояд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amond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400" spc="-1" strike="noStrike">
                <a:solidFill>
                  <a:srgbClr val="000000"/>
                </a:solidFill>
                <a:latin typeface="Times New Roman"/>
              </a:rPr>
              <a:t>Құпия сөзді шеш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ebf1de"/>
          </a:solidFill>
          <a:ln w="9360">
            <a:solidFill>
              <a:srgbClr val="fcd5b5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.... – гидросфераны танкерлер мен мыңдаған шаршы жерлерді қатерсіз (мұнай) ластайды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Атмосфераны басты ластаушы  ................ көлігі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AutoShape 4"/>
          <p:cNvSpPr/>
          <p:nvPr/>
        </p:nvSpPr>
        <p:spPr>
          <a:xfrm>
            <a:off x="2195640" y="2924280"/>
            <a:ext cx="2952720" cy="302580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a6a6a6"/>
          </a:solidFill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Line 5"/>
          <p:cNvSpPr/>
          <p:nvPr/>
        </p:nvSpPr>
        <p:spPr>
          <a:xfrm>
            <a:off x="2050920" y="321300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Line 6"/>
          <p:cNvSpPr/>
          <p:nvPr/>
        </p:nvSpPr>
        <p:spPr>
          <a:xfrm>
            <a:off x="2050920" y="350028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Line 7"/>
          <p:cNvSpPr/>
          <p:nvPr/>
        </p:nvSpPr>
        <p:spPr>
          <a:xfrm>
            <a:off x="2700360" y="3213000"/>
            <a:ext cx="14292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Line 8"/>
          <p:cNvSpPr/>
          <p:nvPr/>
        </p:nvSpPr>
        <p:spPr>
          <a:xfrm>
            <a:off x="3276720" y="3213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Line 9"/>
          <p:cNvSpPr/>
          <p:nvPr/>
        </p:nvSpPr>
        <p:spPr>
          <a:xfrm>
            <a:off x="3276720" y="3357720"/>
            <a:ext cx="142920" cy="142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Line 10"/>
          <p:cNvSpPr/>
          <p:nvPr/>
        </p:nvSpPr>
        <p:spPr>
          <a:xfrm>
            <a:off x="3708360" y="321300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Line 11"/>
          <p:cNvSpPr/>
          <p:nvPr/>
        </p:nvSpPr>
        <p:spPr>
          <a:xfrm>
            <a:off x="3708360" y="335772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Line 12"/>
          <p:cNvSpPr/>
          <p:nvPr/>
        </p:nvSpPr>
        <p:spPr>
          <a:xfrm>
            <a:off x="3708360" y="350028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Line 13"/>
          <p:cNvSpPr/>
          <p:nvPr/>
        </p:nvSpPr>
        <p:spPr>
          <a:xfrm flipH="1">
            <a:off x="4284360" y="3213000"/>
            <a:ext cx="14292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Line 14"/>
          <p:cNvSpPr/>
          <p:nvPr/>
        </p:nvSpPr>
        <p:spPr>
          <a:xfrm>
            <a:off x="5003640" y="3213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Oval 15"/>
          <p:cNvSpPr/>
          <p:nvPr/>
        </p:nvSpPr>
        <p:spPr>
          <a:xfrm>
            <a:off x="4643280" y="3141720"/>
            <a:ext cx="1447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Oval 16"/>
          <p:cNvSpPr/>
          <p:nvPr/>
        </p:nvSpPr>
        <p:spPr>
          <a:xfrm>
            <a:off x="5580000" y="314172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Line 17"/>
          <p:cNvSpPr/>
          <p:nvPr/>
        </p:nvSpPr>
        <p:spPr>
          <a:xfrm>
            <a:off x="1835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Line 18"/>
          <p:cNvSpPr/>
          <p:nvPr/>
        </p:nvSpPr>
        <p:spPr>
          <a:xfrm>
            <a:off x="1835280" y="450864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Line 19"/>
          <p:cNvSpPr/>
          <p:nvPr/>
        </p:nvSpPr>
        <p:spPr>
          <a:xfrm>
            <a:off x="1835280" y="465300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Line 20"/>
          <p:cNvSpPr/>
          <p:nvPr/>
        </p:nvSpPr>
        <p:spPr>
          <a:xfrm>
            <a:off x="2340000" y="450864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Line 21"/>
          <p:cNvSpPr/>
          <p:nvPr/>
        </p:nvSpPr>
        <p:spPr>
          <a:xfrm>
            <a:off x="255600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Line 22"/>
          <p:cNvSpPr/>
          <p:nvPr/>
        </p:nvSpPr>
        <p:spPr>
          <a:xfrm flipH="1">
            <a:off x="2340000" y="4869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Line 23"/>
          <p:cNvSpPr/>
          <p:nvPr/>
        </p:nvSpPr>
        <p:spPr>
          <a:xfrm flipH="1">
            <a:off x="2340000" y="4653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Line 24"/>
          <p:cNvSpPr/>
          <p:nvPr/>
        </p:nvSpPr>
        <p:spPr>
          <a:xfrm>
            <a:off x="2843280" y="450864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Line 25"/>
          <p:cNvSpPr/>
          <p:nvPr/>
        </p:nvSpPr>
        <p:spPr>
          <a:xfrm>
            <a:off x="3419640" y="450864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Line 26"/>
          <p:cNvSpPr/>
          <p:nvPr/>
        </p:nvSpPr>
        <p:spPr>
          <a:xfrm>
            <a:off x="3419640" y="486900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Line 27"/>
          <p:cNvSpPr/>
          <p:nvPr/>
        </p:nvSpPr>
        <p:spPr>
          <a:xfrm>
            <a:off x="3924360" y="4508640"/>
            <a:ext cx="14292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Line 28"/>
          <p:cNvSpPr/>
          <p:nvPr/>
        </p:nvSpPr>
        <p:spPr>
          <a:xfrm flipV="1">
            <a:off x="4067280" y="4508280"/>
            <a:ext cx="14436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Line 29"/>
          <p:cNvSpPr/>
          <p:nvPr/>
        </p:nvSpPr>
        <p:spPr>
          <a:xfrm>
            <a:off x="4500720" y="450864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Line 30"/>
          <p:cNvSpPr/>
          <p:nvPr/>
        </p:nvSpPr>
        <p:spPr>
          <a:xfrm>
            <a:off x="4500720" y="486900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Line 31"/>
          <p:cNvSpPr/>
          <p:nvPr/>
        </p:nvSpPr>
        <p:spPr>
          <a:xfrm>
            <a:off x="5076720" y="4508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Line 32"/>
          <p:cNvSpPr/>
          <p:nvPr/>
        </p:nvSpPr>
        <p:spPr>
          <a:xfrm>
            <a:off x="5076720" y="479736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Line 33"/>
          <p:cNvSpPr/>
          <p:nvPr/>
        </p:nvSpPr>
        <p:spPr>
          <a:xfrm>
            <a:off x="5364000" y="479736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Line 34"/>
          <p:cNvSpPr/>
          <p:nvPr/>
        </p:nvSpPr>
        <p:spPr>
          <a:xfrm flipH="1">
            <a:off x="5076720" y="494172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Line 35"/>
          <p:cNvSpPr/>
          <p:nvPr/>
        </p:nvSpPr>
        <p:spPr>
          <a:xfrm>
            <a:off x="5651640" y="4508640"/>
            <a:ext cx="215640" cy="43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Line 36"/>
          <p:cNvSpPr/>
          <p:nvPr/>
        </p:nvSpPr>
        <p:spPr>
          <a:xfrm>
            <a:off x="5867280" y="4437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Line 37"/>
          <p:cNvSpPr/>
          <p:nvPr/>
        </p:nvSpPr>
        <p:spPr>
          <a:xfrm flipH="1">
            <a:off x="6156360" y="4508640"/>
            <a:ext cx="216000" cy="43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Line 38"/>
          <p:cNvSpPr/>
          <p:nvPr/>
        </p:nvSpPr>
        <p:spPr>
          <a:xfrm>
            <a:off x="6732720" y="479736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Line 39"/>
          <p:cNvSpPr/>
          <p:nvPr/>
        </p:nvSpPr>
        <p:spPr>
          <a:xfrm>
            <a:off x="7020000" y="4797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Line 40"/>
          <p:cNvSpPr/>
          <p:nvPr/>
        </p:nvSpPr>
        <p:spPr>
          <a:xfrm flipH="1">
            <a:off x="6732720" y="501336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9" name="Picture 4" descr="52"/>
          <p:cNvPicPr/>
          <p:nvPr/>
        </p:nvPicPr>
        <p:blipFill>
          <a:blip r:embed="rId1"/>
          <a:stretch/>
        </p:blipFill>
        <p:spPr>
          <a:xfrm>
            <a:off x="0" y="4626000"/>
            <a:ext cx="1655640" cy="223200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400" spc="-1" strike="noStrike">
                <a:solidFill>
                  <a:srgbClr val="000000"/>
                </a:solidFill>
                <a:latin typeface="Times New Roman"/>
              </a:rPr>
              <a:t>Сабақтың тақырыбы: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263520" y="1844280"/>
            <a:ext cx="738648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kk-KZ" sz="3200" spc="-1" strike="noStrike">
                <a:solidFill>
                  <a:srgbClr val="000000"/>
                </a:solidFill>
                <a:latin typeface="Times New Roman"/>
              </a:rPr>
              <a:t>Көлік және байланыс” географиясы тақырыбын қайталау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amond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400" spc="-1" strike="noStrike">
                <a:solidFill>
                  <a:srgbClr val="000000"/>
                </a:solidFill>
                <a:latin typeface="Times New Roman"/>
              </a:rPr>
              <a:t>Бағалау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263520" y="1143000"/>
            <a:ext cx="7386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ПМ-матрица посадочных мес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kk-K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1-әр оқушының  таңбасы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kk-K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// - жоқ оқушының белгісі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22" name=""/>
          <p:cNvGraphicFramePr/>
          <p:nvPr/>
        </p:nvGraphicFramePr>
        <p:xfrm>
          <a:off x="785880" y="1785960"/>
          <a:ext cx="6095880" cy="185400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762120"/>
                <a:gridCol w="761760"/>
                <a:gridCol w="762120"/>
                <a:gridCol w="762120"/>
                <a:gridCol w="761760"/>
                <a:gridCol w="7621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kk-K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row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row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Ж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p:transition>
    <p:diamond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400" spc="-1" strike="noStrike">
                <a:solidFill>
                  <a:srgbClr val="000000"/>
                </a:solidFill>
                <a:latin typeface="Calibri"/>
              </a:rPr>
              <a:t>Үйге тапсырма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§</a:t>
            </a:r>
            <a:r>
              <a:rPr b="0" lang="kk-K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қайтала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amond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600" spc="-1" strike="noStrike">
                <a:solidFill>
                  <a:srgbClr val="000000"/>
                </a:solidFill>
                <a:latin typeface="Times New Roman"/>
              </a:rPr>
              <a:t>Назар қойып тыңдағандарыңызға рахмет</a:t>
            </a:r>
            <a:r>
              <a:rPr b="1" i="1" lang="kk-KZ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kk-KZ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kk-KZ" sz="3600" spc="-1" strike="noStrike">
                <a:solidFill>
                  <a:srgbClr val="000000"/>
                </a:solidFill>
                <a:latin typeface="Times New Roman"/>
              </a:rPr>
              <a:t>Бірде – бір ұстаз өзінің ең маңызды міндеті – тәрбиеленушілерді ақыл – ой еңбегіне үйретуден тұратынын және бұл міндеттің пәннің өзін айтып жеткізуге қарағанда анағұрлым маңызды екенін ұмытуға тиіс емес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200" spc="-1" strike="noStrike">
                <a:solidFill>
                  <a:srgbClr val="000000"/>
                </a:solidFill>
                <a:latin typeface="Times New Roman"/>
              </a:rPr>
              <a:t>К.Д.Ушинск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7" name="Picture 4" descr="GUESTAN"/>
          <p:cNvPicPr/>
          <p:nvPr/>
        </p:nvPicPr>
        <p:blipFill>
          <a:blip r:embed="rId1"/>
          <a:stretch/>
        </p:blipFill>
        <p:spPr>
          <a:xfrm>
            <a:off x="539640" y="5445000"/>
            <a:ext cx="1779840" cy="172728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400" spc="-1" strike="noStrike">
                <a:solidFill>
                  <a:srgbClr val="000000"/>
                </a:solidFill>
                <a:latin typeface="Times New Roman"/>
              </a:rPr>
              <a:t>Сабақтың мақсаты:</a:t>
            </a:r>
            <a:r>
              <a:rPr b="0" lang="kk-KZ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200" spc="-1" strike="noStrike">
                <a:solidFill>
                  <a:srgbClr val="000000"/>
                </a:solidFill>
                <a:latin typeface="Times New Roman"/>
              </a:rPr>
              <a:t>Білімділік</a:t>
            </a:r>
            <a:r>
              <a:rPr b="0" lang="kk-KZ" sz="3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i="1" lang="kk-KZ" sz="3200" spc="-1" strike="noStrike">
                <a:solidFill>
                  <a:srgbClr val="000000"/>
                </a:solidFill>
                <a:latin typeface="Times New Roman"/>
              </a:rPr>
              <a:t> дүниежүзіндегі көліктің даму сипаты мен байланыс құралдары жайында білімдерін жинақтау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200" spc="-1" strike="noStrike">
                <a:solidFill>
                  <a:srgbClr val="000000"/>
                </a:solidFill>
                <a:latin typeface="Times New Roman"/>
              </a:rPr>
              <a:t>Тәрбиелік</a:t>
            </a:r>
            <a:r>
              <a:rPr b="0" i="1" lang="kk-KZ" sz="3200" spc="-1" strike="noStrike">
                <a:solidFill>
                  <a:srgbClr val="000000"/>
                </a:solidFill>
                <a:latin typeface="Times New Roman"/>
              </a:rPr>
              <a:t>:  оқушыларды танымдық – эстетикалық әрекеттерге тәрбиеле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200" spc="-1" strike="noStrike">
                <a:solidFill>
                  <a:srgbClr val="000000"/>
                </a:solidFill>
                <a:latin typeface="Times New Roman"/>
              </a:rPr>
              <a:t>Дамытушылық</a:t>
            </a:r>
            <a:r>
              <a:rPr b="0" i="1" lang="kk-KZ" sz="3200" spc="-1" strike="noStrike">
                <a:solidFill>
                  <a:srgbClr val="000000"/>
                </a:solidFill>
                <a:latin typeface="Times New Roman"/>
              </a:rPr>
              <a:t>: оқушылардың өткен білімдеріне сүйене отырып, жылдам ойлау дағдысын қалыптастыр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ба</a:t>
            </a:r>
            <a:r>
              <a:rPr b="1" lang="kk-KZ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қтың бөлімі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Жылдам жаттығ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Жалпы сөздік қоры (жаңа сөздер бойынша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Географиялық диктант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Логикалық ойла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Спорт жарыс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Құпия сөзді шеш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000000"/>
                </a:solidFill>
                <a:latin typeface="Times New Roman"/>
              </a:rPr>
              <a:t>Жылдам жаттығ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1" i="1" lang="kk-KZ" sz="3200" spc="-1" strike="noStrike">
                <a:solidFill>
                  <a:srgbClr val="000000"/>
                </a:solidFill>
                <a:latin typeface="Times New Roman"/>
              </a:rPr>
              <a:t>) сұрақта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200" spc="-1" strike="noStrike">
                <a:solidFill>
                  <a:srgbClr val="000000"/>
                </a:solidFill>
                <a:latin typeface="Times New Roman"/>
              </a:rPr>
              <a:t>б) сызба нұсқа бойынша жұмыс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200" spc="-1" strike="noStrike">
                <a:solidFill>
                  <a:srgbClr val="000000"/>
                </a:solidFill>
                <a:latin typeface="Times New Roman"/>
              </a:rPr>
              <a:t>в) картамен жұмыс  жасау</a:t>
            </a:r>
            <a:r>
              <a:rPr b="0" lang="kk-KZ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000000"/>
                </a:solidFill>
                <a:latin typeface="Times New Roman"/>
              </a:rPr>
              <a:t>Сұрақтар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200" spc="-1" strike="noStrike">
                <a:solidFill>
                  <a:srgbClr val="000000"/>
                </a:solidFill>
                <a:latin typeface="Times New Roman"/>
              </a:rPr>
              <a:t>Көлік жүйесі дегеніміз не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200" spc="-1" strike="noStrike">
                <a:solidFill>
                  <a:srgbClr val="000000"/>
                </a:solidFill>
                <a:latin typeface="Times New Roman"/>
              </a:rPr>
              <a:t>Кең тараған қандай байланыс құралдарын білесіңдер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200" spc="-1" strike="noStrike">
                <a:solidFill>
                  <a:srgbClr val="000000"/>
                </a:solidFill>
                <a:latin typeface="Times New Roman"/>
              </a:rPr>
              <a:t>Теміржол желілерінің жиілігі нені көрсетеді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200" spc="-1" strike="noStrike">
                <a:solidFill>
                  <a:srgbClr val="000000"/>
                </a:solidFill>
                <a:latin typeface="Times New Roman"/>
              </a:rPr>
              <a:t>Көлік түрлерінің ең ежелгі және ең жаңа түрлерін атаңдар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6" name="Picture 8" descr="WHICHB"/>
          <p:cNvPicPr/>
          <p:nvPr/>
        </p:nvPicPr>
        <p:blipFill>
          <a:blip r:embed="rId1"/>
          <a:stretch/>
        </p:blipFill>
        <p:spPr>
          <a:xfrm>
            <a:off x="6804000" y="5373720"/>
            <a:ext cx="2000160" cy="128592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7" name=""/>
          <p:cNvGraphicFramePr/>
          <p:nvPr/>
        </p:nvGraphicFramePr>
        <p:xfrm>
          <a:off x="611280" y="2286000"/>
          <a:ext cx="6889680" cy="2855880"/>
        </p:xfrm>
        <a:graphic>
          <a:graphicData uri="http://schemas.openxmlformats.org/drawingml/2006/table">
            <a:tbl>
              <a:tblPr/>
              <a:tblGrid>
                <a:gridCol w="1339920"/>
                <a:gridCol w="1339560"/>
                <a:gridCol w="995400"/>
                <a:gridCol w="1239840"/>
                <a:gridCol w="1974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налды</a:t>
                      </a:r>
                      <a:r>
                        <a:rPr b="0" lang="kk-K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ң аты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реңдігі,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ні,м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Ұзынды-ғы, км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ны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0-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0-3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1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4-2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0" y="22680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400" spc="-1" strike="noStrike">
                <a:solidFill>
                  <a:srgbClr val="000000"/>
                </a:solidFill>
                <a:latin typeface="Times New Roman"/>
              </a:rPr>
              <a:t>Сызба нұсқамен жұмыс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еме жүзетін ірі каналда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200" spc="-1" strike="noStrike">
                <a:solidFill>
                  <a:srgbClr val="000000"/>
                </a:solidFill>
                <a:latin typeface="Times New Roman"/>
              </a:rPr>
              <a:t>Елдердің телефонмен қамтамасыз етілуі (1000 адамға шаққанда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52" name=""/>
          <p:cNvGraphicFramePr/>
          <p:nvPr/>
        </p:nvGraphicFramePr>
        <p:xfrm>
          <a:off x="571680" y="1714680"/>
          <a:ext cx="7000560" cy="3663720"/>
        </p:xfrm>
        <a:graphic>
          <a:graphicData uri="http://schemas.openxmlformats.org/drawingml/2006/table">
            <a:tbl>
              <a:tblPr/>
              <a:tblGrid>
                <a:gridCol w="2333520"/>
                <a:gridCol w="2333520"/>
                <a:gridCol w="233352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Ең жоғары көрсеткіш (600-ден артық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рташа көрсеткіш (200-30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Ең төменгі көрсеткіш (10-нан төмен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86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рландия -2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86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атвия-2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8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рея Республикасы -2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гария -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p:transition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400" spc="-1" strike="noStrike">
                <a:solidFill>
                  <a:srgbClr val="000000"/>
                </a:solidFill>
                <a:latin typeface="Times New Roman"/>
              </a:rPr>
              <a:t>Картамен жұмыс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4" name="Picture 3" descr=""/>
          <p:cNvPicPr/>
          <p:nvPr/>
        </p:nvPicPr>
        <p:blipFill>
          <a:blip r:embed="rId1"/>
          <a:stretch/>
        </p:blipFill>
        <p:spPr>
          <a:xfrm>
            <a:off x="500040" y="1214280"/>
            <a:ext cx="7929720" cy="535320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4T08:04:02Z</dcterms:created>
  <dc:creator>Zavuch</dc:creator>
  <dc:description/>
  <dc:language>en-US</dc:language>
  <cp:lastModifiedBy>User</cp:lastModifiedBy>
  <dcterms:modified xsi:type="dcterms:W3CDTF">2010-03-21T17:29:50Z</dcterms:modified>
  <cp:revision>25</cp:revision>
  <dc:subject/>
  <dc:title>№79 орта мектеп</dc:title>
</cp:coreProperties>
</file>