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BBC8-6855-4262-9C89-E44C6936F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11D7-5173-4812-86A5-CFCE15DD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F5CD9-ADE8-4F84-A993-0073EBD8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1E4E8-BE83-4B09-A25A-086E6BD0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C3192-A45D-4E4E-BB6A-E5C13B19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E198B-5516-438A-8F0E-21727BEC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195F8-3C1B-4787-B64A-11AF9977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2AAD7-1B25-46F3-92DF-BDA1081A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463AB-389F-49FA-850E-258B61A1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DC136-75AF-4939-A527-3E1F5BF2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75D4D-6D43-42DB-A6DD-2912D35D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C7B2D-A279-4042-B49F-CFE39587D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570A-8389-452E-92C7-2D9EF872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610071-616D-485B-8DAD-F7F848B9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A9DDB-285D-4CA4-AA0D-DD53D95A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12B6A-3CB9-4E0B-B06A-3EBB5578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4B52B-58A9-42D6-8074-6A06B146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61E67-5445-4E30-8F9A-E4BDA04A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B3E744-9A06-4E45-A813-4EA28AF0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3BC58-C6B2-4FB4-84A3-021BD28B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EA455-DEBF-4B4F-8B7D-550D07C2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EF85CB-0889-426E-A76E-24A91288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1C68C4-513B-4ED8-8AFE-B2E98BA1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65FA-BF5A-4272-BB5D-49DE2BE5B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746ED-9244-4831-8084-130B5BD5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36C0A-102B-4A73-A814-1DA65DCA8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5765B-1B88-4399-9142-7F0D50AA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B7932-296A-4F41-BDFD-719B8BE1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24954-F4E8-4239-B492-85E7866E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3926B-BD07-48C9-910D-46134178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EC190-E7C8-4DC1-A238-D4A75CED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C9601-E131-418C-BA57-95D1B77E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7A566-1C04-42E0-BA84-2EC2EA9F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990D7-A6FB-45D9-A6B3-C8B10847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2C0F-7804-42EE-A6C1-93FE73625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5EB5D-683A-4491-9EB5-86CB4FCB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2FA0C-3D71-469D-AF23-34621451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9669B-5EA4-42B0-943C-3A39DCC2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FBCDA6-B272-4DB4-9E2B-13EF86E1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7BAAD-8E15-4F2E-83C4-B94D24CA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48D29-319A-44EC-9A23-FEF61372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D60CF-A430-4B0C-ADA9-B833DA89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7A81C-331A-40CB-8EE2-24FC4E05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D26A7E-CEBB-4EEF-BE03-B7924759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30CF79-B006-460B-AD34-80B2549A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5FAA-3943-4B34-A00C-51BD08C3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D4F6E3-1623-4FCC-AB77-58EAC226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5BDC9-F919-4A6F-A449-88F13BDC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30EE5-A25B-4660-91F0-EFE7F4AA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DA97A1-B17E-4B73-9954-B136C3FA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150E5-C716-41B5-9AED-367959FA2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F5F2C4-C3E9-4301-A7DA-BD8618719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4B05D6-8A46-467A-95FE-9B2C6263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A4D6AF-051A-4394-9BC1-25266ECC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4B8305-23DC-4363-A79C-8B400BBF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BE2584-35E4-4690-B140-BFACAFC3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D1A3-A091-4794-A230-2B98DD7D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60C20B-8C03-4F3A-A3AB-55ABA609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FEADCB-5DCA-412F-914F-6238B086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759D85-1DA2-4E9D-A76B-D955ED94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912D0A-E71E-406F-B75E-3563D0EF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1F016D-ED8F-4812-856C-D85F1E4F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B5100A-995B-470D-8130-C9B5670C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B52CDC-1A1B-452C-AB6C-0F00CAB8C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A09F-5319-4F06-8C9E-AF9D2634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C789-6E90-437F-93E0-E46C3F49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3A5B-DB84-4B01-BF6A-2AE15242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8748-281D-45B4-9AB9-7793C075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7D2C-7E31-44B6-AB23-8C7A390A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7CA3-FE7B-4E3D-9F97-16B83DB3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9A16-43B6-433C-9F42-DC6F057E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091B-60FA-4F75-B686-7EDD1E44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8A38-B195-40BA-92BE-AF30DC092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7E35-D21D-4BD2-B636-8D5BBC844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0FE41-EE9F-4DDB-A8CF-4D262CDBB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5F5F4-922F-4066-BFFC-CAB42FA4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0A506-DA88-42C3-9816-659AB0C1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5A8CC-A132-458D-8190-CDB00FF8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D47D9-A22A-4987-A677-A9647BE0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3D0A-4F62-460F-9924-FC0BB213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42A0F-6470-4B00-80E9-1E61AF2B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9FFC7-A707-4E0E-842A-23441136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7BEE9-8E3D-4040-9E92-2EC6E76A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8E9D5-7FCC-4F21-B139-59694C36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C56DD-9845-4B6D-9BE0-4E24BFAC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96532-342D-479C-8B51-EA7F57441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84196-F7A1-4606-B600-C7164319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D10FA-7133-4B5F-A7C6-0816BC792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1BDCA-5D03-4FA9-AFE3-17342ED9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CA035-A3FE-474A-AEF6-54D68B52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966F-0525-450C-86F0-10BBFD5A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DE545-09D7-47AC-A423-ECD53501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05E60-61BD-4C1C-A46E-C5AC9798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9F4EB-F8B1-4893-97B2-4BB6AC7C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FD7C7-799D-413E-A463-64D624E6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9B61B-EB49-4694-9246-4F88E270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72E10-99B9-4531-BC47-1FC424F5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10BD6-95E4-44AF-9B02-03AD1039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BF905-FD26-4C1E-B8C5-C2165E210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662E2-0D94-4A20-A8C4-924CD55D2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DE822-12DA-442D-B296-5459B1770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BF59-23F9-4CAF-8D1A-CAB9E189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F9831-2601-4617-A401-F2FDF023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C1AAA-C97E-42EE-931F-4CE456F3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ACFED-FC42-42E8-AD6B-689EF415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431B8-D949-428F-A426-C888292C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3B78D-3347-4F19-9660-3FC33A25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7F604-48FE-4320-8F7B-B2ECEF26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55F3B-10C5-4C93-947F-3ABF8B40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3AC43-20CE-45EE-BD56-A6286FCA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00965-8B71-4E6D-8E10-84011C03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02708-2A87-41C0-B58E-28F9AE87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F0B7-CF1A-479B-84DE-A576F37B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A577D-4EF4-4120-964D-782ADE772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B81EE-7EB4-4841-872E-05A58B32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9580D-C73C-4023-8B58-3C06277F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32360-D12E-4B3A-A2D8-5B5FE096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C09D4-F1AA-4E38-AA55-92615236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F9896-EF45-4E2F-B849-3D2FA35A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AA31C-EB9D-4A0B-B3F1-C184D91E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B928B-4A9C-4ABE-9190-AC06C575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B1E34-EF1F-4E97-BF4B-41E2D722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9AA61-27DC-4677-898D-06563280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A53B-3E23-4C61-AF47-2DF54763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9D53C-9948-4994-8396-49AC0A96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9EFB1-459D-4C56-BA5D-81E47F111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8CFB0-5752-4268-AA52-D893E975A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AE6CB-F13D-4346-B426-C9CB1BDE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E14AC-91CE-4F59-BACE-D973D1C7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17105-8148-417B-8C7A-E25BC7F6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DE1BE-C8C3-47D0-A30D-235EE549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FBD35-34B1-408E-BA09-596286EF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E126A-F950-4C8D-BD51-506F22D0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27389-20F2-40B1-91DC-78F99B00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156D-6207-472A-984A-986B113C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5E357-9758-4CE1-9A37-AB64CB73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33AB9-E270-4DC0-A8FC-C35B4D78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FD9C2-8FC5-4981-A10C-16196956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96705-64E0-404F-ADC0-D68325622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29D0B-AC6D-4D91-AC49-11A93566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B4AAB-10B1-48AC-A813-C224D9B6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516FB-DF3E-4D9B-AB72-13A54193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8D6C8-FE48-4B2D-B3FE-440AE620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370B8-D267-4419-BCE5-5DD7F403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5D5F2-61F1-4AB7-923D-97FB3E04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3D36-A2D3-4CA4-A1C5-44D71423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AC4E8-B987-4430-87AF-64C6AD5B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6A542-2D2E-411C-A134-C539432D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F8FEB-33F6-4D4B-A862-8BE2ACF3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46CF5-7F14-4774-A7EB-90675499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0369C-E6AD-48CC-9679-FC2F3AE2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F7842-9C37-401E-A40F-90218B71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AD325-6527-48F5-81DE-0DCA9D9D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52098-0596-41D7-BC3F-E3BD40F1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BAAF1-4C94-4E21-9383-87F7E570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7ADA4-FC5F-46BD-B478-6F1FE467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FCA4-E609-4AB6-BA03-0BC45CE887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D6DF-0967-4768-8920-67D34CE6E4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31A3-6121-420D-A81F-5C9AA0E2A3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0047-6904-437E-B122-042CE8C999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AFC5-3780-40CA-BF01-54074541C4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B707-627F-4BBB-9B37-01CBBF900A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87AD-8735-413C-A2CA-689237EE3C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DCC8-19AD-4870-8144-E30D76A097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87BF-1014-4C28-95EF-E5A748341D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494C-9CD3-40A2-A392-DED3BAF5E7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890C-A4D8-4163-80D2-966DC4EA65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5B72-CD50-4DD9-93FC-EC06E0DE84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61AE-DD31-4B2E-813D-F965E3F175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8286840" cy="9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79 орта мектеб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539280" y="3068640"/>
            <a:ext cx="8286840" cy="2571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10 сынып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География пәнінің мұғалімі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Марқабаева Қамар Марқабайқыз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89898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5" name="Picture 4" descr="GUESTAN"/>
          <p:cNvPicPr/>
          <p:nvPr/>
        </p:nvPicPr>
        <p:blipFill>
          <a:blip r:embed="rId1"/>
          <a:stretch/>
        </p:blipFill>
        <p:spPr>
          <a:xfrm>
            <a:off x="6588000" y="189000"/>
            <a:ext cx="2248200" cy="172728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Жалпы сөздік қоры-  </a:t>
            </a:r>
            <a:br>
              <a:rPr sz="3200"/>
            </a:b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(жаңа сөздер бойынш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Автомоби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Құбы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Теңі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Өзен-кө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Әу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Телеф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Контейнерлік көпірл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Су ас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Құрғақ жү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ІІ-түр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ңі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ейнерлік көпі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ұбы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ас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Географиялық диктан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214200" y="1213920"/>
            <a:ext cx="3929040" cy="5643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ние жүзіндегі теміржолдың жалпы ұзындығы жөнінен қай мемлекет алда келеді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Теңіз жолының ежелден белгілі аудан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Шаруашылық саласыныың басты үшінші салас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Қазақстан әлемдік интернет  жүйесі қай жылдан бері тұрақты қосылд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Байланыс жүйесі өте күшті дамыған ел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Дүние жүзіндегі ең ірі әуежайлар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Көліктің ең жаңа және қарқынды дамып келе жатқан түрі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Дүние жүзіндегі ең ірі мұнай құбырлар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Қазақстандағы жолаушы және жүк тасымалының аса қарқынды салас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Ірі кеме жүзетін каналдар  мен өзен жолдарына қандай  су жолы жатад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4429080" y="4286160"/>
          <a:ext cx="2397240" cy="365040"/>
        </p:xfrm>
        <a:graphic>
          <a:graphicData uri="http://schemas.openxmlformats.org/drawingml/2006/table">
            <a:tbl>
              <a:tblPr/>
              <a:tblGrid>
                <a:gridCol w="2397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4357800" y="1214280"/>
          <a:ext cx="3452760" cy="5143680"/>
        </p:xfrm>
        <a:graphic>
          <a:graphicData uri="http://schemas.openxmlformats.org/drawingml/2006/table">
            <a:tbl>
              <a:tblPr/>
              <a:tblGrid>
                <a:gridCol w="2500200"/>
                <a:gridCol w="952560"/>
              </a:tblGrid>
              <a:tr h="644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) Жағалық, Ұлы, Волга, Рейн-Майн-Дун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ауаб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өлі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троу, Хане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лант мұх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Қ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ьюстон, Нью-Йор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Қ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3 жыл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іржол көліг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Әуе көлігі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563" name="Picture 8" descr="WHICHB"/>
          <p:cNvPicPr/>
          <p:nvPr/>
        </p:nvPicPr>
        <p:blipFill>
          <a:blip r:embed="rId2"/>
          <a:stretch/>
        </p:blipFill>
        <p:spPr>
          <a:xfrm>
            <a:off x="7524720" y="5572080"/>
            <a:ext cx="1619280" cy="1285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835344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Логикалық ойлау    </a:t>
            </a: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(сөзжұмбақ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42560" y="1268280"/>
            <a:ext cx="3492360" cy="5113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уе көліг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рі кеме жүзетін су жолы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ндай елдерде көлік қатынасы жоғары дамыған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оғары жылдамдықтағы теміржол желісі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лықаралық маңызы бар ірі пор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ң ірі әуежайдың бірі Хитроу қай қалада орналасқан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әулігіне 140км өтетін бұғаз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4 жылдан бері Қазақстан қандай әлемдік жүйеге қосыл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дық стан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ҚШ-тың аса ірі машина жасау компанияс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3786120" y="1000080"/>
          <a:ext cx="5072040" cy="5572080"/>
        </p:xfrm>
        <a:graphic>
          <a:graphicData uri="http://schemas.openxmlformats.org/drawingml/2006/table">
            <a:tbl>
              <a:tblPr/>
              <a:tblGrid>
                <a:gridCol w="338040"/>
                <a:gridCol w="338400"/>
                <a:gridCol w="338040"/>
                <a:gridCol w="338040"/>
                <a:gridCol w="338400"/>
                <a:gridCol w="338040"/>
                <a:gridCol w="338040"/>
                <a:gridCol w="338040"/>
                <a:gridCol w="338400"/>
                <a:gridCol w="338040"/>
                <a:gridCol w="338040"/>
                <a:gridCol w="338040"/>
                <a:gridCol w="338400"/>
                <a:gridCol w="338040"/>
                <a:gridCol w="338040"/>
              </a:tblGrid>
              <a:tr h="557280">
                <a:tc gridSpan="7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  <a:tr h="5572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9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6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72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69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7" name="TextBox 4"/>
          <p:cNvSpPr/>
          <p:nvPr/>
        </p:nvSpPr>
        <p:spPr>
          <a:xfrm>
            <a:off x="6500880" y="6000840"/>
            <a:ext cx="35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6500880" y="6072120"/>
          <a:ext cx="357120" cy="487440"/>
        </p:xfrm>
        <a:graphic>
          <a:graphicData uri="http://schemas.openxmlformats.org/drawingml/2006/table">
            <a:tbl>
              <a:tblPr/>
              <a:tblGrid>
                <a:gridCol w="35712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9" name="Picture 4" descr="52"/>
          <p:cNvPicPr/>
          <p:nvPr/>
        </p:nvPicPr>
        <p:blipFill>
          <a:blip r:embed="rId2"/>
          <a:stretch/>
        </p:blipFill>
        <p:spPr>
          <a:xfrm>
            <a:off x="0" y="-747720"/>
            <a:ext cx="1463760" cy="1800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Спорт жары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а) жүгір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ә) ауыр атлети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б) ұзындыққа секір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в) күре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Жүгіру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Кім бірінші болып белгілі бір тақырып бойынша 10 сөз жаза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Ауыр атле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м ең ауыр сөзді жазады, ең көп әріптен тұратын сөз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Ұзындыққа секір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м ең ұзын сөйлемді бірінші жазад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Күре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р оқушы бір – біріне сұрақтар қоя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Құпия сөзді шеш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9360">
            <a:solidFill>
              <a:srgbClr val="fcd5b5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.... – гидросфераны танкерлер мен мыңдаған шаршы жерлерді қатерсіз (мұнай) ластай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Атмосфераны басты ластаушы  ................ көліг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AutoShape 4"/>
          <p:cNvSpPr/>
          <p:nvPr/>
        </p:nvSpPr>
        <p:spPr>
          <a:xfrm>
            <a:off x="2195640" y="2924280"/>
            <a:ext cx="2952720" cy="3025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a6a6a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5"/>
          <p:cNvSpPr/>
          <p:nvPr/>
        </p:nvSpPr>
        <p:spPr>
          <a:xfrm>
            <a:off x="2050920" y="3213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6"/>
          <p:cNvSpPr/>
          <p:nvPr/>
        </p:nvSpPr>
        <p:spPr>
          <a:xfrm>
            <a:off x="2050920" y="3500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7"/>
          <p:cNvSpPr/>
          <p:nvPr/>
        </p:nvSpPr>
        <p:spPr>
          <a:xfrm>
            <a:off x="2700360" y="321300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8"/>
          <p:cNvSpPr/>
          <p:nvPr/>
        </p:nvSpPr>
        <p:spPr>
          <a:xfrm>
            <a:off x="3276720" y="3213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9"/>
          <p:cNvSpPr/>
          <p:nvPr/>
        </p:nvSpPr>
        <p:spPr>
          <a:xfrm>
            <a:off x="3276720" y="3357720"/>
            <a:ext cx="14292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0"/>
          <p:cNvSpPr/>
          <p:nvPr/>
        </p:nvSpPr>
        <p:spPr>
          <a:xfrm>
            <a:off x="3708360" y="321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1"/>
          <p:cNvSpPr/>
          <p:nvPr/>
        </p:nvSpPr>
        <p:spPr>
          <a:xfrm>
            <a:off x="3708360" y="335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"/>
          <p:cNvSpPr/>
          <p:nvPr/>
        </p:nvSpPr>
        <p:spPr>
          <a:xfrm>
            <a:off x="3708360" y="3500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3"/>
          <p:cNvSpPr/>
          <p:nvPr/>
        </p:nvSpPr>
        <p:spPr>
          <a:xfrm flipH="1">
            <a:off x="4284360" y="3213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4"/>
          <p:cNvSpPr/>
          <p:nvPr/>
        </p:nvSpPr>
        <p:spPr>
          <a:xfrm>
            <a:off x="500364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15"/>
          <p:cNvSpPr/>
          <p:nvPr/>
        </p:nvSpPr>
        <p:spPr>
          <a:xfrm>
            <a:off x="4643280" y="31417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16"/>
          <p:cNvSpPr/>
          <p:nvPr/>
        </p:nvSpPr>
        <p:spPr>
          <a:xfrm>
            <a:off x="5580000" y="3141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7"/>
          <p:cNvSpPr/>
          <p:nvPr/>
        </p:nvSpPr>
        <p:spPr>
          <a:xfrm>
            <a:off x="1835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8"/>
          <p:cNvSpPr/>
          <p:nvPr/>
        </p:nvSpPr>
        <p:spPr>
          <a:xfrm>
            <a:off x="1835280" y="450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9"/>
          <p:cNvSpPr/>
          <p:nvPr/>
        </p:nvSpPr>
        <p:spPr>
          <a:xfrm>
            <a:off x="1835280" y="4653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20"/>
          <p:cNvSpPr/>
          <p:nvPr/>
        </p:nvSpPr>
        <p:spPr>
          <a:xfrm>
            <a:off x="2340000" y="450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21"/>
          <p:cNvSpPr/>
          <p:nvPr/>
        </p:nvSpPr>
        <p:spPr>
          <a:xfrm>
            <a:off x="255600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22"/>
          <p:cNvSpPr/>
          <p:nvPr/>
        </p:nvSpPr>
        <p:spPr>
          <a:xfrm flipH="1">
            <a:off x="234000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23"/>
          <p:cNvSpPr/>
          <p:nvPr/>
        </p:nvSpPr>
        <p:spPr>
          <a:xfrm flipH="1">
            <a:off x="2340000" y="465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24"/>
          <p:cNvSpPr/>
          <p:nvPr/>
        </p:nvSpPr>
        <p:spPr>
          <a:xfrm>
            <a:off x="2843280" y="450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25"/>
          <p:cNvSpPr/>
          <p:nvPr/>
        </p:nvSpPr>
        <p:spPr>
          <a:xfrm>
            <a:off x="3419640" y="450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26"/>
          <p:cNvSpPr/>
          <p:nvPr/>
        </p:nvSpPr>
        <p:spPr>
          <a:xfrm>
            <a:off x="3419640" y="486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27"/>
          <p:cNvSpPr/>
          <p:nvPr/>
        </p:nvSpPr>
        <p:spPr>
          <a:xfrm>
            <a:off x="3924360" y="450864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28"/>
          <p:cNvSpPr/>
          <p:nvPr/>
        </p:nvSpPr>
        <p:spPr>
          <a:xfrm flipV="1">
            <a:off x="4067280" y="45082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29"/>
          <p:cNvSpPr/>
          <p:nvPr/>
        </p:nvSpPr>
        <p:spPr>
          <a:xfrm>
            <a:off x="4500720" y="450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30"/>
          <p:cNvSpPr/>
          <p:nvPr/>
        </p:nvSpPr>
        <p:spPr>
          <a:xfrm>
            <a:off x="4500720" y="486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31"/>
          <p:cNvSpPr/>
          <p:nvPr/>
        </p:nvSpPr>
        <p:spPr>
          <a:xfrm>
            <a:off x="507672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32"/>
          <p:cNvSpPr/>
          <p:nvPr/>
        </p:nvSpPr>
        <p:spPr>
          <a:xfrm>
            <a:off x="507672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33"/>
          <p:cNvSpPr/>
          <p:nvPr/>
        </p:nvSpPr>
        <p:spPr>
          <a:xfrm>
            <a:off x="5364000" y="4797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34"/>
          <p:cNvSpPr/>
          <p:nvPr/>
        </p:nvSpPr>
        <p:spPr>
          <a:xfrm flipH="1">
            <a:off x="5076720" y="4941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35"/>
          <p:cNvSpPr/>
          <p:nvPr/>
        </p:nvSpPr>
        <p:spPr>
          <a:xfrm>
            <a:off x="5651640" y="4508640"/>
            <a:ext cx="21564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36"/>
          <p:cNvSpPr/>
          <p:nvPr/>
        </p:nvSpPr>
        <p:spPr>
          <a:xfrm>
            <a:off x="5867280" y="44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37"/>
          <p:cNvSpPr/>
          <p:nvPr/>
        </p:nvSpPr>
        <p:spPr>
          <a:xfrm flipH="1">
            <a:off x="6156360" y="4508640"/>
            <a:ext cx="21600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38"/>
          <p:cNvSpPr/>
          <p:nvPr/>
        </p:nvSpPr>
        <p:spPr>
          <a:xfrm>
            <a:off x="673272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39"/>
          <p:cNvSpPr/>
          <p:nvPr/>
        </p:nvSpPr>
        <p:spPr>
          <a:xfrm>
            <a:off x="702000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40"/>
          <p:cNvSpPr/>
          <p:nvPr/>
        </p:nvSpPr>
        <p:spPr>
          <a:xfrm flipH="1">
            <a:off x="6732720" y="5013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4" descr="52"/>
          <p:cNvPicPr/>
          <p:nvPr/>
        </p:nvPicPr>
        <p:blipFill>
          <a:blip r:embed="rId1"/>
          <a:stretch/>
        </p:blipFill>
        <p:spPr>
          <a:xfrm>
            <a:off x="0" y="4626000"/>
            <a:ext cx="1655640" cy="2232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Сабақтың тақырыбы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263520" y="1844280"/>
            <a:ext cx="73864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Көлік және байланыс” географиясы тақырыбын қайтала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Times New Roman"/>
              </a:rPr>
              <a:t>Бағалау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263520" y="1143000"/>
            <a:ext cx="7386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ПМ-матрица посадочных ме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1-әр оқушының  таңбас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/ - жоқ оқушының белгісі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785880" y="1785960"/>
          <a:ext cx="6095880" cy="18540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Calibri"/>
              </a:rPr>
              <a:t>Үйге тапсырм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қайтала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000000"/>
                </a:solidFill>
                <a:latin typeface="Times New Roman"/>
              </a:rPr>
              <a:t>Назар қойып тыңдағандарыңызға рахмет</a:t>
            </a:r>
            <a:r>
              <a:rPr b="1" i="1" lang="kk-K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kk-KZ" sz="3600" spc="-1" strike="noStrike">
                <a:solidFill>
                  <a:srgbClr val="000000"/>
                </a:solidFill>
                <a:latin typeface="Times New Roman"/>
              </a:rPr>
              <a:t>Бірде – бір ұстаз өзінің ең маңызды міндеті – тәрбиеленушілерді ақыл – ой еңбегіне үйретуден тұратынын және бұл міндеттің пәннің өзін айтып жеткізуге қарағанда анағұрлым маңызды екенін ұмытуға тиіс емес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К.Д.Ушин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4" descr="GUESTAN"/>
          <p:cNvPicPr/>
          <p:nvPr/>
        </p:nvPicPr>
        <p:blipFill>
          <a:blip r:embed="rId1"/>
          <a:stretch/>
        </p:blipFill>
        <p:spPr>
          <a:xfrm>
            <a:off x="539640" y="5445000"/>
            <a:ext cx="1779840" cy="1727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Сабақтың мақсаты:</a:t>
            </a:r>
            <a:r>
              <a:rPr b="0" lang="kk-K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Білімділік</a:t>
            </a: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 дүниежүзіндегі көліктің даму сипаты мен байланыс құралдары жайында білімдерін жинақта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Тәрбиелік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:  оқушыларды танымдық – эстетикалық әрекеттерге тәрбиеле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Дамытушылық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: оқушылардың өткен білімдеріне сүйене отырып, жылдам ойлау дағдысын қалыптастыр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ба</a:t>
            </a:r>
            <a:r>
              <a:rPr b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тың бөлімі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Жылдам жаттығ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Жалпы сөздік қоры (жаңа сөздер бойынш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Географиялық диктан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огикалық ойла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порт жары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Құпия сөзді шеш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Times New Roman"/>
              </a:rPr>
              <a:t>Жылдам жаттығ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) сұрақта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б) сызба нұсқа бойынша жұмы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в) картамен жұмыс  жасау</a:t>
            </a: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Times New Roman"/>
              </a:rPr>
              <a:t>Сұрақтар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Көлік жүйесі дегеніміз н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Кең тараған қандай байланыс құралдарын білесіңдер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Теміржол желілерінің жиілігі нені көрсетеді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Көлік түрлерінің ең ежелгі және ең жаңа түрлерін атаңдар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Picture 8" descr="WHICHB"/>
          <p:cNvPicPr/>
          <p:nvPr/>
        </p:nvPicPr>
        <p:blipFill>
          <a:blip r:embed="rId1"/>
          <a:stretch/>
        </p:blipFill>
        <p:spPr>
          <a:xfrm>
            <a:off x="6804000" y="5373720"/>
            <a:ext cx="2000160" cy="1285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7" name=""/>
          <p:cNvGraphicFramePr/>
          <p:nvPr/>
        </p:nvGraphicFramePr>
        <p:xfrm>
          <a:off x="611280" y="2286000"/>
          <a:ext cx="6889680" cy="2855880"/>
        </p:xfrm>
        <a:graphic>
          <a:graphicData uri="http://schemas.openxmlformats.org/drawingml/2006/table">
            <a:tbl>
              <a:tblPr/>
              <a:tblGrid>
                <a:gridCol w="1339920"/>
                <a:gridCol w="1339560"/>
                <a:gridCol w="995400"/>
                <a:gridCol w="1239840"/>
                <a:gridCol w="1974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лды</a:t>
                      </a: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ң ат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еңдігі,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ні,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Ұзынды-ғы, к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-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-3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-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Сызба нұсқамен жұмы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ме жүзетін ірі каналда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Елдердің телефонмен қамтамасыз етілуі (1000 адамға шаққанд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2" name=""/>
          <p:cNvGraphicFramePr/>
          <p:nvPr/>
        </p:nvGraphicFramePr>
        <p:xfrm>
          <a:off x="571680" y="1714680"/>
          <a:ext cx="7000560" cy="3663720"/>
        </p:xfrm>
        <a:graphic>
          <a:graphicData uri="http://schemas.openxmlformats.org/drawingml/2006/table">
            <a:tbl>
              <a:tblPr/>
              <a:tblGrid>
                <a:gridCol w="2333520"/>
                <a:gridCol w="2333520"/>
                <a:gridCol w="2333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ң жоғары көрсеткіш (600-ден артық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таша көрсеткіш (200-3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ң төменгі көрсеткіш (10-нан төме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ландия -2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твия-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ея Республикасы -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гария -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Картамен жұмы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Picture 3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7929720" cy="53532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08:04:02Z</dcterms:created>
  <dc:creator>Zavuch</dc:creator>
  <dc:description/>
  <dc:language>en-US</dc:language>
  <cp:lastModifiedBy>User</cp:lastModifiedBy>
  <dcterms:modified xsi:type="dcterms:W3CDTF">2010-03-21T17:29:50Z</dcterms:modified>
  <cp:revision>25</cp:revision>
  <dc:subject/>
  <dc:title>№79 орта мектеп</dc:title>
</cp:coreProperties>
</file>