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3C9-61A2-4436-91F7-740A1B65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6D98-F0E2-4AD8-926C-A9CFE758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653FB-73FB-4667-9F86-4FAA8BE0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C0627-558D-41F8-B325-256438FC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B3F9A-1797-48C0-83B6-E4DE985F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9B3A7-9597-426F-AE11-75A897C0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6C0AC-E61E-4C48-9B86-C50CD81B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5A4F6-F595-423D-A065-E2BC1EA4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7995F-6843-4168-AA5B-9728060A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AA471-082F-4318-A14D-00775DE1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BDE65-DEEB-4EAB-9A9F-1E07774C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19D3D-04BF-4444-9FC6-8C7F8570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88F8-1351-4038-8704-38AA8880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7791C-2C6A-4348-B919-0C576611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08E25-EE03-4DA8-BBBF-358B84DC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AE73F-D27A-4191-B15C-9DFB87D8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86B6B-9499-4230-B208-CFD8818D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B8CDC-0DD6-4FDD-B969-A50EB4A2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560CD-E289-4436-BBAF-894CEAFD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5FDAA-ACA1-4F21-9C94-B17A9BBC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A3DA4-7D0D-4FF7-AFF2-E84390C9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AEB67-7ABE-46AC-8CCA-51F960C6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17F80-A980-4493-A1A2-15F157B2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691B-E7FB-48E6-A300-B1950A7C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4658D-27FF-490B-AFA1-9FA68B33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BC4CA-AB04-4929-9498-3AB5BAB6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0F4E2-52D5-4C68-BB88-07D5013D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A3063-15AB-46A5-9480-0610EB47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172F3-FE96-4ED8-BFE4-90E3EEC2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25EA7-3C77-488B-B37C-5E73EF3E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17929-FA97-4D7C-9D27-C6E6211F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A6627-0038-4312-8162-3DA50D21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479B6-83AB-4F4A-ABA6-7FD3FA1D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39CFC-3184-45E6-96E3-202991FC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4F2A-EB0B-427D-944E-61E81CC2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2A650-78EF-479B-ABA0-3FAE93CD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60A12-10AB-42C5-B315-9AB5D189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98873-9812-4FCE-81FF-5AC6601F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0261B-8BC5-4D35-AC1E-87714A53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00B87-EE81-42CC-B3E8-91530396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72FAC-7CF1-44D3-B859-DF6D465F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D4959-9D7B-4285-BBB7-AA642E23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B1D30-0EDB-4171-9253-3C235C2E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27E02-0FCC-48A4-9DDE-0B17C661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FBA7A-5859-4010-86F0-3AC3D1B7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8EC2-2AA2-4388-8EC8-138F59A4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4125B-8DB2-4483-8BDF-AB1DE518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A5EEE-8914-4DB4-BE49-0DF7E010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6453F-32B8-4DF3-A788-DAEE9FD3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74CAB-7197-43F2-A971-8589FB99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5DA6F-BC62-4645-9F1C-B9D13554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F8643-384E-4F85-AAEE-827CD9F5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05A69B-5ABC-4DC9-9514-257FE6F0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C5F557-A083-4411-9802-24E1AC1D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4C190C-0CC0-412A-96F4-534FDE99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DC492D-08F9-40D9-B07D-5CF5BC4F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5E50-4F62-4CA0-8565-3E274104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FE8D2-628D-40BB-B742-3C8B5506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01A768-49FD-467A-B23E-856A2EE1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2B24F-EC31-4083-9C4D-17D6CA83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B99D5-CA23-4B4A-995A-B80F1A99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22D02A-58A9-484D-8B8B-976FDB12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4278AB-E81C-4111-8D49-660E7D28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BB227-9D53-4854-B98E-B105CEE1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57E7-0F4E-4581-9E1F-769D1331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6159-E05E-42FC-B67E-9187A73A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62D1-2917-458B-B111-53B5868C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C418-AF72-4B00-BDAA-775F6312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1EF0-8F11-42B0-AD68-736F549B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2C2A-41D6-4D6A-89F4-63FFEF09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AF7B-9939-4B71-8192-920102D3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A52B-6FB5-4017-99B3-F6CE52F2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8B89-E55E-4CFD-8DF4-E8762286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76B6-725F-472C-B489-9A138454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3DFF0-F486-483B-B14B-D4C15185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3FD9C-2F2D-4593-B6DF-4327A03D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19C88-8820-42F8-956B-38705459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02AB5-085E-4869-95AC-3582FBF0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8993F-8BAD-43DC-B750-F34793D0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4DE-FF4B-4A0B-986C-B12CD041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3EB39-AD06-40C4-8ECD-D4D9E077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B34E8-B70E-4D35-8DF8-F3EB3991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920A4-F67D-4B6E-90D9-3D7F6F64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99064-22EC-427E-8DCE-6E1A67FC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47123-7C74-4D86-B145-5B5CE116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E10F2-8670-4D39-8620-AB0060FF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78269-7CCB-4C4C-8825-D4FC3D3A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E3A63-8098-440F-B78F-4604E0B4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7033B-F4B8-4EA3-96D8-ADAEFA54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04389-B2D9-4EBE-9190-F22E12A1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0EB5-9BEB-469C-AE5A-0BD30F52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87E0A-76DE-4D3F-B1F9-0B8137E2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420E8-F915-48EC-9F59-554CFDAE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E2914-9C4A-4498-A7F3-EA1D05F4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44621-6C61-42BF-8129-49C43A5A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DF8B1-418D-48C0-8A18-CE885D18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F19E4-EFCC-42CE-964A-2509F344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C8DB0-2B3A-48A1-A897-F91A20A0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B9A1A-242B-4D02-9826-471D99EF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4C8A2-9CB0-441D-9437-5AC7789C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3CC14-550E-4938-8DF6-C60ACF6F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793F-E5CA-4DC6-9F1C-41F074F0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D9713-6C9E-483B-B761-618282BC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D42B2-1565-407C-BEDF-AB18D151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267AF-8733-4EBD-A9C2-01844158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BFAF3-7E2D-41E2-969D-8A864824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0266A-A447-4DF0-8FAA-D29AAC4B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015E8-DFC9-41E3-A43C-3F82716D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B5E56-9642-427A-8A4F-896367B7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CF565-A7AF-41CF-8123-93D08E94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7CFE9-E6D3-4863-A79B-3276D971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45954-CCE4-4275-9A5F-00786877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BF0-FEB7-48BE-8E5A-87EEF0F3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CC0F7-7EDE-4457-AD34-18CED0F1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1D58A-E07E-4151-8D35-74125FAF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305F9-D97E-4685-A13D-CFCB6E16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85473-D62D-4601-9441-28F9D05E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7EC28-00A4-43E7-A9F2-065821DF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DBB9F-4E81-44BE-9F3F-BC2DEF45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2FBDA-6B03-475E-BA18-8AC90A89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7B032-9CD0-40E6-B8B9-176ECAA5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B29FD-E1D8-4BEC-A956-481C7517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0EF45-B79C-43EB-AD11-56244A51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73D-44B4-47A0-A7FE-2CAA14C0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CD8EF-6058-4097-B9E4-4AA5D0AE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EF5EA-ECD4-4FDE-AA00-9834976B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97ABB-4174-48B1-96C4-323EE42F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69C44-3481-4949-8BB8-4CFE12AB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60479-7D08-45D3-8F50-3A978EB4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1F68D-972B-4399-A5C9-058CA80B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09F5B-BF8E-463E-90DB-C74A0C03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504B2-406F-4123-B967-B376B8D3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4EE2C-FC00-4E72-BF43-B79C90DD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FF165-691A-4D29-90F7-A975E61E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420-E25A-4424-8607-65FF31DE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63D5D-097C-4CDC-853C-6BBDB783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DC0B8-9F83-4049-931C-F578A2A5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4EFB5-E6A1-43A9-AA69-13E923B9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056A6-D5C0-4C9A-9347-C2E9B9AA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21AEE-F99B-4F0A-B206-FF3E4167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8CD78-6C28-4317-B7A3-25F0676A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411BC-037D-40A0-AC82-0FFEF6F0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B89E1-1614-480F-9851-A1B549C2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486A3-6C9E-46BD-8857-25E46EA8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D899D-8183-4DE0-9C7A-DFE5BD49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B7F-2BFE-4484-94F0-E0CCFCC8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6A936-AAC1-4C2A-ADB4-3309C409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495C4-4085-4CE3-9E96-3CAF3F6F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AF9D0-B2F9-4C07-ACD9-4027A06A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A8B85-C9F3-428A-8CFC-3EAFEF4D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EBD51-4148-4A3E-A924-AC84DECB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D8610-01A8-4FCD-99AB-8D023600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8E4CC-45CE-4CDF-8726-7417C308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9F0A6-4609-441D-B84A-C3722C94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FE8AD-B2B3-46B2-9509-296E3891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204E2-BF30-4A0C-8243-F33876F4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DCA1-54AD-4AF2-91E4-1B186EB543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3C6B-88FF-49A6-BD15-7A7DAB7E50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5ED8-1307-4449-B2C4-E07F03D113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8F60-25AE-4195-9787-5F487F9737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0C05-5A0F-46E9-B270-720E4CA423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7275-FE38-4EAE-9521-2904C77BD6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10D9-BAB4-4B01-81EB-68551965F0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ECFD-EA83-44F2-A6FE-32B396A045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5F73-7542-45D1-A743-E4F08D2669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30EF-8938-4696-960A-5E905E1CF8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EE5B-C2D8-46E0-900D-210A82BD0B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0BC3-5EDA-46DB-9DCC-88F0925A5E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CE14-90F8-4A99-9EA5-38ED9D2AC1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286840" cy="9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79 орта мектеб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539280" y="3068640"/>
            <a:ext cx="8286840" cy="257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10 сынып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География пәнінің мұғалімі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Марқабаева Қамар Марқабайқыз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89898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Picture 4" descr="GUESTAN"/>
          <p:cNvPicPr/>
          <p:nvPr/>
        </p:nvPicPr>
        <p:blipFill>
          <a:blip r:embed="rId1"/>
          <a:stretch/>
        </p:blipFill>
        <p:spPr>
          <a:xfrm>
            <a:off x="6588000" y="189000"/>
            <a:ext cx="2248200" cy="172728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Жалпы сөздік қоры-  </a:t>
            </a:r>
            <a:br>
              <a:rPr sz="3200"/>
            </a:b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(жаңа сөздер бойынш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Автомоби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Құбы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Теңі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Өзен-кө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Әу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Телеф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Контейнерлік көпірл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Су а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Құрғақ жү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ІІ-түр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ңі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йнерлік көпі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ұбы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а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Географиялық дикта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14200" y="1213920"/>
            <a:ext cx="3929040" cy="5643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ние жүзіндегі теміржолдың жалпы ұзындығы жөнінен қай мемлекет алда келеді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еңіз жолының ежелден белгілі аудан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Шаруашылық саласыныың басты үшінші салас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Қазақстан әлемдік интернет  жүйесі қай жылдан бері тұрақты қосылд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Байланыс жүйесі өте күшті дамыған ел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үние жүзіндегі ең ірі әуежайлар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Көліктің ең жаңа және қарқынды дамып келе жатқан түрі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Дүние жүзіндегі ең ірі мұнай құбырлар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Қазақстандағы жолаушы және жүк тасымалының аса қарқынды салас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Ірі кеме жүзетін каналдар  мен өзен жолдарына қандай  су жолы жатад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4429080" y="4286160"/>
          <a:ext cx="2397240" cy="365040"/>
        </p:xfrm>
        <a:graphic>
          <a:graphicData uri="http://schemas.openxmlformats.org/drawingml/2006/table">
            <a:tbl>
              <a:tblPr/>
              <a:tblGrid>
                <a:gridCol w="2397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4357800" y="1214280"/>
          <a:ext cx="3452760" cy="5143680"/>
        </p:xfrm>
        <a:graphic>
          <a:graphicData uri="http://schemas.openxmlformats.org/drawingml/2006/table">
            <a:tbl>
              <a:tblPr/>
              <a:tblGrid>
                <a:gridCol w="2500200"/>
                <a:gridCol w="952560"/>
              </a:tblGrid>
              <a:tr h="644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Жағалық, Ұлы, Волга, Рейн-Майн-Дун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ауа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өл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троу, Хан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лант мұх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Қ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ьюстон, Нью-Йор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Қ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 жыл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іржол көліг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Әуе көліг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63" name="Picture 8" descr="WHICHB"/>
          <p:cNvPicPr/>
          <p:nvPr/>
        </p:nvPicPr>
        <p:blipFill>
          <a:blip r:embed="rId2"/>
          <a:stretch/>
        </p:blipFill>
        <p:spPr>
          <a:xfrm>
            <a:off x="7524720" y="5572080"/>
            <a:ext cx="1619280" cy="1285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83534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Логикалық ойлау    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(сөзжұмбақ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42560" y="1268280"/>
            <a:ext cx="3492360" cy="511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уе көліг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рі кеме жүзетін су жол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ндай елдерде көлік қатынасы жоғары дамыған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ғары жылдамдықтағы теміржол желісі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ықаралық маңызы бар ірі пор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ң ірі әуежайдың бірі Хитроу қай қалада орналасқа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әулігіне 140км өтетін бұғаз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4 жылдан бері Қазақстан қандай әлемдік жүйеге қосыл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дық стан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ҚШ-тың аса ірі машина жасау компанияс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786120" y="1000080"/>
          <a:ext cx="5072040" cy="5572080"/>
        </p:xfrm>
        <a:graphic>
          <a:graphicData uri="http://schemas.openxmlformats.org/drawingml/2006/table">
            <a:tbl>
              <a:tblPr/>
              <a:tblGrid>
                <a:gridCol w="338040"/>
                <a:gridCol w="338400"/>
                <a:gridCol w="338040"/>
                <a:gridCol w="338040"/>
                <a:gridCol w="338400"/>
                <a:gridCol w="338040"/>
                <a:gridCol w="338040"/>
                <a:gridCol w="338040"/>
                <a:gridCol w="338400"/>
                <a:gridCol w="338040"/>
                <a:gridCol w="338040"/>
                <a:gridCol w="338040"/>
                <a:gridCol w="338400"/>
                <a:gridCol w="338040"/>
                <a:gridCol w="338040"/>
              </a:tblGrid>
              <a:tr h="557280">
                <a:tc gridSpan="7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5572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6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2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6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TextBox 4"/>
          <p:cNvSpPr/>
          <p:nvPr/>
        </p:nvSpPr>
        <p:spPr>
          <a:xfrm>
            <a:off x="6500880" y="6000840"/>
            <a:ext cx="35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6500880" y="6072120"/>
          <a:ext cx="357120" cy="487440"/>
        </p:xfrm>
        <a:graphic>
          <a:graphicData uri="http://schemas.openxmlformats.org/drawingml/2006/table">
            <a:tbl>
              <a:tblPr/>
              <a:tblGrid>
                <a:gridCol w="35712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9" name="Picture 4" descr="52"/>
          <p:cNvPicPr/>
          <p:nvPr/>
        </p:nvPicPr>
        <p:blipFill>
          <a:blip r:embed="rId2"/>
          <a:stretch/>
        </p:blipFill>
        <p:spPr>
          <a:xfrm>
            <a:off x="0" y="-747720"/>
            <a:ext cx="1463760" cy="1800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порт жары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а) жүгі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ә) ауыр атлет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б) ұзындыққа секі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в) күре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Жүгір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Кім бірінші болып белгілі бір тақырып бойынша 10 сөз жаз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Ауыр атле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м ең ауыр сөзді жазады, ең көп әріптен тұратын сө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Ұзындыққа секі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м ең ұзын сөйлемді бірінші жаза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Күре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р оқушы бір – біріне сұрақтар қоя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Құпия сөзді шеш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9360">
            <a:solidFill>
              <a:srgbClr val="fcd5b5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.... – гидросфераны танкерлер мен мыңдаған шаршы жерлерді қатерсіз (мұнай) ластай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Атмосфераны басты ластаушы  ................ көліг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AutoShape 4"/>
          <p:cNvSpPr/>
          <p:nvPr/>
        </p:nvSpPr>
        <p:spPr>
          <a:xfrm>
            <a:off x="2195640" y="2924280"/>
            <a:ext cx="2952720" cy="3025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a6a6a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5"/>
          <p:cNvSpPr/>
          <p:nvPr/>
        </p:nvSpPr>
        <p:spPr>
          <a:xfrm>
            <a:off x="2050920" y="3213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6"/>
          <p:cNvSpPr/>
          <p:nvPr/>
        </p:nvSpPr>
        <p:spPr>
          <a:xfrm>
            <a:off x="2050920" y="35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7"/>
          <p:cNvSpPr/>
          <p:nvPr/>
        </p:nvSpPr>
        <p:spPr>
          <a:xfrm>
            <a:off x="2700360" y="3213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8"/>
          <p:cNvSpPr/>
          <p:nvPr/>
        </p:nvSpPr>
        <p:spPr>
          <a:xfrm>
            <a:off x="3276720" y="321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9"/>
          <p:cNvSpPr/>
          <p:nvPr/>
        </p:nvSpPr>
        <p:spPr>
          <a:xfrm>
            <a:off x="3276720" y="3357720"/>
            <a:ext cx="1429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0"/>
          <p:cNvSpPr/>
          <p:nvPr/>
        </p:nvSpPr>
        <p:spPr>
          <a:xfrm>
            <a:off x="3708360" y="321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1"/>
          <p:cNvSpPr/>
          <p:nvPr/>
        </p:nvSpPr>
        <p:spPr>
          <a:xfrm>
            <a:off x="370836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"/>
          <p:cNvSpPr/>
          <p:nvPr/>
        </p:nvSpPr>
        <p:spPr>
          <a:xfrm>
            <a:off x="370836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3"/>
          <p:cNvSpPr/>
          <p:nvPr/>
        </p:nvSpPr>
        <p:spPr>
          <a:xfrm flipH="1">
            <a:off x="4284360" y="3213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4"/>
          <p:cNvSpPr/>
          <p:nvPr/>
        </p:nvSpPr>
        <p:spPr>
          <a:xfrm>
            <a:off x="500364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15"/>
          <p:cNvSpPr/>
          <p:nvPr/>
        </p:nvSpPr>
        <p:spPr>
          <a:xfrm>
            <a:off x="4643280" y="3141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6"/>
          <p:cNvSpPr/>
          <p:nvPr/>
        </p:nvSpPr>
        <p:spPr>
          <a:xfrm>
            <a:off x="5580000" y="3141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7"/>
          <p:cNvSpPr/>
          <p:nvPr/>
        </p:nvSpPr>
        <p:spPr>
          <a:xfrm>
            <a:off x="1835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8"/>
          <p:cNvSpPr/>
          <p:nvPr/>
        </p:nvSpPr>
        <p:spPr>
          <a:xfrm>
            <a:off x="183528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9"/>
          <p:cNvSpPr/>
          <p:nvPr/>
        </p:nvSpPr>
        <p:spPr>
          <a:xfrm>
            <a:off x="1835280" y="465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20"/>
          <p:cNvSpPr/>
          <p:nvPr/>
        </p:nvSpPr>
        <p:spPr>
          <a:xfrm>
            <a:off x="234000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21"/>
          <p:cNvSpPr/>
          <p:nvPr/>
        </p:nvSpPr>
        <p:spPr>
          <a:xfrm>
            <a:off x="255600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2"/>
          <p:cNvSpPr/>
          <p:nvPr/>
        </p:nvSpPr>
        <p:spPr>
          <a:xfrm flipH="1">
            <a:off x="2340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3"/>
          <p:cNvSpPr/>
          <p:nvPr/>
        </p:nvSpPr>
        <p:spPr>
          <a:xfrm flipH="1">
            <a:off x="234000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24"/>
          <p:cNvSpPr/>
          <p:nvPr/>
        </p:nvSpPr>
        <p:spPr>
          <a:xfrm>
            <a:off x="284328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25"/>
          <p:cNvSpPr/>
          <p:nvPr/>
        </p:nvSpPr>
        <p:spPr>
          <a:xfrm>
            <a:off x="341964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6"/>
          <p:cNvSpPr/>
          <p:nvPr/>
        </p:nvSpPr>
        <p:spPr>
          <a:xfrm>
            <a:off x="341964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27"/>
          <p:cNvSpPr/>
          <p:nvPr/>
        </p:nvSpPr>
        <p:spPr>
          <a:xfrm>
            <a:off x="3924360" y="4508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28"/>
          <p:cNvSpPr/>
          <p:nvPr/>
        </p:nvSpPr>
        <p:spPr>
          <a:xfrm flipV="1">
            <a:off x="4067280" y="4508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29"/>
          <p:cNvSpPr/>
          <p:nvPr/>
        </p:nvSpPr>
        <p:spPr>
          <a:xfrm>
            <a:off x="450072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0"/>
          <p:cNvSpPr/>
          <p:nvPr/>
        </p:nvSpPr>
        <p:spPr>
          <a:xfrm>
            <a:off x="450072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1"/>
          <p:cNvSpPr/>
          <p:nvPr/>
        </p:nvSpPr>
        <p:spPr>
          <a:xfrm>
            <a:off x="507672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2"/>
          <p:cNvSpPr/>
          <p:nvPr/>
        </p:nvSpPr>
        <p:spPr>
          <a:xfrm>
            <a:off x="507672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33"/>
          <p:cNvSpPr/>
          <p:nvPr/>
        </p:nvSpPr>
        <p:spPr>
          <a:xfrm>
            <a:off x="5364000" y="479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34"/>
          <p:cNvSpPr/>
          <p:nvPr/>
        </p:nvSpPr>
        <p:spPr>
          <a:xfrm flipH="1">
            <a:off x="507672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35"/>
          <p:cNvSpPr/>
          <p:nvPr/>
        </p:nvSpPr>
        <p:spPr>
          <a:xfrm>
            <a:off x="5651640" y="4508640"/>
            <a:ext cx="21564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36"/>
          <p:cNvSpPr/>
          <p:nvPr/>
        </p:nvSpPr>
        <p:spPr>
          <a:xfrm>
            <a:off x="586728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37"/>
          <p:cNvSpPr/>
          <p:nvPr/>
        </p:nvSpPr>
        <p:spPr>
          <a:xfrm flipH="1">
            <a:off x="6156360" y="4508640"/>
            <a:ext cx="21600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38"/>
          <p:cNvSpPr/>
          <p:nvPr/>
        </p:nvSpPr>
        <p:spPr>
          <a:xfrm>
            <a:off x="673272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39"/>
          <p:cNvSpPr/>
          <p:nvPr/>
        </p:nvSpPr>
        <p:spPr>
          <a:xfrm>
            <a:off x="702000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0"/>
          <p:cNvSpPr/>
          <p:nvPr/>
        </p:nvSpPr>
        <p:spPr>
          <a:xfrm flipH="1">
            <a:off x="6732720" y="5013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" descr="52"/>
          <p:cNvPicPr/>
          <p:nvPr/>
        </p:nvPicPr>
        <p:blipFill>
          <a:blip r:embed="rId1"/>
          <a:stretch/>
        </p:blipFill>
        <p:spPr>
          <a:xfrm>
            <a:off x="0" y="4626000"/>
            <a:ext cx="1655640" cy="2232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тақырыбы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263520" y="1844280"/>
            <a:ext cx="7386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Көлік және байланыс” географиясы тақырыбын қайтала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Times New Roman"/>
              </a:rPr>
              <a:t>Бағала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63520" y="1143000"/>
            <a:ext cx="7386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ПМ-матрица посадочных м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-әр оқушының  таңбас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/ - жоқ оқушының белгісі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785880" y="1785960"/>
          <a:ext cx="6095880" cy="1854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Calibri"/>
              </a:rPr>
              <a:t>Үйге тапсыр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қайтала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Назар қойып тыңдағандарыңызға рахмет</a:t>
            </a:r>
            <a:r>
              <a:rPr b="1" i="1" lang="kk-K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Бірде – бір ұстаз өзінің ең маңызды міндеті – тәрбиеленушілерді ақыл – ой еңбегіне үйретуден тұратынын және бұл міндеттің пәннің өзін айтып жеткізуге қарағанда анағұрлым маңызды екенін ұмытуға тиіс еме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.Д.Уши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4" descr="GUESTAN"/>
          <p:cNvPicPr/>
          <p:nvPr/>
        </p:nvPicPr>
        <p:blipFill>
          <a:blip r:embed="rId1"/>
          <a:stretch/>
        </p:blipFill>
        <p:spPr>
          <a:xfrm>
            <a:off x="539640" y="5445000"/>
            <a:ext cx="1779840" cy="1727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r>
              <a:rPr b="0" lang="kk-K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ілімділік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 дүниежүзіндегі көліктің даму сипаты мен байланыс құралдары жайында білімдерін жинақта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әрбиелік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:  оқушыларды танымдық – эстетикалық әрекеттерге тәрбиеле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Дамытушылық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: оқушылардың өткен білімдеріне сүйене отырып, жылдам ойлау дағдысын қалыптасты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ба</a:t>
            </a: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тың бөлімі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Жылдам жаттығ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Жалпы сөздік қоры (жаңа сөздер бойынш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еографиялық диктан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огикалық ойла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порт жары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Құпия сөзді шеш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</a:rPr>
              <a:t>Жылдам жаттығ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) сұрақт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) сызба нұсқа бойынша жұмы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в) картамен жұмыс  жасау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</a:rPr>
              <a:t>Сұрақтар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өлік жүйесі дегеніміз 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ең тараған қандай байланыс құралдарын білесіңде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еміржол желілерінің жиілігі нені көрсетеді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өлік түрлерінің ең ежелгі және ең жаңа түрлерін атаңдар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Picture 8" descr="WHICHB"/>
          <p:cNvPicPr/>
          <p:nvPr/>
        </p:nvPicPr>
        <p:blipFill>
          <a:blip r:embed="rId1"/>
          <a:stretch/>
        </p:blipFill>
        <p:spPr>
          <a:xfrm>
            <a:off x="6804000" y="5373720"/>
            <a:ext cx="2000160" cy="1285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7" name=""/>
          <p:cNvGraphicFramePr/>
          <p:nvPr/>
        </p:nvGraphicFramePr>
        <p:xfrm>
          <a:off x="611280" y="2286000"/>
          <a:ext cx="6889680" cy="2855880"/>
        </p:xfrm>
        <a:graphic>
          <a:graphicData uri="http://schemas.openxmlformats.org/drawingml/2006/table">
            <a:tbl>
              <a:tblPr/>
              <a:tblGrid>
                <a:gridCol w="1339920"/>
                <a:gridCol w="1339560"/>
                <a:gridCol w="995400"/>
                <a:gridCol w="1239840"/>
                <a:gridCol w="1974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лды</a:t>
                      </a: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ң а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еңдігі,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і,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Ұзынды-ғы, к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-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-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-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ызба нұсқамен жұмы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е жүзетін ірі каналд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Елдердің телефонмен қамтамасыз етілуі (1000 адамға шаққан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2" name=""/>
          <p:cNvGraphicFramePr/>
          <p:nvPr/>
        </p:nvGraphicFramePr>
        <p:xfrm>
          <a:off x="571680" y="1714680"/>
          <a:ext cx="7000560" cy="3663720"/>
        </p:xfrm>
        <a:graphic>
          <a:graphicData uri="http://schemas.openxmlformats.org/drawingml/2006/table">
            <a:tbl>
              <a:tblPr/>
              <a:tblGrid>
                <a:gridCol w="2333520"/>
                <a:gridCol w="2333520"/>
                <a:gridCol w="2333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ң жоғары көрсеткіш (600-ден артық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таша көрсеткіш (200-3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ң төменгі көрсеткіш (10-нан төме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ландия -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вия-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я Республикасы -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гария -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Картамен жұмы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7929720" cy="5353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8:04:02Z</dcterms:created>
  <dc:creator>Zavuch</dc:creator>
  <dc:description/>
  <dc:language>en-US</dc:language>
  <cp:lastModifiedBy>User</cp:lastModifiedBy>
  <dcterms:modified xsi:type="dcterms:W3CDTF">2010-03-21T17:29:50Z</dcterms:modified>
  <cp:revision>25</cp:revision>
  <dc:subject/>
  <dc:title>№79 орта мектеп</dc:title>
</cp:coreProperties>
</file>