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40C9-AFE6-498F-9ED2-0ABF366E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DE13-63B0-49DE-8577-BE6DEBBD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01A57-5615-4F33-9E31-B14891C8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3457A-06A0-4E75-BB0E-B36A3644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BA603-1194-4EE5-9052-595F98DF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C06E7-4C9F-447D-AB4A-8400E1F2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683A4-F98F-4008-BEEB-E2E2899E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B3C42-D671-486C-83A1-639E2928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C504A-A9B1-4269-A8BB-85B8B64A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95E1D-FFA9-4459-8C94-AB2E6D90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47B1C-7DD1-4E58-9A65-026E686E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8632F-A634-4035-AC4C-6CB0EC8B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33D-AD23-439D-A3DD-1C07E11C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AA3E8-C8D8-49DE-B348-7D7F09AD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70798-C930-45CA-972F-3C0A1971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9CDF8-3323-4C1F-B1C7-ADDC66B6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A1971-A40F-40FD-AB9F-C9FEB317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D9D23-56EF-49EB-9D64-83DC61B3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BA8A8-0110-4B45-889D-7884A728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B0264-650F-4835-A82C-23A57506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30D04-B895-49E6-908F-9B4602C3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B8279-9C3C-4969-A15C-B1BA6EA7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4A5D2-3E0A-4FFF-876E-B9BF3F9B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D82-E511-460C-AD71-82E329AB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D2B3B-9472-4577-8FE1-918CC1E8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7585D-2FDC-48AC-94FC-61D1FB2F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D3DA0-2592-4977-AF5F-1DFA0979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477EE-EA45-43C3-876D-CF92A67D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612D7-210B-4995-B965-1C030F58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DCC1F-6DA8-4777-8867-A2720E6C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BF525-3E93-488C-B6F7-FF4FC25D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42EAE-6B86-45E0-A5C3-04848FC3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0EDC1-60C8-4EB6-AE33-13E38192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96F9C-EAED-46A0-A6A3-761D9C2C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D846-25FE-419F-B975-6F0EA46D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823EE-52A0-4588-8750-899164A9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86823-7ECF-4010-81B0-B7EC785E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24D15-E525-401E-92AE-E8A29122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FE1457-1170-41C3-9E79-F3A0C388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736DC-5743-4B4E-9E74-80D731B1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9B32D-6270-47CA-B5F2-0E5EE975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39BB0-27BA-4522-8877-DDF8B76A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07676-31F8-49C1-AAED-AC566BD4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5B33C-12F7-41EA-B482-8780AB45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102F2-8D17-4F41-ABD2-F75C3495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8654-D860-401B-8B4F-8938B9FF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1287E-8037-4CCF-ACEB-9F1EE75D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0ED63-AA1E-43C5-A35D-863D7F4D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7C2C5-F129-41C1-98E5-D27BBDFA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92DC6-8FD1-423C-92CE-11B520CC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12127-322B-4D7C-A339-1884763E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0C6E7-F521-4A45-A796-678315D0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A2F5B-416E-4929-8D5B-1F4810BD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1DC90B-3560-446D-ADBE-EFDE8F58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AD8B3-CEB1-4098-9499-C70AF5C2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FF9D58-6139-4765-8351-4FE0B23D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641E-1A58-4D5C-AEEE-01BE668F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31F4D-BCCF-4189-9453-E670BAF2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6BF28-979D-403C-9794-26173A1F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18910-AF3A-4016-BD8E-3321133E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43ADD-A4AC-4271-8B40-6850B818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C1AEE-4960-44CD-91EB-3F0A8447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3824B-1114-4269-A7ED-DE4134CB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74B556-B8CB-4A8D-92EB-7232BBF6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E521-70E0-463F-B420-7F3C801D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3C13-0EE3-48A5-B6C8-565F350F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FA47-6246-44D7-A7BD-B866110A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EFF1-694B-49FB-B5F1-342AE6E7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7A8-9569-4446-BD4B-2B8EC697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F9D0-F5F5-48FF-B508-C4C71207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7039-57D1-4829-95B3-1FF9601F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4834-2092-4A74-8057-D3081EFB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6275-AA87-42C6-AFBF-75964BF4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5514-357F-427B-8D55-54C8B6CD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37BA4-8A3A-4F6D-8CFA-4BE20EA0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D4418-5B16-4013-9B88-84F06776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CA6B0-84FE-4592-955A-FC1D5918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E6CA6-9D4A-4C09-81F0-CDDD8F0D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51860-CD6E-4930-83B2-FE3730B7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068C-3EED-4DF6-93BC-F868A747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B7C54-132D-42C3-AD60-B6E84DB7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48600-CA00-4B00-8FEA-FC2B5299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44A0B-A40F-4ECC-A7C0-94042CB0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3A8F4-4AAC-4A0D-A7DA-F1BE11F3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8A6B5-97B5-45E9-B844-C982B4C4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D60EA-ED15-44A5-897D-09C37C64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149AC-C7FC-42C1-BFAE-E3BC0148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1439A-6988-4CD8-8B8B-B50F8EDE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21CBE-C182-4F2D-B30B-CC51E5D3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1D97F-1121-46E8-A710-EE5D443B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74BE-674F-49D8-B590-9F9E4EBE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8C090-D723-45F6-AE23-30CF9772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5B4A1-596F-41C4-BB86-5AFB9FA2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89E8E-BD7C-4305-9E3D-05664379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D7A2E-2E7B-4172-BF47-30DA2C4A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E8F2D-B3C7-42C3-A64F-68B0C282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7E6A1-222C-470B-AA9E-8227DF38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53912-1A73-4165-BF22-AD041090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2CC6F-EDF4-44D0-8E1B-C391B071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141FB-3C1E-4023-BBD1-198080F8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17B8C-59ED-4FD1-BFE2-1B306367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1A82-1D43-4852-BAD7-C6DA14DD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4D203-FCA6-4300-B295-C5BE381B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68646-A995-4A1D-93FE-610125FA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28B19-EB88-468B-AF72-CA5CA6A8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5D379-61C8-41F0-9812-CF2E8872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45C56-3AC3-4244-8000-CFD527A5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09465-BF1B-4934-88FB-0252187D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B384A-DCFE-47B5-B26D-88FFDB11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22A26-794B-4A82-8822-E769C081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ED647-DD3A-4DD8-B5DB-C0E2AFA0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EF0B0-CE95-4DEE-9C61-1DE426DA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87C3-50AD-49C4-98DF-5FE094E7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7E827-B7A2-40C1-B743-CDB8D16E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2A376-5A0C-4E39-9A8E-119515E3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5A4AA-E594-4AED-8C24-997CF108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EAE75-A432-4E90-B535-DFDF93AA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217E0-5B00-43E0-9ADF-B06807C9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07B65-12D1-4497-B7CE-56F803D3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4A0D9-EB2A-44DD-8449-F449BEC9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CF1D5-0DE6-4BF3-9B4C-A855EAA1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AFF6C-3155-46AB-9134-1D5BCC46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12BFC-615D-4A30-879F-5B6B166F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9695-1168-452D-98B9-8D4F2434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D2204-0010-4871-8555-B1E4463C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79B00-25E9-4251-95C5-2080A227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1EC70-A570-4A8E-904D-826C4B11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273A5-D707-4B91-92C5-7EDCA1AB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8456D-331D-4C90-AF8A-AA8EF952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675E6-86A1-448F-A9C6-F5D2853B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F6E6E-367B-4E5E-BB73-E7FE960C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5A3E6-1A0A-4EF1-8C19-9FE09777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82203-333B-4CFB-8E87-EB4BB116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8442A-E41A-4BB6-B053-9C0CC71C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AF6D-A49C-4609-BCB2-09FFE417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D938D-0D1E-4461-9E42-0BA20EE2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45064-B8AE-4B24-91B9-C74F4C9C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C6912-F386-419B-AF4D-10861DF6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2B3D2-DF39-4B17-A79F-61D1F1A4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957C3-7F7E-4BA6-AFB3-1FDA906E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170EA-DCC8-473A-B05E-E2FD3B3A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0E427-13F8-4D45-86C2-6812688E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16473-F727-4278-A303-F23A7F0C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18F79-8A25-4018-B9CA-5E9A336B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B9F6F-E8E4-4DA4-B303-ED3C0946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40D-394F-45B9-B3C2-F4233687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E94C3-E714-43EB-997C-8B51B398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AE04B-84E1-4B36-8B0A-BDF75715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79A1D-2068-4E2D-8F7C-BB70A0C3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4C7C8-E599-48BD-92EE-1BBA4533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931E5-0D27-43E8-B1CC-612348E1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2377D-EADE-4DD3-9EE4-B20F2DE5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901B1-162E-4E83-9B99-3ACF9698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BAE0E-B570-42C3-BA05-F4546E67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854E1-1B7B-4FFA-AF9B-73FB1104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E8EF8-F563-47DA-B9E8-2C76A484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5F46-1573-4344-A0B3-BFE5E78F94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B08C-9808-4B4B-BB23-43AEC23DCA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01A2-194D-4422-B38D-CC7CAA68B6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BACD-2CCB-49E8-9261-B2DC5D06CF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A1D7-62BE-4BA7-8916-CCD07B2BA1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E854-E854-423F-BC27-B2CCC914FF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00DA-15AB-491D-BD13-B256EA2BB9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16C3-38B8-47AB-AE02-A6CD875159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62D1-C31C-471B-BA77-5C4D6C836A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E5A9-9CE9-49B3-929C-3C1040CD29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8CF9-B6A6-451E-B94C-6BF6303FE4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A1F6-49D5-4046-A32C-2C1EF9E27A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CFDC-3034-4952-A856-9BB2275EFF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286840" cy="9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79 орта мектеб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539280" y="3068640"/>
            <a:ext cx="8286840" cy="257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10 сынып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География пәнінің мұғалімі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Марқабаева Қамар Марқабайқыз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89898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4" descr="GUESTAN"/>
          <p:cNvPicPr/>
          <p:nvPr/>
        </p:nvPicPr>
        <p:blipFill>
          <a:blip r:embed="rId1"/>
          <a:stretch/>
        </p:blipFill>
        <p:spPr>
          <a:xfrm>
            <a:off x="6588000" y="189000"/>
            <a:ext cx="2248200" cy="172728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Жалпы сөздік қоры-  </a:t>
            </a:r>
            <a:br>
              <a:rPr sz="3200"/>
            </a:b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(жаңа сөздер бойынш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Автомоби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Құбы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Теңі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Өзен-кө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Әу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Телеф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Контейнерлік көпірл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Су а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Құрғақ жү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ІІ-түр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і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йнерлік көпі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ұбы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а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Географиялық дикта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14200" y="1213920"/>
            <a:ext cx="3929040" cy="5643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ние жүзіндегі теміржолдың жалпы ұзындығы жөнінен қай мемлекет алда келеді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еңіз жолының ежелден белгілі аудан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Шаруашылық саласыныың басты үшінші салас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Қазақстан әлемдік интернет  жүйесі қай жылдан бері тұрақты қосылд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Байланыс жүйесі өте күшті дамыған ел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үние жүзіндегі ең ірі әуежайлар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Көліктің ең жаңа және қарқынды дамып келе жатқан түрі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Дүние жүзіндегі ең ірі мұнай құбырлар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Қазақстандағы жолаушы және жүк тасымалының аса қарқынды салас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Ірі кеме жүзетін каналдар  мен өзен жолдарына қандай  су жолы жатад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4429080" y="4286160"/>
          <a:ext cx="2397240" cy="365040"/>
        </p:xfrm>
        <a:graphic>
          <a:graphicData uri="http://schemas.openxmlformats.org/drawingml/2006/table">
            <a:tbl>
              <a:tblPr/>
              <a:tblGrid>
                <a:gridCol w="2397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4357800" y="1214280"/>
          <a:ext cx="3452760" cy="5143680"/>
        </p:xfrm>
        <a:graphic>
          <a:graphicData uri="http://schemas.openxmlformats.org/drawingml/2006/table">
            <a:tbl>
              <a:tblPr/>
              <a:tblGrid>
                <a:gridCol w="2500200"/>
                <a:gridCol w="952560"/>
              </a:tblGrid>
              <a:tr h="644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Жағалық, Ұлы, Волга, Рейн-Майн-Дун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ауа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өл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троу, Хан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лант мұх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Қ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ьюстон, Нью-Йор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Қ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 жыл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іржол көліг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Әуе көліг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63" name="Picture 8" descr="WHICHB"/>
          <p:cNvPicPr/>
          <p:nvPr/>
        </p:nvPicPr>
        <p:blipFill>
          <a:blip r:embed="rId2"/>
          <a:stretch/>
        </p:blipFill>
        <p:spPr>
          <a:xfrm>
            <a:off x="7524720" y="5572080"/>
            <a:ext cx="1619280" cy="1285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83534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Логикалық ойлау    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(сөзжұмбақ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42560" y="1268280"/>
            <a:ext cx="3492360" cy="511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уе көліг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рі кеме жүзетін су жол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ндай елдерде көлік қатынасы жоғары дамыған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ғары жылдамдықтағы теміржол желісі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ықаралық маңызы бар ірі пор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ң ірі әуежайдың бірі Хитроу қай қалада орналасқа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әулігіне 140км өтетін бұғаз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4 жылдан бері Қазақстан қандай әлемдік жүйеге қосыл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дық стан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ҚШ-тың аса ірі машина жасау компанияс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786120" y="1000080"/>
          <a:ext cx="5072040" cy="5572080"/>
        </p:xfrm>
        <a:graphic>
          <a:graphicData uri="http://schemas.openxmlformats.org/drawingml/2006/table">
            <a:tbl>
              <a:tblPr/>
              <a:tblGrid>
                <a:gridCol w="338040"/>
                <a:gridCol w="338400"/>
                <a:gridCol w="338040"/>
                <a:gridCol w="338040"/>
                <a:gridCol w="338400"/>
                <a:gridCol w="338040"/>
                <a:gridCol w="338040"/>
                <a:gridCol w="338040"/>
                <a:gridCol w="338400"/>
                <a:gridCol w="338040"/>
                <a:gridCol w="338040"/>
                <a:gridCol w="338040"/>
                <a:gridCol w="338400"/>
                <a:gridCol w="338040"/>
                <a:gridCol w="338040"/>
              </a:tblGrid>
              <a:tr h="557280">
                <a:tc gridSpan="7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557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6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6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TextBox 4"/>
          <p:cNvSpPr/>
          <p:nvPr/>
        </p:nvSpPr>
        <p:spPr>
          <a:xfrm>
            <a:off x="6500880" y="6000840"/>
            <a:ext cx="35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6500880" y="6072120"/>
          <a:ext cx="357120" cy="487440"/>
        </p:xfrm>
        <a:graphic>
          <a:graphicData uri="http://schemas.openxmlformats.org/drawingml/2006/table">
            <a:tbl>
              <a:tblPr/>
              <a:tblGrid>
                <a:gridCol w="35712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9" name="Picture 4" descr="52"/>
          <p:cNvPicPr/>
          <p:nvPr/>
        </p:nvPicPr>
        <p:blipFill>
          <a:blip r:embed="rId2"/>
          <a:stretch/>
        </p:blipFill>
        <p:spPr>
          <a:xfrm>
            <a:off x="0" y="-747720"/>
            <a:ext cx="1463760" cy="1800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порт жары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а) жүгі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ә) ауыр атлет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б) ұзындыққа секі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в) күре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Жүгір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Кім бірінші болып белгілі бір тақырып бойынша 10 сөз жаз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Ауыр атл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м ең ауыр сөзді жазады, ең көп әріптен тұратын сө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Ұзындыққа секі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м ең ұзын сөйлемді бірінші жаза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Күре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р оқушы бір – біріне сұрақтар қоя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Құпия сөзді шеш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9360">
            <a:solidFill>
              <a:srgbClr val="fcd5b5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.... – гидросфераны танкерлер мен мыңдаған шаршы жерлерді қатерсіз (мұнай) ластай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Атмосфераны басты ластаушы  ................ көліг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AutoShape 4"/>
          <p:cNvSpPr/>
          <p:nvPr/>
        </p:nvSpPr>
        <p:spPr>
          <a:xfrm>
            <a:off x="2195640" y="2924280"/>
            <a:ext cx="2952720" cy="3025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a6a6a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5"/>
          <p:cNvSpPr/>
          <p:nvPr/>
        </p:nvSpPr>
        <p:spPr>
          <a:xfrm>
            <a:off x="2050920" y="3213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6"/>
          <p:cNvSpPr/>
          <p:nvPr/>
        </p:nvSpPr>
        <p:spPr>
          <a:xfrm>
            <a:off x="2050920" y="35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7"/>
          <p:cNvSpPr/>
          <p:nvPr/>
        </p:nvSpPr>
        <p:spPr>
          <a:xfrm>
            <a:off x="2700360" y="3213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8"/>
          <p:cNvSpPr/>
          <p:nvPr/>
        </p:nvSpPr>
        <p:spPr>
          <a:xfrm>
            <a:off x="3276720" y="321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9"/>
          <p:cNvSpPr/>
          <p:nvPr/>
        </p:nvSpPr>
        <p:spPr>
          <a:xfrm>
            <a:off x="3276720" y="3357720"/>
            <a:ext cx="1429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0"/>
          <p:cNvSpPr/>
          <p:nvPr/>
        </p:nvSpPr>
        <p:spPr>
          <a:xfrm>
            <a:off x="3708360" y="321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1"/>
          <p:cNvSpPr/>
          <p:nvPr/>
        </p:nvSpPr>
        <p:spPr>
          <a:xfrm>
            <a:off x="370836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"/>
          <p:cNvSpPr/>
          <p:nvPr/>
        </p:nvSpPr>
        <p:spPr>
          <a:xfrm>
            <a:off x="370836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3"/>
          <p:cNvSpPr/>
          <p:nvPr/>
        </p:nvSpPr>
        <p:spPr>
          <a:xfrm flipH="1">
            <a:off x="4284360" y="3213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4"/>
          <p:cNvSpPr/>
          <p:nvPr/>
        </p:nvSpPr>
        <p:spPr>
          <a:xfrm>
            <a:off x="500364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15"/>
          <p:cNvSpPr/>
          <p:nvPr/>
        </p:nvSpPr>
        <p:spPr>
          <a:xfrm>
            <a:off x="4643280" y="3141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6"/>
          <p:cNvSpPr/>
          <p:nvPr/>
        </p:nvSpPr>
        <p:spPr>
          <a:xfrm>
            <a:off x="5580000" y="3141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7"/>
          <p:cNvSpPr/>
          <p:nvPr/>
        </p:nvSpPr>
        <p:spPr>
          <a:xfrm>
            <a:off x="1835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8"/>
          <p:cNvSpPr/>
          <p:nvPr/>
        </p:nvSpPr>
        <p:spPr>
          <a:xfrm>
            <a:off x="183528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9"/>
          <p:cNvSpPr/>
          <p:nvPr/>
        </p:nvSpPr>
        <p:spPr>
          <a:xfrm>
            <a:off x="1835280" y="465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20"/>
          <p:cNvSpPr/>
          <p:nvPr/>
        </p:nvSpPr>
        <p:spPr>
          <a:xfrm>
            <a:off x="234000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21"/>
          <p:cNvSpPr/>
          <p:nvPr/>
        </p:nvSpPr>
        <p:spPr>
          <a:xfrm>
            <a:off x="255600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2"/>
          <p:cNvSpPr/>
          <p:nvPr/>
        </p:nvSpPr>
        <p:spPr>
          <a:xfrm flipH="1">
            <a:off x="2340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3"/>
          <p:cNvSpPr/>
          <p:nvPr/>
        </p:nvSpPr>
        <p:spPr>
          <a:xfrm flipH="1">
            <a:off x="234000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24"/>
          <p:cNvSpPr/>
          <p:nvPr/>
        </p:nvSpPr>
        <p:spPr>
          <a:xfrm>
            <a:off x="284328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25"/>
          <p:cNvSpPr/>
          <p:nvPr/>
        </p:nvSpPr>
        <p:spPr>
          <a:xfrm>
            <a:off x="341964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6"/>
          <p:cNvSpPr/>
          <p:nvPr/>
        </p:nvSpPr>
        <p:spPr>
          <a:xfrm>
            <a:off x="341964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27"/>
          <p:cNvSpPr/>
          <p:nvPr/>
        </p:nvSpPr>
        <p:spPr>
          <a:xfrm>
            <a:off x="3924360" y="4508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28"/>
          <p:cNvSpPr/>
          <p:nvPr/>
        </p:nvSpPr>
        <p:spPr>
          <a:xfrm flipV="1">
            <a:off x="4067280" y="4508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29"/>
          <p:cNvSpPr/>
          <p:nvPr/>
        </p:nvSpPr>
        <p:spPr>
          <a:xfrm>
            <a:off x="450072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0"/>
          <p:cNvSpPr/>
          <p:nvPr/>
        </p:nvSpPr>
        <p:spPr>
          <a:xfrm>
            <a:off x="450072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1"/>
          <p:cNvSpPr/>
          <p:nvPr/>
        </p:nvSpPr>
        <p:spPr>
          <a:xfrm>
            <a:off x="507672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2"/>
          <p:cNvSpPr/>
          <p:nvPr/>
        </p:nvSpPr>
        <p:spPr>
          <a:xfrm>
            <a:off x="507672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33"/>
          <p:cNvSpPr/>
          <p:nvPr/>
        </p:nvSpPr>
        <p:spPr>
          <a:xfrm>
            <a:off x="5364000" y="479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34"/>
          <p:cNvSpPr/>
          <p:nvPr/>
        </p:nvSpPr>
        <p:spPr>
          <a:xfrm flipH="1">
            <a:off x="507672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35"/>
          <p:cNvSpPr/>
          <p:nvPr/>
        </p:nvSpPr>
        <p:spPr>
          <a:xfrm>
            <a:off x="5651640" y="4508640"/>
            <a:ext cx="21564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36"/>
          <p:cNvSpPr/>
          <p:nvPr/>
        </p:nvSpPr>
        <p:spPr>
          <a:xfrm>
            <a:off x="586728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37"/>
          <p:cNvSpPr/>
          <p:nvPr/>
        </p:nvSpPr>
        <p:spPr>
          <a:xfrm flipH="1">
            <a:off x="6156360" y="4508640"/>
            <a:ext cx="21600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38"/>
          <p:cNvSpPr/>
          <p:nvPr/>
        </p:nvSpPr>
        <p:spPr>
          <a:xfrm>
            <a:off x="673272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39"/>
          <p:cNvSpPr/>
          <p:nvPr/>
        </p:nvSpPr>
        <p:spPr>
          <a:xfrm>
            <a:off x="702000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0"/>
          <p:cNvSpPr/>
          <p:nvPr/>
        </p:nvSpPr>
        <p:spPr>
          <a:xfrm flipH="1">
            <a:off x="6732720" y="501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" descr="52"/>
          <p:cNvPicPr/>
          <p:nvPr/>
        </p:nvPicPr>
        <p:blipFill>
          <a:blip r:embed="rId1"/>
          <a:stretch/>
        </p:blipFill>
        <p:spPr>
          <a:xfrm>
            <a:off x="0" y="4626000"/>
            <a:ext cx="1655640" cy="223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тақырыбы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263520" y="1844280"/>
            <a:ext cx="7386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Көлік және байланыс” географиясы тақырыбын қайтала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Times New Roman"/>
              </a:rPr>
              <a:t>Бағала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63520" y="1143000"/>
            <a:ext cx="7386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ПМ-матрица посадочных м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-әр оқушының  таңбас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/ - жоқ оқушының белгісі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785880" y="1785960"/>
          <a:ext cx="6095880" cy="1854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Calibri"/>
              </a:rPr>
              <a:t>Үйге тапсыр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қайтала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Назар қойып тыңдағандарыңызға рахмет</a:t>
            </a:r>
            <a:r>
              <a:rPr b="1" i="1" lang="kk-K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Бірде – бір ұстаз өзінің ең маңызды міндеті – тәрбиеленушілерді ақыл – ой еңбегіне үйретуден тұратынын және бұл міндеттің пәннің өзін айтып жеткізуге қарағанда анағұрлым маңызды екенін ұмытуға тиіс еме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.Д.Уш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4" descr="GUESTAN"/>
          <p:cNvPicPr/>
          <p:nvPr/>
        </p:nvPicPr>
        <p:blipFill>
          <a:blip r:embed="rId1"/>
          <a:stretch/>
        </p:blipFill>
        <p:spPr>
          <a:xfrm>
            <a:off x="539640" y="5445000"/>
            <a:ext cx="1779840" cy="1727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r>
              <a:rPr b="0" lang="kk-K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ілімділік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 дүниежүзіндегі көліктің даму сипаты мен байланыс құралдары жайында білімдерін жинақта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әрбиелік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:  оқушыларды танымдық – эстетикалық әрекеттерге тәрбиеле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Дамытушылық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: оқушылардың өткен білімдеріне сүйене отырып, жылдам ойлау дағдысын қалыптасты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ба</a:t>
            </a: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тың бөлімі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Жылдам жаттығ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Жалпы сөздік қоры (жаңа сөздер бойынш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еографиялық диктан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огикалық ойла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порт жары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Құпия сөзді шеш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</a:rPr>
              <a:t>Жылдам жаттығ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) сұрақт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) сызба нұсқа бойынша жұмы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в) картамен жұмыс  жасау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</a:rPr>
              <a:t>Сұрақтар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өлік жүйесі дегеніміз 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ең тараған қандай байланыс құралдарын білесіңде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еміржол желілерінің жиілігі нені көрсетеді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өлік түрлерінің ең ежелгі және ең жаңа түрлерін атаңдар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8" descr="WHICHB"/>
          <p:cNvPicPr/>
          <p:nvPr/>
        </p:nvPicPr>
        <p:blipFill>
          <a:blip r:embed="rId1"/>
          <a:stretch/>
        </p:blipFill>
        <p:spPr>
          <a:xfrm>
            <a:off x="6804000" y="5373720"/>
            <a:ext cx="2000160" cy="1285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7" name=""/>
          <p:cNvGraphicFramePr/>
          <p:nvPr/>
        </p:nvGraphicFramePr>
        <p:xfrm>
          <a:off x="611280" y="2286000"/>
          <a:ext cx="6889680" cy="2855880"/>
        </p:xfrm>
        <a:graphic>
          <a:graphicData uri="http://schemas.openxmlformats.org/drawingml/2006/table">
            <a:tbl>
              <a:tblPr/>
              <a:tblGrid>
                <a:gridCol w="1339920"/>
                <a:gridCol w="1339560"/>
                <a:gridCol w="995400"/>
                <a:gridCol w="1239840"/>
                <a:gridCol w="1974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лды</a:t>
                      </a: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ң а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еңдігі,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і,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Ұзынды-ғы, к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-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-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ызба нұсқамен жұмы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е жүзетін ірі каналд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Елдердің телефонмен қамтамасыз етілуі (1000 адамға шаққан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2" name=""/>
          <p:cNvGraphicFramePr/>
          <p:nvPr/>
        </p:nvGraphicFramePr>
        <p:xfrm>
          <a:off x="571680" y="1714680"/>
          <a:ext cx="7000560" cy="3663720"/>
        </p:xfrm>
        <a:graphic>
          <a:graphicData uri="http://schemas.openxmlformats.org/drawingml/2006/table">
            <a:tbl>
              <a:tblPr/>
              <a:tblGrid>
                <a:gridCol w="2333520"/>
                <a:gridCol w="2333520"/>
                <a:gridCol w="2333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ң жоғары көрсеткіш (600-ден артық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таша көрсеткіш (200-3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ң төменгі көрсеткіш (10-нан төме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ландия -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вия-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я Республикасы -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гария 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Картамен жұмы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7929720" cy="5353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8:04:02Z</dcterms:created>
  <dc:creator>Zavuch</dc:creator>
  <dc:description/>
  <dc:language>en-US</dc:language>
  <cp:lastModifiedBy>User</cp:lastModifiedBy>
  <dcterms:modified xsi:type="dcterms:W3CDTF">2010-03-21T17:29:50Z</dcterms:modified>
  <cp:revision>25</cp:revision>
  <dc:subject/>
  <dc:title>№79 орта мектеп</dc:title>
</cp:coreProperties>
</file>