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624-5238-4468-8764-8DE0C345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FF1A-D19E-4A28-AC5B-DDC7D541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8EC6E-21C6-4D72-9A88-9CF29C8C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29B88-5D26-495A-9483-0253102D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007C3-52B1-4796-8BE5-CC4A0893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7BD7B-F431-45F3-9E1A-A6499992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97D30-B2DF-4938-8C65-DDEABFCD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2953A-1FA5-4641-9F59-F29F5C16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C9F2C-4330-41E4-B20B-6C5CBAB4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49B2B-78BB-497C-9235-89D1B81A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7974A-7878-4B71-8E75-2E1019A5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68D77-1208-4406-8FC9-C056D0EB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E9F3-B12D-492C-BD87-9FC648BF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56AF1-9412-4F5F-AAC9-1E744719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A0BA7-498A-46D8-86A9-96EDCCF6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CAB0C-39D7-4267-B3F0-756C2B73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50E03-A632-412A-B022-9F050772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A0996-1630-4066-A7F0-33E7F366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9DA53-CBF0-45AA-8DE1-9423DC76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91DEE-71D9-4F13-9CD3-AD8F0521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5E1B8-490D-41F8-BD82-AB7B6F53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8712A-37DD-4AE3-BAFE-76AA1F07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F1D6F-F4D5-4963-AAD9-161931FF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0C1-F4CE-46CE-AAA8-7B518343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AC8FE-1BA9-4E03-90A8-5CEE02C0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A6F7C-2D59-49DA-AF9E-0A93218C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074AB-428E-4B61-8CCA-E9F49652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F123C-5723-4A9E-AF7B-A0CABFF8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59E2D-93D0-4D8B-ADD6-F65DB6A9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9930F-E136-4897-8682-1D2E9F63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A206D-1616-4A0C-896A-CE179A89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42DF1-C4F6-4ECC-9152-EEB7F292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E27C5-D002-4665-8AFF-11B0D539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18B8E-080C-4463-89DA-1628D79F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71DD-F783-4954-BC2A-B15B2BAF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FE070-A653-4BCF-991D-F3CE5891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19E52-8508-4743-B6D1-2E464DD4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66403-766F-45D6-8EE8-BB3691EA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8A37E-1BD3-4F76-BF9C-EDEC465F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F8121-102D-42B0-8B74-9318D2B1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BCD89-6C70-4F97-ABDC-30370A30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9F3C8-8EAA-4B1A-9D70-A9219BBE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194A7-65D0-4656-A2EC-AAC5837B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3FE81-E6A8-4F54-AA39-C48FCB62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B6F84-E250-4F6B-8F16-5AEB814A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EEEF-E128-4414-A6AF-96A67F04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BE30A-C9A8-4DD6-ADB7-91F4A839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8F21A-9335-44BE-B9BA-529357C2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87156-4B1D-4C08-814C-8CE0E425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4F0C9-1682-4812-939A-277E5A7A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F617E-EC98-4592-9F65-BB2CD261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143BD-75DD-4562-9711-36D7231A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26C48-9DBC-47DE-9152-A638D912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32C8D-EAFB-41A6-831C-A9868751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A5F1B-A375-4BF6-9C9A-8A3BC4E6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3422B-5D80-4E4D-A900-64D39D64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F3A8-234A-4163-8B46-9A82E460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D41C2-83D4-4017-A4C1-E82163A1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F979D0-1B30-48C9-9F12-7C422BB3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6FDB47-D84F-4BA1-887C-D6CB5FF6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4FECB-31C3-42C3-824B-95A125F3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86BFA-2C37-47A3-BD61-EAFAE3C5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A2675-3F3F-467C-87F4-D89A1722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E76EE-6F72-4CD3-96F6-7303FDA3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FAF6-3530-495A-86C6-B5D79A64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5953-1F5A-41E8-85C8-D2CF79CE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4DC0-AACC-4A45-ADCD-85FE933F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93AD-5B73-4C69-B061-17F8257C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5B6-EBA6-484B-8389-654233F3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C12F-6ECC-4204-B0CC-C6063569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E261-26D8-48A1-AE6B-BD26FD33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3E25-EF78-41EA-B010-C9277CAC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6053-B558-4D25-AE88-3B5A9300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F1A2-5F8D-4F91-9BA2-C6CB827C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16CB8-3250-4094-8817-11F4218A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299A3-F290-4CEF-9112-07B442D3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05ECE-8F36-4BF1-AA7F-08D83C51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52BCC-CC47-4811-92F0-AEA51AE5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ABF1-6456-49DF-B2EC-392BF5A4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CA9-5868-44E8-8E4B-010EC41D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CCFFE-30C5-48A9-89A0-2FFF4551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5C996-3201-4452-A310-594A46FC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7B4CA-1D32-440A-A173-017864EC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3E079-DA36-403B-A8AE-AF27E860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393F9-7DFF-4F8C-95BC-4C3071FF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AB4F3-EBD5-4BA7-B43E-596BC496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008BB-B024-48E1-B438-6A12F0D0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EF8D5-EFE1-4E66-912D-A82BE3FD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1FAEA-A538-406B-AFAB-4A902BEA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1DF19-84B3-4692-9F40-89684A9B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68B-F756-4441-B0F6-502BA22C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8B4CE-CF99-45F0-823C-B2CCEFA6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C6288-E9A4-4E93-A2BF-D492FD05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72E67-8CCC-4C6B-B3C4-A371A6E5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9FFCB-8AFB-4D99-A2BC-DE00C169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19659-C7D0-43A0-8E9C-D2C4CFE4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74A4F-F1EB-40EF-A201-653A5542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CA9CC-D379-42E8-A650-88C6AF13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18F08-6A6B-40B4-A470-37492CDB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9CB20-85B6-4C80-8B70-1BC4B376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987DB-7CB2-4A5F-97B1-D83F6687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DACA-9AE7-4AD6-B31B-D081587B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9F86B-268E-4DDC-98A3-FBB3C721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791B4-D2BC-45D5-9B71-B9E7A94B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F8311-D3CD-456B-B59B-D5555C1A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FA3ED-2CDC-4AF7-8815-2A1DB664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E8FD1-B2FC-4C4B-B835-58EA5F39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A08D5-AFAE-4E52-9E61-5B13498C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93573-6AF1-4412-9DD6-CEE4E816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57678-57BD-45D8-87D2-E50010D2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6B245-8BCE-4F03-96C5-24C17E18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BB82A-5AEE-4FDF-B572-AFBE6B28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C5D0-5F8A-47F9-8A49-22DC4BDA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A9408-E044-4775-AB16-A6114027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C7821-FF13-4895-9F07-82F67543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B0E1F-59A2-427E-B887-67F28B84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B2443-CEF7-4041-B090-001C62B0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436D4-5E4A-408E-8393-3CB7251E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DC759-10F5-4623-9747-093D87C5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F6596-0CFE-49B3-8640-6A0B0529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80CF3-97A2-4A8A-8FCA-BE6A71DD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0ABDC-DC47-40A1-A1D4-FFB6BBAB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5DEE0-3220-4C55-807B-01F69FDA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5D64-56A7-4C34-814C-0F03C599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568DF-FE2E-430F-8EAC-12D8AE5A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36C5C-23B6-463B-AE4D-304B2FCB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D320D-1904-476F-9A24-0A3DB685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59C27-E812-415D-B7B1-2FB0EB14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D6010-23F8-4E7C-A81F-BB1433B2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B3E3E-C8E9-4D86-A316-53C732A4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A6769-2B33-49AF-9BB8-779D9D8D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DFB1C-8676-4025-9582-B86B15AF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927AC-4E9D-44A7-9535-3AEEC23D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83A78-773D-4130-BE7D-9047F046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6BB5-BD66-40E0-BE52-FCA3E69D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BB597-2F53-4E9F-AC35-F3B70B95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799AC-F8A4-4DDE-B4DD-75992CC1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96207-7A47-4E4A-B2AA-2A9A1ED4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58723-1FC3-49AC-8729-01EE12C4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3D3A1-6FA3-4A91-A7C3-C08406A3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DD43E-BE6F-4F56-B162-99A7C637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C1249-473A-4553-B540-3E27D986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5E9B0-FB81-4B8F-89EB-D7661557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F750B-1B13-4296-A362-CA772ADE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DC75E-CC86-439E-A9EC-304A9434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F6E-5394-4035-8112-EA046DEB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41F40-4A78-4836-A608-BF616DC9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5EB0F-109F-43E3-88D0-613AB068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88B34-47A0-41A9-B21D-8739AB71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100A3-A4A4-4F46-AD9D-FA54ECFF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D0879-0495-40DE-8636-AE407CB0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1B676-5547-4EF5-9064-554285F2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55D2B-396D-4940-BDC0-7E2F0F4B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0A26A-7A88-4C39-882C-24E0B188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154E7-6FB1-425E-9770-734A3966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9ABFB-0291-4632-A049-91B08EE1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C8AC-C5E1-4286-8468-03B5C7BDD7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C54F-8C33-4544-AFD4-C001369927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6CE3-50C2-4954-B164-B6E76D9A84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1AC9-BE56-46B9-A4A3-305352983C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C7AD-5DA0-46C3-AAA8-F3C209B68F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145C-A6C0-4E90-A633-1C4412B7C4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390E-AB55-472C-8DA4-95149A6DAC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2487-F3A0-40A2-B64A-0571CDD6F1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C8D2-9A77-425A-8676-6088B93D6C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AD04-F348-4904-AF0C-4C4556C4F0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7FBB-0DB5-4EB1-8F32-9552DB7E8E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FE46-D468-4917-B13B-EB98C80DCB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1705-A7DB-4457-B9AA-339823F736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286840" cy="9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79 орта мектеб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539280" y="3068640"/>
            <a:ext cx="8286840" cy="257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10 сынып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География пәнінің мұғалімі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Марқабаева Қамар Марқабайқыз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89898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Picture 4" descr="GUESTAN"/>
          <p:cNvPicPr/>
          <p:nvPr/>
        </p:nvPicPr>
        <p:blipFill>
          <a:blip r:embed="rId1"/>
          <a:stretch/>
        </p:blipFill>
        <p:spPr>
          <a:xfrm>
            <a:off x="6588000" y="189000"/>
            <a:ext cx="2248200" cy="172728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Жалпы сөздік қоры-  </a:t>
            </a:r>
            <a:br>
              <a:rPr sz="3200"/>
            </a:b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(жаңа сөздер бойынш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Автомоби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Құбы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Теңі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Өзен-кө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Әу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Телеф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Контейнерлік көпірл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Су а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Құрғақ жү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ІІ-түр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ңі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йнерлік көпі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ұбы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а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Географиялық дикта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14200" y="1213920"/>
            <a:ext cx="3929040" cy="5643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ние жүзіндегі теміржолдың жалпы ұзындығы жөнінен қай мемлекет алда келеді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еңіз жолының ежелден белгілі аудан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Шаруашылық саласыныың басты үшінші салас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Қазақстан әлемдік интернет  жүйесі қай жылдан бері тұрақты қосылд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Байланыс жүйесі өте күшті дамыған ел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үние жүзіндегі ең ірі әуежайлар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Көліктің ең жаңа және қарқынды дамып келе жатқан түрі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Дүние жүзіндегі ең ірі мұнай құбырлар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Қазақстандағы жолаушы және жүк тасымалының аса қарқынды салас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Ірі кеме жүзетін каналдар  мен өзен жолдарына қандай  су жолы жатад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4429080" y="4286160"/>
          <a:ext cx="2397240" cy="365040"/>
        </p:xfrm>
        <a:graphic>
          <a:graphicData uri="http://schemas.openxmlformats.org/drawingml/2006/table">
            <a:tbl>
              <a:tblPr/>
              <a:tblGrid>
                <a:gridCol w="2397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4357800" y="1214280"/>
          <a:ext cx="3452760" cy="5143680"/>
        </p:xfrm>
        <a:graphic>
          <a:graphicData uri="http://schemas.openxmlformats.org/drawingml/2006/table">
            <a:tbl>
              <a:tblPr/>
              <a:tblGrid>
                <a:gridCol w="2500200"/>
                <a:gridCol w="952560"/>
              </a:tblGrid>
              <a:tr h="644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Жағалық, Ұлы, Волга, Рейн-Майн-Дун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ауа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өл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троу, Хан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лант мұх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Қ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ьюстон, Нью-Йор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Қ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 жыл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іржол көліг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Әуе көліг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63" name="Picture 8" descr="WHICHB"/>
          <p:cNvPicPr/>
          <p:nvPr/>
        </p:nvPicPr>
        <p:blipFill>
          <a:blip r:embed="rId2"/>
          <a:stretch/>
        </p:blipFill>
        <p:spPr>
          <a:xfrm>
            <a:off x="7524720" y="5572080"/>
            <a:ext cx="1619280" cy="1285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83534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Логикалық ойлау    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(сөзжұмбақ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42560" y="1268280"/>
            <a:ext cx="3492360" cy="511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уе көліг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рі кеме жүзетін су жол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ндай елдерде көлік қатынасы жоғары дамыған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ғары жылдамдықтағы теміржол желісі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ықаралық маңызы бар ірі пор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ң ірі әуежайдың бірі Хитроу қай қалада орналасқа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әулігіне 140км өтетін бұғаз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4 жылдан бері Қазақстан қандай әлемдік жүйеге қосыл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дық стан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ҚШ-тың аса ірі машина жасау компанияс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786120" y="1000080"/>
          <a:ext cx="5072040" cy="5572080"/>
        </p:xfrm>
        <a:graphic>
          <a:graphicData uri="http://schemas.openxmlformats.org/drawingml/2006/table">
            <a:tbl>
              <a:tblPr/>
              <a:tblGrid>
                <a:gridCol w="338040"/>
                <a:gridCol w="338400"/>
                <a:gridCol w="338040"/>
                <a:gridCol w="338040"/>
                <a:gridCol w="338400"/>
                <a:gridCol w="338040"/>
                <a:gridCol w="338040"/>
                <a:gridCol w="338040"/>
                <a:gridCol w="338400"/>
                <a:gridCol w="338040"/>
                <a:gridCol w="338040"/>
                <a:gridCol w="338040"/>
                <a:gridCol w="338400"/>
                <a:gridCol w="338040"/>
                <a:gridCol w="338040"/>
              </a:tblGrid>
              <a:tr h="557280">
                <a:tc gridSpan="7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5572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6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2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6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TextBox 4"/>
          <p:cNvSpPr/>
          <p:nvPr/>
        </p:nvSpPr>
        <p:spPr>
          <a:xfrm>
            <a:off x="6500880" y="6000840"/>
            <a:ext cx="35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6500880" y="6072120"/>
          <a:ext cx="357120" cy="487440"/>
        </p:xfrm>
        <a:graphic>
          <a:graphicData uri="http://schemas.openxmlformats.org/drawingml/2006/table">
            <a:tbl>
              <a:tblPr/>
              <a:tblGrid>
                <a:gridCol w="35712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9" name="Picture 4" descr="52"/>
          <p:cNvPicPr/>
          <p:nvPr/>
        </p:nvPicPr>
        <p:blipFill>
          <a:blip r:embed="rId2"/>
          <a:stretch/>
        </p:blipFill>
        <p:spPr>
          <a:xfrm>
            <a:off x="0" y="-747720"/>
            <a:ext cx="1463760" cy="1800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порт жары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а) жүгі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ә) ауыр атлет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б) ұзындыққа секі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в) күре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Жүгір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Кім бірінші болып белгілі бір тақырып бойынша 10 сөз жаз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Ауыр атле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м ең ауыр сөзді жазады, ең көп әріптен тұратын сө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Ұзындыққа секі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м ең ұзын сөйлемді бірінші жаза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Күре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р оқушы бір – біріне сұрақтар қоя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Құпия сөзді шеш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9360">
            <a:solidFill>
              <a:srgbClr val="fcd5b5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.... – гидросфераны танкерлер мен мыңдаған шаршы жерлерді қатерсіз (мұнай) ластай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Атмосфераны басты ластаушы  ................ көліг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AutoShape 4"/>
          <p:cNvSpPr/>
          <p:nvPr/>
        </p:nvSpPr>
        <p:spPr>
          <a:xfrm>
            <a:off x="2195640" y="2924280"/>
            <a:ext cx="2952720" cy="3025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a6a6a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5"/>
          <p:cNvSpPr/>
          <p:nvPr/>
        </p:nvSpPr>
        <p:spPr>
          <a:xfrm>
            <a:off x="2050920" y="3213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6"/>
          <p:cNvSpPr/>
          <p:nvPr/>
        </p:nvSpPr>
        <p:spPr>
          <a:xfrm>
            <a:off x="2050920" y="35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7"/>
          <p:cNvSpPr/>
          <p:nvPr/>
        </p:nvSpPr>
        <p:spPr>
          <a:xfrm>
            <a:off x="2700360" y="3213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8"/>
          <p:cNvSpPr/>
          <p:nvPr/>
        </p:nvSpPr>
        <p:spPr>
          <a:xfrm>
            <a:off x="3276720" y="321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9"/>
          <p:cNvSpPr/>
          <p:nvPr/>
        </p:nvSpPr>
        <p:spPr>
          <a:xfrm>
            <a:off x="3276720" y="3357720"/>
            <a:ext cx="1429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0"/>
          <p:cNvSpPr/>
          <p:nvPr/>
        </p:nvSpPr>
        <p:spPr>
          <a:xfrm>
            <a:off x="3708360" y="321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1"/>
          <p:cNvSpPr/>
          <p:nvPr/>
        </p:nvSpPr>
        <p:spPr>
          <a:xfrm>
            <a:off x="370836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"/>
          <p:cNvSpPr/>
          <p:nvPr/>
        </p:nvSpPr>
        <p:spPr>
          <a:xfrm>
            <a:off x="370836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3"/>
          <p:cNvSpPr/>
          <p:nvPr/>
        </p:nvSpPr>
        <p:spPr>
          <a:xfrm flipH="1">
            <a:off x="4284360" y="3213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4"/>
          <p:cNvSpPr/>
          <p:nvPr/>
        </p:nvSpPr>
        <p:spPr>
          <a:xfrm>
            <a:off x="500364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15"/>
          <p:cNvSpPr/>
          <p:nvPr/>
        </p:nvSpPr>
        <p:spPr>
          <a:xfrm>
            <a:off x="4643280" y="3141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6"/>
          <p:cNvSpPr/>
          <p:nvPr/>
        </p:nvSpPr>
        <p:spPr>
          <a:xfrm>
            <a:off x="5580000" y="3141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7"/>
          <p:cNvSpPr/>
          <p:nvPr/>
        </p:nvSpPr>
        <p:spPr>
          <a:xfrm>
            <a:off x="1835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8"/>
          <p:cNvSpPr/>
          <p:nvPr/>
        </p:nvSpPr>
        <p:spPr>
          <a:xfrm>
            <a:off x="183528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9"/>
          <p:cNvSpPr/>
          <p:nvPr/>
        </p:nvSpPr>
        <p:spPr>
          <a:xfrm>
            <a:off x="1835280" y="465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20"/>
          <p:cNvSpPr/>
          <p:nvPr/>
        </p:nvSpPr>
        <p:spPr>
          <a:xfrm>
            <a:off x="234000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21"/>
          <p:cNvSpPr/>
          <p:nvPr/>
        </p:nvSpPr>
        <p:spPr>
          <a:xfrm>
            <a:off x="255600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2"/>
          <p:cNvSpPr/>
          <p:nvPr/>
        </p:nvSpPr>
        <p:spPr>
          <a:xfrm flipH="1">
            <a:off x="2340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3"/>
          <p:cNvSpPr/>
          <p:nvPr/>
        </p:nvSpPr>
        <p:spPr>
          <a:xfrm flipH="1">
            <a:off x="234000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24"/>
          <p:cNvSpPr/>
          <p:nvPr/>
        </p:nvSpPr>
        <p:spPr>
          <a:xfrm>
            <a:off x="284328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25"/>
          <p:cNvSpPr/>
          <p:nvPr/>
        </p:nvSpPr>
        <p:spPr>
          <a:xfrm>
            <a:off x="341964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6"/>
          <p:cNvSpPr/>
          <p:nvPr/>
        </p:nvSpPr>
        <p:spPr>
          <a:xfrm>
            <a:off x="341964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27"/>
          <p:cNvSpPr/>
          <p:nvPr/>
        </p:nvSpPr>
        <p:spPr>
          <a:xfrm>
            <a:off x="3924360" y="4508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28"/>
          <p:cNvSpPr/>
          <p:nvPr/>
        </p:nvSpPr>
        <p:spPr>
          <a:xfrm flipV="1">
            <a:off x="4067280" y="4508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29"/>
          <p:cNvSpPr/>
          <p:nvPr/>
        </p:nvSpPr>
        <p:spPr>
          <a:xfrm>
            <a:off x="450072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0"/>
          <p:cNvSpPr/>
          <p:nvPr/>
        </p:nvSpPr>
        <p:spPr>
          <a:xfrm>
            <a:off x="450072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1"/>
          <p:cNvSpPr/>
          <p:nvPr/>
        </p:nvSpPr>
        <p:spPr>
          <a:xfrm>
            <a:off x="507672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2"/>
          <p:cNvSpPr/>
          <p:nvPr/>
        </p:nvSpPr>
        <p:spPr>
          <a:xfrm>
            <a:off x="507672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33"/>
          <p:cNvSpPr/>
          <p:nvPr/>
        </p:nvSpPr>
        <p:spPr>
          <a:xfrm>
            <a:off x="5364000" y="479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34"/>
          <p:cNvSpPr/>
          <p:nvPr/>
        </p:nvSpPr>
        <p:spPr>
          <a:xfrm flipH="1">
            <a:off x="507672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35"/>
          <p:cNvSpPr/>
          <p:nvPr/>
        </p:nvSpPr>
        <p:spPr>
          <a:xfrm>
            <a:off x="5651640" y="4508640"/>
            <a:ext cx="21564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36"/>
          <p:cNvSpPr/>
          <p:nvPr/>
        </p:nvSpPr>
        <p:spPr>
          <a:xfrm>
            <a:off x="586728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37"/>
          <p:cNvSpPr/>
          <p:nvPr/>
        </p:nvSpPr>
        <p:spPr>
          <a:xfrm flipH="1">
            <a:off x="6156360" y="4508640"/>
            <a:ext cx="21600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38"/>
          <p:cNvSpPr/>
          <p:nvPr/>
        </p:nvSpPr>
        <p:spPr>
          <a:xfrm>
            <a:off x="673272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39"/>
          <p:cNvSpPr/>
          <p:nvPr/>
        </p:nvSpPr>
        <p:spPr>
          <a:xfrm>
            <a:off x="702000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0"/>
          <p:cNvSpPr/>
          <p:nvPr/>
        </p:nvSpPr>
        <p:spPr>
          <a:xfrm flipH="1">
            <a:off x="6732720" y="5013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" descr="52"/>
          <p:cNvPicPr/>
          <p:nvPr/>
        </p:nvPicPr>
        <p:blipFill>
          <a:blip r:embed="rId1"/>
          <a:stretch/>
        </p:blipFill>
        <p:spPr>
          <a:xfrm>
            <a:off x="0" y="4626000"/>
            <a:ext cx="1655640" cy="2232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тақырыбы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263520" y="1844280"/>
            <a:ext cx="7386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Көлік және байланыс” географиясы тақырыбын қайтала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Times New Roman"/>
              </a:rPr>
              <a:t>Бағала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63520" y="1143000"/>
            <a:ext cx="7386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ПМ-матрица посадочных м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-әр оқушының  таңбас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/ - жоқ оқушының белгісі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785880" y="1785960"/>
          <a:ext cx="6095880" cy="1854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Calibri"/>
              </a:rPr>
              <a:t>Үйге тапсыр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қайтала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Назар қойып тыңдағандарыңызға рахмет</a:t>
            </a:r>
            <a:r>
              <a:rPr b="1" i="1" lang="kk-K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Бірде – бір ұстаз өзінің ең маңызды міндеті – тәрбиеленушілерді ақыл – ой еңбегіне үйретуден тұратынын және бұл міндеттің пәннің өзін айтып жеткізуге қарағанда анағұрлым маңызды екенін ұмытуға тиіс еме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.Д.Уши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4" descr="GUESTAN"/>
          <p:cNvPicPr/>
          <p:nvPr/>
        </p:nvPicPr>
        <p:blipFill>
          <a:blip r:embed="rId1"/>
          <a:stretch/>
        </p:blipFill>
        <p:spPr>
          <a:xfrm>
            <a:off x="539640" y="5445000"/>
            <a:ext cx="1779840" cy="1727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r>
              <a:rPr b="0" lang="kk-K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ілімділік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 дүниежүзіндегі көліктің даму сипаты мен байланыс құралдары жайында білімдерін жинақта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әрбиелік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:  оқушыларды танымдық – эстетикалық әрекеттерге тәрбиеле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Дамытушылық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: оқушылардың өткен білімдеріне сүйене отырып, жылдам ойлау дағдысын қалыптасты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ба</a:t>
            </a: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тың бөлімі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Жылдам жаттығ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Жалпы сөздік қоры (жаңа сөздер бойынш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еографиялық диктан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огикалық ойла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порт жары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Құпия сөзді шеш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</a:rPr>
              <a:t>Жылдам жаттығ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) сұрақт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) сызба нұсқа бойынша жұмы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в) картамен жұмыс  жасау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</a:rPr>
              <a:t>Сұрақтар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өлік жүйесі дегеніміз 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ең тараған қандай байланыс құралдарын білесіңде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еміржол желілерінің жиілігі нені көрсетеді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өлік түрлерінің ең ежелгі және ең жаңа түрлерін атаңдар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Picture 8" descr="WHICHB"/>
          <p:cNvPicPr/>
          <p:nvPr/>
        </p:nvPicPr>
        <p:blipFill>
          <a:blip r:embed="rId1"/>
          <a:stretch/>
        </p:blipFill>
        <p:spPr>
          <a:xfrm>
            <a:off x="6804000" y="5373720"/>
            <a:ext cx="2000160" cy="1285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7" name=""/>
          <p:cNvGraphicFramePr/>
          <p:nvPr/>
        </p:nvGraphicFramePr>
        <p:xfrm>
          <a:off x="611280" y="2286000"/>
          <a:ext cx="6889680" cy="2855880"/>
        </p:xfrm>
        <a:graphic>
          <a:graphicData uri="http://schemas.openxmlformats.org/drawingml/2006/table">
            <a:tbl>
              <a:tblPr/>
              <a:tblGrid>
                <a:gridCol w="1339920"/>
                <a:gridCol w="1339560"/>
                <a:gridCol w="995400"/>
                <a:gridCol w="1239840"/>
                <a:gridCol w="1974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лды</a:t>
                      </a: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ң а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еңдігі,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і,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Ұзынды-ғы, к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-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-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-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ызба нұсқамен жұмы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е жүзетін ірі каналд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Елдердің телефонмен қамтамасыз етілуі (1000 адамға шаққан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2" name=""/>
          <p:cNvGraphicFramePr/>
          <p:nvPr/>
        </p:nvGraphicFramePr>
        <p:xfrm>
          <a:off x="571680" y="1714680"/>
          <a:ext cx="7000560" cy="3663720"/>
        </p:xfrm>
        <a:graphic>
          <a:graphicData uri="http://schemas.openxmlformats.org/drawingml/2006/table">
            <a:tbl>
              <a:tblPr/>
              <a:tblGrid>
                <a:gridCol w="2333520"/>
                <a:gridCol w="2333520"/>
                <a:gridCol w="2333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ң жоғары көрсеткіш (600-ден артық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таша көрсеткіш (200-3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ң төменгі көрсеткіш (10-нан төме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ландия -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вия-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я Республикасы -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гария -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Картамен жұмы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7929720" cy="5353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8:04:02Z</dcterms:created>
  <dc:creator>Zavuch</dc:creator>
  <dc:description/>
  <dc:language>en-US</dc:language>
  <cp:lastModifiedBy>User</cp:lastModifiedBy>
  <dcterms:modified xsi:type="dcterms:W3CDTF">2010-03-21T17:29:50Z</dcterms:modified>
  <cp:revision>25</cp:revision>
  <dc:subject/>
  <dc:title>№79 орта мектеп</dc:title>
</cp:coreProperties>
</file>