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9.png" ContentType="image/pn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wmf" ContentType="image/x-wmf"/>
  <Override PartName="/ppt/media/image6.png" ContentType="image/png"/>
  <Override PartName="/ppt/media/image12.jpeg" ContentType="image/jpeg"/>
  <Override PartName="/ppt/media/image11.png" ContentType="image/png"/>
  <Override PartName="/ppt/media/image19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1F284-0D96-4F52-A296-B0A852100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F1561-B7F6-48CD-80FD-ED0596449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EF0B9-C57A-41CB-A045-CB6580F46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2C427-6B80-4256-B409-391946A8E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63662-1409-4C5F-B823-034F73860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A7AE8-548D-4941-8C75-CA7B0AC06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95402-9937-492B-8FD9-D30FE48A7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99CC2-F521-4EEA-93B7-C28595FDA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85DC7-E09A-413B-90FD-D6A0F8B07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FFE49-F4BC-44AB-B3F5-F589BA348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1F8FF-F7E5-4300-8B0C-08EC6747E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BD93F-F991-4798-A244-3509307BC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52455-09F9-4F3F-B024-44D94E9DC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B2614-A012-4C06-8144-041633EAB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35D4D-9C35-4B33-8A0A-3AD9BA9EA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090E0-407A-4F9E-B65E-D2598F823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B7AE7-E640-4CD6-A657-1B93ED2D5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113FD6-437F-4FC9-8B93-5C1C0DF50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858C20-05E1-4211-ADE2-CA6E42F30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BD0203-833A-495D-A0A0-241B53D24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89DA15-AB88-4EF9-BB28-9676086A7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E4A701-A13E-418B-936D-8917D4440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B0E88-D838-445F-851E-E55279F1C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23E51D-5209-424F-BC1F-6C3423430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2F05C2-72F0-4B96-9A25-E538A8519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4C4C72-758A-4978-9571-8C74A5632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67576D-D237-486A-AD25-9C131BCD6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40E75D-148D-46BF-88D8-C2124CE41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F116F4-A217-4546-983C-9E0C753F3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C25D48-C43D-4C97-8E50-19766F9CD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D94672-7FDC-4A01-AE87-08BD92DA6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368933-588B-41C2-9B25-3DB339D82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1569DF-8ECA-4ACF-BCEC-567D4E11E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77EAB-BED9-4439-9A39-8E072F840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E11C45-15C1-4677-A5AF-43B2C03D4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EB6FFE-2C2B-4AF3-9945-452230462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A55057-537E-46C0-AB36-14A6E64B6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F22FB4-87BF-4DC8-902F-8400AAA39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6D3DFC-A584-4057-BEE4-16C222D7D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45E01A-7DC7-4B38-A3ED-232834F11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B072F9-6B13-42F7-BB7B-BC83B5880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0E5751-406E-4077-9D09-A37B61DF3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BB453E-CFF4-4FAB-ABC6-32237DD63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209794-B167-439B-BEB9-BC14A9282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88D73-10BC-4270-805A-C689149E0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F4C718-F736-4281-ABDE-701D96B44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584453-CFCD-4B41-8548-B20DB818F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B43989-2668-484D-B7D3-2077EB822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C9B7D1-0921-45F2-B0C0-657B40620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CB95E1-9556-4A18-8BC4-3AAC8679A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9BF1CE-9ECE-45CA-B62D-E1B9C82BE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2F29CB-3349-4B64-A54A-0C5817996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D2CD45-6144-4B64-BC88-3C92234BC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F709BB-C8A9-4A4F-89E3-5F6B864D6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5AECF3-9E5B-4A8F-A2C1-813BEAA8F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3AD1F-6002-4DFE-BAE4-6AA972592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6EC7DF-465A-4851-92C7-1396B6FA3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5597F3-3209-4C98-99A0-57F938BC5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855265-9799-4E64-806B-6B13DF0F9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F0D125-F3B1-4BAD-A756-70FECEBA6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E24295-C66E-4E63-8B95-4258EF3B9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6803E6-D704-4AEF-8491-307C2BBF7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8DFB9B-46F1-4945-A937-B87101647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8F6AA4-BF72-46CB-933A-9B950DF35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1226C7-F871-4181-ADDB-73D11F063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FA41F6-8F25-4B66-A841-210DEC94F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A1C1A-6B45-4B16-BBCC-93634E98D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BC0C93-6CEC-4A8D-BC06-3C116608F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CEFD50-8785-4118-85A6-919A9ECD0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DC2E45-34EE-4A44-966A-50FABC630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D4A577-47F8-4F61-BA2C-805ECD07D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EBF952-946A-4399-8240-44C48CBA7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2C2CEA-EF5A-4DFF-B2FE-A81BB39ED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A7E138-F40C-4831-93BB-70278779C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E56A0D-EA5F-4247-9722-62798AB84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DA5AF1-0CB5-4215-BBFF-C588C3015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B5FAC4-415C-425A-B130-9017FF28F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1A0C3-10D1-43F4-9469-8B4EFB904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AE6423-2D1F-494D-A11E-6160CB284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933E00-7046-41EA-B2FA-18F173E62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559C93-99A7-4102-84F4-5F936529B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9DB460-D7EB-474E-A6C4-60869AB4A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A6C9ED-35D0-4A16-972A-6151A23D9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6CADDA-8C62-4B47-853E-C42441D2E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68FC6C-531C-4E7E-94BD-7AD0D6224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6C45B5-DCA9-408B-AFF9-7C6299F84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CB96BD-D226-440C-90D8-D41F2B070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E310AB-76EF-4628-8CD2-9FACF3839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41AD3-FAC5-4466-949A-34144EF4C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9AB98D-09D3-408A-B6A6-0D278E207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4F6DB8-B408-46FE-997A-33743886E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AC2703-F53A-4240-87E1-92CD41543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CA6AB1-9CF1-4A5B-A869-8AAF44C8D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095099-F130-4688-9D01-EEDB6871B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77A3F6-86EA-4B9A-8789-54E09AF02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DD48A1-AE8F-44AA-BBBF-40E502368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image" Target="../media/image5.wmf"/><Relationship Id="rId7" Type="http://schemas.openxmlformats.org/officeDocument/2006/relationships/image" Target="../media/image5.wmf"/><Relationship Id="rId8" Type="http://schemas.openxmlformats.org/officeDocument/2006/relationships/image" Target="../media/image5.wmf"/><Relationship Id="rId9" Type="http://schemas.openxmlformats.org/officeDocument/2006/relationships/image" Target="../media/image5.wmf"/><Relationship Id="rId10" Type="http://schemas.openxmlformats.org/officeDocument/2006/relationships/image" Target="../media/image5.wmf"/><Relationship Id="rId11" Type="http://schemas.openxmlformats.org/officeDocument/2006/relationships/image" Target="../media/image5.wmf"/><Relationship Id="rId12" Type="http://schemas.openxmlformats.org/officeDocument/2006/relationships/image" Target="../media/image5.wmf"/><Relationship Id="rId13" Type="http://schemas.openxmlformats.org/officeDocument/2006/relationships/image" Target="../media/image5.wmf"/><Relationship Id="rId14" Type="http://schemas.openxmlformats.org/officeDocument/2006/relationships/image" Target="../media/image5.wmf"/><Relationship Id="rId15" Type="http://schemas.openxmlformats.org/officeDocument/2006/relationships/image" Target="../media/image5.wmf"/><Relationship Id="rId16" Type="http://schemas.openxmlformats.org/officeDocument/2006/relationships/image" Target="../media/image5.wmf"/><Relationship Id="rId17" Type="http://schemas.openxmlformats.org/officeDocument/2006/relationships/image" Target="../media/image5.wmf"/><Relationship Id="rId18" Type="http://schemas.openxmlformats.org/officeDocument/2006/relationships/image" Target="../media/image5.wmf"/><Relationship Id="rId19" Type="http://schemas.openxmlformats.org/officeDocument/2006/relationships/image" Target="../media/image5.wmf"/><Relationship Id="rId20" Type="http://schemas.openxmlformats.org/officeDocument/2006/relationships/image" Target="../media/image5.wmf"/><Relationship Id="rId21" Type="http://schemas.openxmlformats.org/officeDocument/2006/relationships/image" Target="../media/image5.wmf"/><Relationship Id="rId22" Type="http://schemas.openxmlformats.org/officeDocument/2006/relationships/image" Target="../media/image5.wmf"/><Relationship Id="rId23" Type="http://schemas.openxmlformats.org/officeDocument/2006/relationships/image" Target="../media/image5.wmf"/><Relationship Id="rId24" Type="http://schemas.openxmlformats.org/officeDocument/2006/relationships/image" Target="../media/image5.wmf"/><Relationship Id="rId25" Type="http://schemas.openxmlformats.org/officeDocument/2006/relationships/image" Target="../media/image5.wmf"/><Relationship Id="rId26" Type="http://schemas.openxmlformats.org/officeDocument/2006/relationships/image" Target="../media/image5.wmf"/><Relationship Id="rId27" Type="http://schemas.openxmlformats.org/officeDocument/2006/relationships/image" Target="../media/image5.wmf"/><Relationship Id="rId28" Type="http://schemas.openxmlformats.org/officeDocument/2006/relationships/image" Target="../media/image5.wmf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8.png"/><Relationship Id="rId33" Type="http://schemas.openxmlformats.org/officeDocument/2006/relationships/image" Target="../media/image9.png"/><Relationship Id="rId34" Type="http://schemas.openxmlformats.org/officeDocument/2006/relationships/slideLayout" Target="../slideLayouts/slideLayout49.xml"/><Relationship Id="rId35" Type="http://schemas.openxmlformats.org/officeDocument/2006/relationships/slideLayout" Target="../slideLayouts/slideLayout50.xml"/><Relationship Id="rId36" Type="http://schemas.openxmlformats.org/officeDocument/2006/relationships/slideLayout" Target="../slideLayouts/slideLayout51.xml"/><Relationship Id="rId37" Type="http://schemas.openxmlformats.org/officeDocument/2006/relationships/slideLayout" Target="../slideLayouts/slideLayout52.xml"/><Relationship Id="rId38" Type="http://schemas.openxmlformats.org/officeDocument/2006/relationships/slideLayout" Target="../slideLayouts/slideLayout53.xml"/><Relationship Id="rId39" Type="http://schemas.openxmlformats.org/officeDocument/2006/relationships/slideLayout" Target="../slideLayouts/slideLayout54.xml"/><Relationship Id="rId40" Type="http://schemas.openxmlformats.org/officeDocument/2006/relationships/slideLayout" Target="../slideLayouts/slideLayout55.xml"/><Relationship Id="rId41" Type="http://schemas.openxmlformats.org/officeDocument/2006/relationships/slideLayout" Target="../slideLayouts/slideLayout56.xml"/><Relationship Id="rId42" Type="http://schemas.openxmlformats.org/officeDocument/2006/relationships/slideLayout" Target="../slideLayouts/slideLayout57.xml"/><Relationship Id="rId43" Type="http://schemas.openxmlformats.org/officeDocument/2006/relationships/slideLayout" Target="../slideLayouts/slideLayout58.xml"/><Relationship Id="rId44" Type="http://schemas.openxmlformats.org/officeDocument/2006/relationships/slideLayout" Target="../slideLayouts/slideLayout59.xml"/><Relationship Id="rId4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image" Target="../media/image5.wmf"/><Relationship Id="rId7" Type="http://schemas.openxmlformats.org/officeDocument/2006/relationships/image" Target="../media/image5.wmf"/><Relationship Id="rId8" Type="http://schemas.openxmlformats.org/officeDocument/2006/relationships/image" Target="../media/image5.wmf"/><Relationship Id="rId9" Type="http://schemas.openxmlformats.org/officeDocument/2006/relationships/image" Target="../media/image5.wmf"/><Relationship Id="rId10" Type="http://schemas.openxmlformats.org/officeDocument/2006/relationships/image" Target="../media/image5.wmf"/><Relationship Id="rId11" Type="http://schemas.openxmlformats.org/officeDocument/2006/relationships/image" Target="../media/image5.wmf"/><Relationship Id="rId12" Type="http://schemas.openxmlformats.org/officeDocument/2006/relationships/image" Target="../media/image5.wmf"/><Relationship Id="rId13" Type="http://schemas.openxmlformats.org/officeDocument/2006/relationships/image" Target="../media/image5.wmf"/><Relationship Id="rId14" Type="http://schemas.openxmlformats.org/officeDocument/2006/relationships/image" Target="../media/image5.wmf"/><Relationship Id="rId15" Type="http://schemas.openxmlformats.org/officeDocument/2006/relationships/image" Target="../media/image5.wmf"/><Relationship Id="rId16" Type="http://schemas.openxmlformats.org/officeDocument/2006/relationships/image" Target="../media/image5.wmf"/><Relationship Id="rId17" Type="http://schemas.openxmlformats.org/officeDocument/2006/relationships/image" Target="../media/image5.wmf"/><Relationship Id="rId18" Type="http://schemas.openxmlformats.org/officeDocument/2006/relationships/image" Target="../media/image5.wmf"/><Relationship Id="rId19" Type="http://schemas.openxmlformats.org/officeDocument/2006/relationships/image" Target="../media/image5.wmf"/><Relationship Id="rId20" Type="http://schemas.openxmlformats.org/officeDocument/2006/relationships/image" Target="../media/image5.wmf"/><Relationship Id="rId21" Type="http://schemas.openxmlformats.org/officeDocument/2006/relationships/image" Target="../media/image5.wmf"/><Relationship Id="rId22" Type="http://schemas.openxmlformats.org/officeDocument/2006/relationships/image" Target="../media/image5.wmf"/><Relationship Id="rId23" Type="http://schemas.openxmlformats.org/officeDocument/2006/relationships/image" Target="../media/image5.wmf"/><Relationship Id="rId24" Type="http://schemas.openxmlformats.org/officeDocument/2006/relationships/image" Target="../media/image5.wmf"/><Relationship Id="rId25" Type="http://schemas.openxmlformats.org/officeDocument/2006/relationships/image" Target="../media/image5.wmf"/><Relationship Id="rId26" Type="http://schemas.openxmlformats.org/officeDocument/2006/relationships/image" Target="../media/image5.wmf"/><Relationship Id="rId27" Type="http://schemas.openxmlformats.org/officeDocument/2006/relationships/image" Target="../media/image5.wmf"/><Relationship Id="rId28" Type="http://schemas.openxmlformats.org/officeDocument/2006/relationships/image" Target="../media/image5.wmf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slideLayout" Target="../slideLayouts/slideLayout61.xml"/><Relationship Id="rId32" Type="http://schemas.openxmlformats.org/officeDocument/2006/relationships/slideLayout" Target="../slideLayouts/slideLayout62.xml"/><Relationship Id="rId33" Type="http://schemas.openxmlformats.org/officeDocument/2006/relationships/slideLayout" Target="../slideLayouts/slideLayout63.xml"/><Relationship Id="rId34" Type="http://schemas.openxmlformats.org/officeDocument/2006/relationships/slideLayout" Target="../slideLayouts/slideLayout64.xml"/><Relationship Id="rId35" Type="http://schemas.openxmlformats.org/officeDocument/2006/relationships/slideLayout" Target="../slideLayouts/slideLayout65.xml"/><Relationship Id="rId36" Type="http://schemas.openxmlformats.org/officeDocument/2006/relationships/slideLayout" Target="../slideLayouts/slideLayout66.xml"/><Relationship Id="rId37" Type="http://schemas.openxmlformats.org/officeDocument/2006/relationships/slideLayout" Target="../slideLayouts/slideLayout67.xml"/><Relationship Id="rId38" Type="http://schemas.openxmlformats.org/officeDocument/2006/relationships/slideLayout" Target="../slideLayouts/slideLayout68.xml"/><Relationship Id="rId39" Type="http://schemas.openxmlformats.org/officeDocument/2006/relationships/slideLayout" Target="../slideLayouts/slideLayout69.xml"/><Relationship Id="rId40" Type="http://schemas.openxmlformats.org/officeDocument/2006/relationships/slideLayout" Target="../slideLayouts/slideLayout70.xml"/><Relationship Id="rId41" Type="http://schemas.openxmlformats.org/officeDocument/2006/relationships/slideLayout" Target="../slideLayouts/slideLayout71.xml"/><Relationship Id="rId42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9F525-8CB4-4AE8-973F-1965EAB394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1344E-A5E0-4C07-AB8A-6BA83B7BA9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2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4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5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33E8B-A432-4BB8-BF67-D6CDC5982F1D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1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62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74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75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AC17B-C798-4D77-969D-8C2520042011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1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242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45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246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247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51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4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257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8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9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0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1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2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3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4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65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66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7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8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9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0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1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2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3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4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5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6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7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8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9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0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1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2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3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4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285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dt" idx="13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 type="ftr" idx="14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 type="sldNum" idx="15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79B82-2666-47B2-B030-575A645ACAA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4"/>
    <p:sldLayoutId id="2147483702" r:id="rId35"/>
    <p:sldLayoutId id="2147483703" r:id="rId36"/>
    <p:sldLayoutId id="2147483704" r:id="rId37"/>
    <p:sldLayoutId id="2147483705" r:id="rId38"/>
    <p:sldLayoutId id="2147483706" r:id="rId39"/>
    <p:sldLayoutId id="2147483707" r:id="rId40"/>
    <p:sldLayoutId id="2147483708" r:id="rId41"/>
    <p:sldLayoutId id="2147483709" r:id="rId42"/>
    <p:sldLayoutId id="2147483710" r:id="rId43"/>
    <p:sldLayoutId id="2147483711" r:id="rId44"/>
    <p:sldLayoutId id="2147483712" r:id="rId4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7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338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41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342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343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344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345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6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47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8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9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0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1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2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353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5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6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7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8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9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0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361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362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3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4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5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6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7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8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9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0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1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2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3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4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5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6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7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8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9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0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381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dt" idx="16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 type="ftr" idx="17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 type="sldNum" idx="18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1513D-7FA6-4859-BD17-68D24B8F7FE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1"/>
    <p:sldLayoutId id="2147483715" r:id="rId32"/>
    <p:sldLayoutId id="2147483716" r:id="rId33"/>
    <p:sldLayoutId id="2147483717" r:id="rId34"/>
    <p:sldLayoutId id="2147483718" r:id="rId35"/>
    <p:sldLayoutId id="2147483719" r:id="rId36"/>
    <p:sldLayoutId id="2147483720" r:id="rId37"/>
    <p:sldLayoutId id="2147483721" r:id="rId38"/>
    <p:sldLayoutId id="2147483722" r:id="rId39"/>
    <p:sldLayoutId id="2147483723" r:id="rId40"/>
    <p:sldLayoutId id="2147483724" r:id="rId41"/>
    <p:sldLayoutId id="2147483725" r:id="rId42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2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433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0FE33-B1F6-4D32-8217-4334E2D38AAB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6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77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9" name="PlaceHolder 1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D959C-C79C-4E40-9A2E-03111E86F06B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7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7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7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7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7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7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7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900000" y="3203280"/>
            <a:ext cx="6872400" cy="27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ff"/>
                </a:solidFill>
                <a:latin typeface="Times New Roman"/>
              </a:rPr>
              <a:t>6 сынып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ff"/>
                </a:solidFill>
                <a:latin typeface="Times New Roman"/>
              </a:rPr>
              <a:t>Пән мұғалімі :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ff"/>
                </a:solidFill>
                <a:latin typeface="Times New Roman"/>
              </a:rPr>
              <a:t>Қонқабаева О.А.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20" name="" descr=""/>
          <p:cNvPicPr/>
          <p:nvPr/>
        </p:nvPicPr>
        <p:blipFill>
          <a:blip r:embed="rId1"/>
          <a:stretch/>
        </p:blipFill>
        <p:spPr>
          <a:xfrm>
            <a:off x="539640" y="260280"/>
            <a:ext cx="3095640" cy="2737080"/>
          </a:xfrm>
          <a:prstGeom prst="rect">
            <a:avLst/>
          </a:prstGeom>
          <a:ln w="0">
            <a:noFill/>
          </a:ln>
        </p:spPr>
      </p:pic>
      <p:sp>
        <p:nvSpPr>
          <p:cNvPr id="521" name=""/>
          <p:cNvSpPr txBox="1"/>
          <p:nvPr/>
        </p:nvSpPr>
        <p:spPr>
          <a:xfrm rot="21390600">
            <a:off x="3997080" y="615600"/>
            <a:ext cx="4608360" cy="216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Times New Roman"/>
              </a:rPr>
              <a:t>Құрлықтағы таулар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" dur="2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"/>
          <p:cNvSpPr/>
          <p:nvPr/>
        </p:nvSpPr>
        <p:spPr>
          <a:xfrm>
            <a:off x="2050920" y="2637000"/>
            <a:ext cx="5473800" cy="3384360"/>
          </a:xfrm>
          <a:prstGeom prst="triangle">
            <a:avLst>
              <a:gd name="adj" fmla="val 50000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ffffff"/>
                </a:solidFill>
                <a:latin typeface="Times New Roman"/>
              </a:rPr>
              <a:t>БЕТКЕЙІ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3419640" y="1484280"/>
            <a:ext cx="2663640" cy="7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ffffff"/>
                </a:solidFill>
                <a:latin typeface="Times New Roman"/>
              </a:rPr>
              <a:t>БАСЫ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3564000" y="333360"/>
            <a:ext cx="2324160" cy="7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ffffff"/>
                </a:solidFill>
                <a:latin typeface="Times New Roman"/>
              </a:rPr>
              <a:t>ШЫНЫ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 rot="3034200">
            <a:off x="5133600" y="3877920"/>
            <a:ext cx="2455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ffffff"/>
                </a:solidFill>
                <a:latin typeface="Times New Roman"/>
              </a:rPr>
              <a:t>ЖОТАСЫ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4069440" y="5950080"/>
            <a:ext cx="157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ffffff"/>
                </a:solidFill>
                <a:latin typeface="Times New Roman"/>
              </a:rPr>
              <a:t>ЕТЕГІ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"/>
          <p:cNvSpPr/>
          <p:nvPr/>
        </p:nvSpPr>
        <p:spPr>
          <a:xfrm>
            <a:off x="826920" y="981000"/>
            <a:ext cx="2953080" cy="57636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Аспан таулары мағынасы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Times New Roman"/>
              </a:rPr>
              <a:t>білдіретін</a:t>
            </a: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 тау атау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826920" y="2205000"/>
            <a:ext cx="2664000" cy="64764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Әлемдегі ең биік </a:t>
            </a:r>
            <a:r>
              <a:rPr b="0" lang="kk-KZ" sz="1800" spc="-1" strike="noStrike">
                <a:solidFill>
                  <a:srgbClr val="ffffff"/>
                </a:solidFill>
                <a:latin typeface="Times New Roman"/>
              </a:rPr>
              <a:t>таула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826920" y="3789360"/>
            <a:ext cx="2664000" cy="57636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Азия мен Еуропан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Бөліп тұрған таула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755640" y="5157720"/>
            <a:ext cx="2735280" cy="57636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Ең  ұзын таулар жүйесі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5219640" y="1052640"/>
            <a:ext cx="2592360" cy="50472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Ора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5364000" y="2565360"/>
            <a:ext cx="2521080" cy="50328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Times New Roman"/>
              </a:rPr>
              <a:t>Тянь-Шан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5364000" y="3789360"/>
            <a:ext cx="2521080" cy="57636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Times New Roman"/>
              </a:rPr>
              <a:t>Гимала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5292720" y="5157720"/>
            <a:ext cx="2519280" cy="57636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Times New Roman"/>
              </a:rPr>
              <a:t>Анд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3708360" y="1484280"/>
            <a:ext cx="1871640" cy="1081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3492360" y="2565360"/>
            <a:ext cx="2016360" cy="1224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 flipV="1">
            <a:off x="3492360" y="1557360"/>
            <a:ext cx="1871640" cy="2519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3492360" y="5445000"/>
            <a:ext cx="1800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2128680" y="0"/>
            <a:ext cx="4981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ffffff"/>
                </a:solidFill>
                <a:latin typeface="Times New Roman"/>
              </a:rPr>
              <a:t>СӘЙКЕСТЕРІН ТАП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ff3300"/>
                </a:solidFill>
                <a:latin typeface="Times New Roman"/>
              </a:rPr>
              <a:t>Таулардың пайда болуына қарай жіктелуі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9" name=""/>
          <p:cNvSpPr/>
          <p:nvPr/>
        </p:nvSpPr>
        <p:spPr>
          <a:xfrm>
            <a:off x="755640" y="2637000"/>
            <a:ext cx="2879640" cy="115236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ffffff"/>
                </a:solidFill>
                <a:latin typeface="Times New Roman"/>
              </a:rPr>
              <a:t>Қатпарлы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ffffff"/>
                </a:solidFill>
                <a:latin typeface="Times New Roman"/>
              </a:rPr>
              <a:t>та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5292720" y="2421000"/>
            <a:ext cx="2519280" cy="165564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ffffff"/>
                </a:solidFill>
                <a:latin typeface="Times New Roman"/>
              </a:rPr>
              <a:t>Қатпарлы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ffffff"/>
                </a:solidFill>
                <a:latin typeface="Times New Roman"/>
              </a:rPr>
              <a:t>- жақпарлы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1619280" y="4724280"/>
            <a:ext cx="2952720" cy="194328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ffffff"/>
                </a:solidFill>
                <a:latin typeface="Times New Roman"/>
              </a:rPr>
              <a:t>Альпі,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ffffff"/>
                </a:solidFill>
                <a:latin typeface="Times New Roman"/>
              </a:rPr>
              <a:t>Кавказ,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ffffff"/>
                </a:solidFill>
                <a:latin typeface="Times New Roman"/>
              </a:rPr>
              <a:t>Кордильер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5724360" y="5084640"/>
            <a:ext cx="2808360" cy="122400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ffffff"/>
                </a:solidFill>
                <a:latin typeface="Times New Roman"/>
              </a:rPr>
              <a:t>Алтай,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ffffff"/>
                </a:solidFill>
                <a:latin typeface="Times New Roman"/>
              </a:rPr>
              <a:t>Тянь-Шан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1692360" y="3789360"/>
            <a:ext cx="1079280" cy="93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6732720" y="4076640"/>
            <a:ext cx="431640" cy="1008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 flipH="1">
            <a:off x="2268360" y="1484280"/>
            <a:ext cx="1656000" cy="1081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5364000" y="1484280"/>
            <a:ext cx="1440000" cy="865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ff3300"/>
                </a:solidFill>
                <a:latin typeface="Tahoma"/>
              </a:rPr>
              <a:t>Таулардың жасына қарай жіктелуі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8" name=""/>
          <p:cNvSpPr/>
          <p:nvPr/>
        </p:nvSpPr>
        <p:spPr>
          <a:xfrm>
            <a:off x="1042920" y="2708280"/>
            <a:ext cx="3529080" cy="86364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ffffff"/>
                </a:solidFill>
                <a:latin typeface="Times New Roman"/>
              </a:rPr>
              <a:t>Ескі</a:t>
            </a:r>
            <a:r>
              <a:rPr b="0" lang="kk-KZ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kk-KZ" sz="4000" spc="-1" strike="noStrike">
                <a:solidFill>
                  <a:srgbClr val="ffffff"/>
                </a:solidFill>
                <a:latin typeface="Times New Roman"/>
              </a:rPr>
              <a:t>та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4932360" y="2852640"/>
            <a:ext cx="2881440" cy="64764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ffffff"/>
                </a:solidFill>
                <a:latin typeface="Times New Roman"/>
              </a:rPr>
              <a:t>Жас таулар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1332000" y="4653000"/>
            <a:ext cx="2808360" cy="64764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ffffff"/>
                </a:solidFill>
                <a:latin typeface="Times New Roman"/>
              </a:rPr>
              <a:t>Ора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4932360" y="4437000"/>
            <a:ext cx="3166920" cy="187164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ffffff"/>
                </a:solidFill>
                <a:latin typeface="Times New Roman"/>
              </a:rPr>
              <a:t>Кавказ,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ffffff"/>
                </a:solidFill>
                <a:latin typeface="Times New Roman"/>
              </a:rPr>
              <a:t>Памир,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ffffff"/>
                </a:solidFill>
                <a:latin typeface="Times New Roman"/>
              </a:rPr>
              <a:t>Гимала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 flipH="1">
            <a:off x="2843280" y="1413000"/>
            <a:ext cx="1441440" cy="1224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4932360" y="1484280"/>
            <a:ext cx="1368360" cy="1224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2700360" y="3573360"/>
            <a:ext cx="0" cy="1008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6443640" y="3500280"/>
            <a:ext cx="0" cy="865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229600" cy="15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7200" spc="-1" strike="noStrike">
                <a:solidFill>
                  <a:srgbClr val="ff3300"/>
                </a:solidFill>
                <a:latin typeface="Times New Roman"/>
              </a:rPr>
              <a:t>Үгілу</a:t>
            </a:r>
            <a:endParaRPr b="0" lang="en-US" sz="7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7" name=""/>
          <p:cNvSpPr/>
          <p:nvPr/>
        </p:nvSpPr>
        <p:spPr>
          <a:xfrm>
            <a:off x="395280" y="2708280"/>
            <a:ext cx="2519280" cy="72072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ffffff"/>
                </a:solidFill>
                <a:latin typeface="Times New Roman"/>
              </a:rPr>
              <a:t>Физикалық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3635280" y="3068640"/>
            <a:ext cx="2521080" cy="64764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ffffff"/>
                </a:solidFill>
                <a:latin typeface="Times New Roman"/>
              </a:rPr>
              <a:t>Химиялық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5580000" y="4005360"/>
            <a:ext cx="3311640" cy="79200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ffffff"/>
                </a:solidFill>
                <a:latin typeface="Times New Roman"/>
              </a:rPr>
              <a:t>Органикалық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692000" y="1484280"/>
            <a:ext cx="2879640" cy="1224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4572000" y="1484280"/>
            <a:ext cx="0" cy="1584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4572000" y="1484280"/>
            <a:ext cx="2736720" cy="2521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3" name="" descr=""/>
          <p:cNvPicPr/>
          <p:nvPr/>
        </p:nvPicPr>
        <p:blipFill>
          <a:blip r:embed="rId1"/>
          <a:stretch/>
        </p:blipFill>
        <p:spPr>
          <a:xfrm>
            <a:off x="826920" y="4221000"/>
            <a:ext cx="3529080" cy="23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/>
          </p:nvPr>
        </p:nvSpPr>
        <p:spPr>
          <a:xfrm>
            <a:off x="179280" y="333000"/>
            <a:ext cx="850752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ff"/>
                </a:solidFill>
                <a:latin typeface="Times New Roman"/>
              </a:rPr>
              <a:t>Тау  жасайтын </a:t>
            </a:r>
            <a:r>
              <a:rPr b="1" lang="kk-KZ" sz="3600" spc="-1" strike="noStrike">
                <a:solidFill>
                  <a:srgbClr val="3333ff"/>
                </a:solidFill>
                <a:latin typeface="Times New Roman"/>
              </a:rPr>
              <a:t>ішкі күштер,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3333ff"/>
                </a:solidFill>
                <a:latin typeface="Times New Roman"/>
              </a:rPr>
              <a:t>өзге емес оны істе,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3333ff"/>
                </a:solidFill>
                <a:latin typeface="Times New Roman"/>
              </a:rPr>
              <a:t>тауды тағы бұзатын,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3333ff"/>
                </a:solidFill>
                <a:latin typeface="Times New Roman"/>
              </a:rPr>
              <a:t>адам емес сыртқы күштер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3333ff"/>
                </a:solidFill>
                <a:latin typeface="Times New Roman"/>
              </a:rPr>
              <a:t>Ішкі күштерге:</a:t>
            </a:r>
            <a:r>
              <a:rPr b="0" lang="kk-KZ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kk-KZ" sz="2800" spc="-1" strike="noStrike">
                <a:solidFill>
                  <a:srgbClr val="ffffff"/>
                </a:solidFill>
                <a:latin typeface="Times New Roman"/>
              </a:rPr>
              <a:t>а) жер сілкіну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ff"/>
                </a:solidFill>
                <a:latin typeface="Times New Roman"/>
              </a:rPr>
              <a:t>                          </a:t>
            </a:r>
            <a:r>
              <a:rPr b="0" lang="kk-KZ" sz="2800" spc="-1" strike="noStrike">
                <a:solidFill>
                  <a:srgbClr val="ffffff"/>
                </a:solidFill>
                <a:latin typeface="Times New Roman"/>
              </a:rPr>
              <a:t>б)  жаңартаудың атқылау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3333ff"/>
                </a:solidFill>
                <a:latin typeface="Times New Roman"/>
              </a:rPr>
              <a:t>Сыртқы күштер:</a:t>
            </a:r>
            <a:r>
              <a:rPr b="0" lang="kk-KZ" sz="2800" spc="-1" strike="noStrike">
                <a:solidFill>
                  <a:srgbClr val="ffffff"/>
                </a:solidFill>
                <a:latin typeface="Times New Roman"/>
              </a:rPr>
              <a:t> жел, қар, жаңбыр, ыстық – суық ау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3333ff"/>
                </a:solidFill>
                <a:latin typeface="Times New Roman"/>
              </a:rPr>
              <a:t>Химиялық үгілу:</a:t>
            </a:r>
            <a:r>
              <a:rPr b="0" lang="kk-KZ" sz="2800" spc="-1" strike="noStrike">
                <a:solidFill>
                  <a:srgbClr val="ffffff"/>
                </a:solidFill>
                <a:latin typeface="Times New Roman"/>
              </a:rPr>
              <a:t> тұздар, қышқылдар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85" name="" descr=""/>
          <p:cNvPicPr/>
          <p:nvPr/>
        </p:nvPicPr>
        <p:blipFill>
          <a:blip r:embed="rId1"/>
          <a:stretch/>
        </p:blipFill>
        <p:spPr>
          <a:xfrm rot="1050000">
            <a:off x="6084720" y="692280"/>
            <a:ext cx="2772000" cy="210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/>
          </p:nvPr>
        </p:nvSpPr>
        <p:spPr>
          <a:xfrm>
            <a:off x="468360" y="333360"/>
            <a:ext cx="822960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800" spc="-1" strike="noStrike">
                <a:solidFill>
                  <a:srgbClr val="3333ff"/>
                </a:solidFill>
                <a:latin typeface="Times New Roman"/>
              </a:rPr>
              <a:t>Картамен жұмыс: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Times New Roman"/>
              </a:rPr>
              <a:t>Кескін картада тауды қоңыр бояумен бояу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3333ff"/>
                </a:solidFill>
                <a:latin typeface="Times New Roman"/>
              </a:rPr>
              <a:t>кане, бәрін ойлаңдар, тізімде қандай таулар бар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ffffff"/>
                </a:solidFill>
                <a:latin typeface="Times New Roman"/>
              </a:rPr>
              <a:t>1) Волга                      6) Байкал                     11) Жайық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ffffff"/>
                </a:solidFill>
                <a:latin typeface="Times New Roman"/>
              </a:rPr>
              <a:t>2) Анд                         7) Гималай                   12) Балқаш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ffffff"/>
                </a:solidFill>
                <a:latin typeface="Times New Roman"/>
              </a:rPr>
              <a:t>3) Амазонка               8) Каспий                     13) Альпі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ffffff"/>
                </a:solidFill>
                <a:latin typeface="Times New Roman"/>
              </a:rPr>
              <a:t>4) Кордильер             9) Тибет                       14) Ара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ffffff"/>
                </a:solidFill>
                <a:latin typeface="Times New Roman"/>
              </a:rPr>
              <a:t>5) Алтай                     10) Тянь-шянь            15) Карпа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ffffff"/>
                </a:solidFill>
                <a:latin typeface="Times New Roman"/>
              </a:rPr>
              <a:t>16) Көкшетау            17) Жерорта                18) Ерті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/>
          </p:nvPr>
        </p:nvSpPr>
        <p:spPr>
          <a:xfrm>
            <a:off x="457200" y="188640"/>
            <a:ext cx="8229600" cy="61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400" spc="-1" strike="noStrike">
                <a:solidFill>
                  <a:srgbClr val="3333ff"/>
                </a:solidFill>
                <a:latin typeface="Times New Roman"/>
              </a:rPr>
              <a:t>Кім тауға тез шығады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kk-KZ" sz="3200" spc="-1" strike="noStrike">
                <a:solidFill>
                  <a:srgbClr val="ffffff"/>
                </a:solidFill>
                <a:latin typeface="Times New Roman"/>
              </a:rPr>
              <a:t>-тау тапсырмаларын оқушыларға барып, алып, дұрыс жауап беру керек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I</a:t>
            </a:r>
            <a:r>
              <a:rPr b="0" lang="kk-KZ" sz="3200" spc="-1" strike="noStrike">
                <a:solidFill>
                  <a:srgbClr val="ffffff"/>
                </a:solidFill>
                <a:latin typeface="Times New Roman"/>
              </a:rPr>
              <a:t>--тау тапсырмаларын оқушыларға барып, алып, дұрыс жауап беру керек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88" name="" descr=""/>
          <p:cNvPicPr/>
          <p:nvPr/>
        </p:nvPicPr>
        <p:blipFill>
          <a:blip r:embed="rId1"/>
          <a:stretch/>
        </p:blipFill>
        <p:spPr>
          <a:xfrm>
            <a:off x="2627280" y="3429000"/>
            <a:ext cx="3565440" cy="29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400" spc="-1" strike="noStrike">
                <a:solidFill>
                  <a:srgbClr val="3333ff"/>
                </a:solidFill>
                <a:latin typeface="Tahoma"/>
              </a:rPr>
              <a:t>Құрлықтағы ең биік шыңдар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590" name=""/>
          <p:cNvGraphicFramePr/>
          <p:nvPr/>
        </p:nvGraphicFramePr>
        <p:xfrm>
          <a:off x="250920" y="1557360"/>
          <a:ext cx="8713800" cy="2089080"/>
        </p:xfrm>
        <a:graphic>
          <a:graphicData uri="http://schemas.openxmlformats.org/drawingml/2006/table">
            <a:tbl>
              <a:tblPr/>
              <a:tblGrid>
                <a:gridCol w="288720"/>
                <a:gridCol w="1224000"/>
                <a:gridCol w="360360"/>
                <a:gridCol w="1120680"/>
                <a:gridCol w="390600"/>
                <a:gridCol w="1003320"/>
                <a:gridCol w="365040"/>
                <a:gridCol w="1028880"/>
                <a:gridCol w="339840"/>
                <a:gridCol w="1054080"/>
                <a:gridCol w="385560"/>
                <a:gridCol w="1152720"/>
              </a:tblGrid>
              <a:tr h="7671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Еураз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Африка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олтүстік Америк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Оңтүстік Америк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Австралия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Антрактид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2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джамалунгм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килиманжар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Мак-кинл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анд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костюшк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инсон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91" name="" descr=""/>
          <p:cNvPicPr/>
          <p:nvPr/>
        </p:nvPicPr>
        <p:blipFill>
          <a:blip r:embed="rId1"/>
          <a:stretch/>
        </p:blipFill>
        <p:spPr>
          <a:xfrm rot="20732400">
            <a:off x="684360" y="4365720"/>
            <a:ext cx="2233440" cy="1549440"/>
          </a:xfrm>
          <a:prstGeom prst="rect">
            <a:avLst/>
          </a:prstGeom>
          <a:ln w="0">
            <a:noFill/>
          </a:ln>
        </p:spPr>
      </p:pic>
      <p:pic>
        <p:nvPicPr>
          <p:cNvPr id="592" name="" descr=""/>
          <p:cNvPicPr/>
          <p:nvPr/>
        </p:nvPicPr>
        <p:blipFill>
          <a:blip r:embed="rId2"/>
          <a:stretch/>
        </p:blipFill>
        <p:spPr>
          <a:xfrm rot="20839200">
            <a:off x="3708360" y="4365360"/>
            <a:ext cx="2233800" cy="1682640"/>
          </a:xfrm>
          <a:prstGeom prst="rect">
            <a:avLst/>
          </a:prstGeom>
          <a:ln w="0">
            <a:noFill/>
          </a:ln>
        </p:spPr>
      </p:pic>
      <p:pic>
        <p:nvPicPr>
          <p:cNvPr id="593" name="" descr=""/>
          <p:cNvPicPr/>
          <p:nvPr/>
        </p:nvPicPr>
        <p:blipFill>
          <a:blip r:embed="rId3"/>
          <a:stretch/>
        </p:blipFill>
        <p:spPr>
          <a:xfrm rot="20951400">
            <a:off x="6659280" y="4437000"/>
            <a:ext cx="2158920" cy="155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/>
          </p:nvPr>
        </p:nvSpPr>
        <p:spPr>
          <a:xfrm>
            <a:off x="457200" y="1844640"/>
            <a:ext cx="822960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505800" indent="-505800">
              <a:lnSpc>
                <a:spcPct val="100000"/>
              </a:lnSpc>
              <a:spcBef>
                <a:spcPts val="1001"/>
              </a:spcBef>
              <a:buClr>
                <a:srgbClr val="ffcc66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3333ff"/>
                </a:solidFill>
                <a:latin typeface="Times New Roman"/>
              </a:rPr>
              <a:t>Тау дегеніміз ..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505800" indent="-505800">
              <a:lnSpc>
                <a:spcPct val="100000"/>
              </a:lnSpc>
              <a:spcBef>
                <a:spcPts val="1001"/>
              </a:spcBef>
              <a:buClr>
                <a:srgbClr val="ffcc66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3333ff"/>
                </a:solidFill>
                <a:latin typeface="Times New Roman"/>
              </a:rPr>
              <a:t>Таулар ... Қарай үшке бөлінеді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505800" indent="-505800">
              <a:lnSpc>
                <a:spcPct val="100000"/>
              </a:lnSpc>
              <a:spcBef>
                <a:spcPts val="1001"/>
              </a:spcBef>
              <a:buClr>
                <a:srgbClr val="ffcc66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3333ff"/>
                </a:solidFill>
                <a:latin typeface="Times New Roman"/>
              </a:rPr>
              <a:t>Жер шарындағы ең биік тау ..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505800" indent="-505800">
              <a:lnSpc>
                <a:spcPct val="100000"/>
              </a:lnSpc>
              <a:spcBef>
                <a:spcPts val="1001"/>
              </a:spcBef>
              <a:buClr>
                <a:srgbClr val="ffcc66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3333ff"/>
                </a:solidFill>
                <a:latin typeface="Times New Roman"/>
              </a:rPr>
              <a:t>Қатпарлы таулар - ..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5058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50580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5" name=""/>
          <p:cNvSpPr txBox="1"/>
          <p:nvPr/>
        </p:nvSpPr>
        <p:spPr>
          <a:xfrm>
            <a:off x="971640" y="620640"/>
            <a:ext cx="4824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Times New Roman"/>
              </a:rPr>
              <a:t>Бекіту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96" name=""/>
          <p:cNvSpPr txBox="1"/>
          <p:nvPr/>
        </p:nvSpPr>
        <p:spPr>
          <a:xfrm rot="20692800">
            <a:off x="4642920" y="4797000"/>
            <a:ext cx="41054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Times New Roman"/>
              </a:rPr>
              <a:t>Бағалау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597" name="" descr=""/>
          <p:cNvPicPr/>
          <p:nvPr/>
        </p:nvPicPr>
        <p:blipFill>
          <a:blip r:embed="rId3"/>
          <a:stretch/>
        </p:blipFill>
        <p:spPr>
          <a:xfrm>
            <a:off x="5796000" y="260280"/>
            <a:ext cx="3097080" cy="21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kk-KZ" sz="2400" spc="-1" strike="noStrike">
                <a:solidFill>
                  <a:srgbClr val="ffffff"/>
                </a:solidFill>
                <a:latin typeface="Times New Roman"/>
              </a:rPr>
              <a:t>Бейімділік мақсаты: </a:t>
            </a:r>
            <a:r>
              <a:rPr b="0" lang="kk-KZ" sz="2400" spc="-1" strike="noStrike">
                <a:solidFill>
                  <a:srgbClr val="ffffff"/>
                </a:solidFill>
                <a:latin typeface="Times New Roman"/>
              </a:rPr>
              <a:t>оқушыларға таулар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Times New Roman"/>
              </a:rPr>
              <a:t>жайында  тау қыраты, үстірті, өлкесі, аңғары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Times New Roman"/>
              </a:rPr>
              <a:t>деген сөздердің ерекшеліктерімен маңыздылығ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Times New Roman"/>
              </a:rPr>
              <a:t>жайында білім беру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kk-KZ" sz="2400" spc="-1" strike="noStrike">
                <a:solidFill>
                  <a:srgbClr val="ffffff"/>
                </a:solidFill>
                <a:latin typeface="Times New Roman"/>
              </a:rPr>
              <a:t>Дамытушылық мақсаты:</a:t>
            </a:r>
            <a:r>
              <a:rPr b="0" lang="kk-KZ" sz="2400" spc="-1" strike="noStrike">
                <a:solidFill>
                  <a:srgbClr val="ffffff"/>
                </a:solidFill>
                <a:latin typeface="Times New Roman"/>
              </a:rPr>
              <a:t> оқушыларғ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Times New Roman"/>
              </a:rPr>
              <a:t>тауларды кескін картаға түсірте отырып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Times New Roman"/>
              </a:rPr>
              <a:t>құрлыстық ерекшеліктерін жайлы білімдерін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Times New Roman"/>
              </a:rPr>
              <a:t>дамыту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kk-KZ" sz="2400" spc="-1" strike="noStrike">
                <a:solidFill>
                  <a:srgbClr val="ffffff"/>
                </a:solidFill>
                <a:latin typeface="Times New Roman"/>
              </a:rPr>
              <a:t>Тәрбиелік мақсаты: </a:t>
            </a:r>
            <a:r>
              <a:rPr b="0" lang="kk-KZ" sz="2400" spc="-1" strike="noStrike">
                <a:solidFill>
                  <a:srgbClr val="ffffff"/>
                </a:solidFill>
                <a:latin typeface="Times New Roman"/>
              </a:rPr>
              <a:t>таулардың ерекшелігіне тоқтал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Times New Roman"/>
              </a:rPr>
              <a:t>барысында басты мақсат экологиялық тәрбие екенін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Times New Roman"/>
              </a:rPr>
              <a:t>ескерту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3" name=""/>
          <p:cNvSpPr txBox="1"/>
          <p:nvPr/>
        </p:nvSpPr>
        <p:spPr>
          <a:xfrm>
            <a:off x="1042920" y="333360"/>
            <a:ext cx="5905440" cy="13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Times New Roman"/>
              </a:rPr>
              <a:t>Сабақтың мақсаты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f7d47d"/>
                </a:solidFill>
                <a:latin typeface="Arial"/>
              </a:rPr>
              <a:t>Сабақтың барысы:</a:t>
            </a:r>
            <a:r>
              <a:rPr b="0" lang="kk-KZ" sz="4000" spc="-1" strike="noStrike">
                <a:solidFill>
                  <a:srgbClr val="f7d47d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63520" y="1341000"/>
            <a:ext cx="87012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2f1311"/>
                </a:solidFill>
                <a:latin typeface="Times New Roman"/>
              </a:rPr>
              <a:t>1</a:t>
            </a:r>
            <a:r>
              <a:rPr b="0" lang="kk-KZ" sz="2800" spc="-1" strike="noStrike">
                <a:solidFill>
                  <a:srgbClr val="2f1311"/>
                </a:solidFill>
                <a:latin typeface="Times New Roman"/>
              </a:rPr>
              <a:t>.Ұйымдастыру кезеңі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2f1311"/>
                </a:solidFill>
                <a:latin typeface="Times New Roman"/>
              </a:rPr>
              <a:t>2</a:t>
            </a:r>
            <a:r>
              <a:rPr b="0" lang="kk-KZ" sz="2800" spc="-1" strike="noStrike">
                <a:solidFill>
                  <a:srgbClr val="2f1311"/>
                </a:solidFill>
                <a:latin typeface="Times New Roman"/>
              </a:rPr>
              <a:t>. Үй тапсырмасын тексеру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2f1311"/>
                </a:solidFill>
                <a:latin typeface="Times New Roman"/>
              </a:rPr>
              <a:t>    </a:t>
            </a:r>
            <a:r>
              <a:rPr b="1" lang="kk-KZ" sz="2800" spc="-1" strike="noStrike">
                <a:solidFill>
                  <a:srgbClr val="2f1311"/>
                </a:solidFill>
                <a:latin typeface="Times New Roman"/>
              </a:rPr>
              <a:t>А</a:t>
            </a:r>
            <a:r>
              <a:rPr b="0" lang="kk-KZ" sz="2800" spc="-1" strike="noStrike">
                <a:solidFill>
                  <a:srgbClr val="2f1311"/>
                </a:solidFill>
                <a:latin typeface="Times New Roman"/>
              </a:rPr>
              <a:t>. Венн диограммасын толтыру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2f1311"/>
                </a:solidFill>
                <a:latin typeface="Times New Roman"/>
              </a:rPr>
              <a:t>    </a:t>
            </a:r>
            <a:r>
              <a:rPr b="1" lang="kk-KZ" sz="2800" spc="-1" strike="noStrike">
                <a:solidFill>
                  <a:srgbClr val="2f1311"/>
                </a:solidFill>
                <a:latin typeface="Times New Roman"/>
              </a:rPr>
              <a:t>Б</a:t>
            </a:r>
            <a:r>
              <a:rPr b="0" lang="kk-KZ" sz="2800" spc="-1" strike="noStrike">
                <a:solidFill>
                  <a:srgbClr val="2f1311"/>
                </a:solidFill>
                <a:latin typeface="Times New Roman"/>
              </a:rPr>
              <a:t>. “Бәйге жарысы.”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2f1311"/>
                </a:solidFill>
                <a:latin typeface="Times New Roman"/>
              </a:rPr>
              <a:t>    </a:t>
            </a:r>
            <a:r>
              <a:rPr b="1" lang="kk-KZ" sz="2800" spc="-1" strike="noStrike">
                <a:solidFill>
                  <a:srgbClr val="2f1311"/>
                </a:solidFill>
                <a:latin typeface="Times New Roman"/>
              </a:rPr>
              <a:t>В</a:t>
            </a:r>
            <a:r>
              <a:rPr b="0" lang="kk-KZ" sz="2800" spc="-1" strike="noStrike">
                <a:solidFill>
                  <a:srgbClr val="2f1311"/>
                </a:solidFill>
                <a:latin typeface="Times New Roman"/>
              </a:rPr>
              <a:t>. “Қыз қуу” жарысы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2f1311"/>
                </a:solidFill>
                <a:latin typeface="Times New Roman"/>
              </a:rPr>
              <a:t>    </a:t>
            </a:r>
            <a:r>
              <a:rPr b="1" lang="kk-KZ" sz="2800" spc="-1" strike="noStrike">
                <a:solidFill>
                  <a:srgbClr val="2f1311"/>
                </a:solidFill>
                <a:latin typeface="Times New Roman"/>
              </a:rPr>
              <a:t>Г</a:t>
            </a:r>
            <a:r>
              <a:rPr b="0" lang="kk-KZ" sz="2800" spc="-1" strike="noStrike">
                <a:solidFill>
                  <a:srgbClr val="2f1311"/>
                </a:solidFill>
                <a:latin typeface="Times New Roman"/>
              </a:rPr>
              <a:t>. Дұрыс жауабын тап «Адасқан атаулар»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2f1311"/>
                </a:solidFill>
                <a:latin typeface="Times New Roman"/>
              </a:rPr>
              <a:t>        </a:t>
            </a:r>
            <a:r>
              <a:rPr b="0" lang="kk-KZ" sz="2800" spc="-1" strike="noStrike">
                <a:solidFill>
                  <a:srgbClr val="2f1311"/>
                </a:solidFill>
                <a:latin typeface="Times New Roman"/>
              </a:rPr>
              <a:t>ойыны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2f1311"/>
                </a:solidFill>
                <a:latin typeface="Times New Roman"/>
              </a:rPr>
              <a:t>    </a:t>
            </a:r>
            <a:r>
              <a:rPr b="1" lang="kk-KZ" sz="2800" spc="-1" strike="noStrike">
                <a:solidFill>
                  <a:srgbClr val="2f1311"/>
                </a:solidFill>
                <a:latin typeface="Times New Roman"/>
              </a:rPr>
              <a:t>Д</a:t>
            </a:r>
            <a:r>
              <a:rPr b="0" lang="kk-KZ" sz="2800" spc="-1" strike="noStrike">
                <a:solidFill>
                  <a:srgbClr val="2f1311"/>
                </a:solidFill>
                <a:latin typeface="Times New Roman"/>
              </a:rPr>
              <a:t>. Логикалық тапсырма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2f1311"/>
                </a:solidFill>
                <a:latin typeface="Arial"/>
              </a:rPr>
              <a:t>   </a:t>
            </a:r>
            <a:r>
              <a:rPr b="1" lang="kk-KZ" sz="2800" spc="-1" strike="noStrike">
                <a:solidFill>
                  <a:srgbClr val="2f1311"/>
                </a:solidFill>
                <a:latin typeface="Times New Roman"/>
              </a:rPr>
              <a:t>Ж</a:t>
            </a:r>
            <a:r>
              <a:rPr b="0" lang="kk-KZ" sz="2800" spc="-1" strike="noStrike">
                <a:solidFill>
                  <a:srgbClr val="2f1311"/>
                </a:solidFill>
                <a:latin typeface="Times New Roman"/>
              </a:rPr>
              <a:t>.«Жанар тау» сипаттау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Везувий-                                                     Антрактид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Этна-                                                           Жапон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Кракаттау-                                                  Ресе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Килиманджаро                                           Итал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Карисимбо                                                  Итал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Орисабо                                                     Оң түстік Америк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Аконкагуа                                                   Сол түстік Америк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Фудзиама                                                    Индонез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Эльбурс                                                       Исланд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Гекла                                                           Африк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Ключи шоқысы                                           Африк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"/>
          <p:cNvSpPr txBox="1"/>
          <p:nvPr/>
        </p:nvSpPr>
        <p:spPr>
          <a:xfrm rot="333000">
            <a:off x="610920" y="620640"/>
            <a:ext cx="633708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Times New Roman"/>
              </a:rPr>
              <a:t>Дұрыс орнын тап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400" spc="-1" strike="noStrike">
                <a:solidFill>
                  <a:srgbClr val="b7e7ff"/>
                </a:solidFill>
                <a:latin typeface="Arial"/>
              </a:rPr>
              <a:t>Дұрыс жауаптары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54064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ffffff"/>
                </a:solidFill>
                <a:latin typeface="Arial"/>
              </a:rPr>
              <a:t>Везувий-                                 Италия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ffffff"/>
                </a:solidFill>
                <a:latin typeface="Arial"/>
              </a:rPr>
              <a:t>Этна-                                      Итал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ffffff"/>
                </a:solidFill>
                <a:latin typeface="Arial"/>
              </a:rPr>
              <a:t>Кракаттау-                           Индонез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ffffff"/>
                </a:solidFill>
                <a:latin typeface="Arial"/>
              </a:rPr>
              <a:t>Килиманджаро                      Афри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ffffff"/>
                </a:solidFill>
                <a:latin typeface="Arial"/>
              </a:rPr>
              <a:t>Карисимбо                             Афри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ffffff"/>
                </a:solidFill>
                <a:latin typeface="Arial"/>
              </a:rPr>
              <a:t>Орисабо                                 Сол түстік Амери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ffffff"/>
                </a:solidFill>
                <a:latin typeface="Arial"/>
              </a:rPr>
              <a:t>Аконкагуа                              Оң түстік Амери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ffffff"/>
                </a:solidFill>
                <a:latin typeface="Arial"/>
              </a:rPr>
              <a:t>Фудзиама                               Жапо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ffffff"/>
                </a:solidFill>
                <a:latin typeface="Arial"/>
              </a:rPr>
              <a:t>Эльбурс                                 Антрактид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ffffff"/>
                </a:solidFill>
                <a:latin typeface="Arial"/>
              </a:rPr>
              <a:t>Гекла                                      Исландия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ffffff"/>
                </a:solidFill>
                <a:latin typeface="Arial"/>
              </a:rPr>
              <a:t>Ключи шоқысы                    Ресей</a:t>
            </a: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400" spc="-1" strike="noStrike">
                <a:solidFill>
                  <a:srgbClr val="ffffcc"/>
                </a:solidFill>
                <a:latin typeface="Tahoma"/>
              </a:rPr>
              <a:t>Логикалық тапсырмалар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ffffff"/>
                </a:solidFill>
                <a:latin typeface="Tahoma"/>
              </a:rPr>
              <a:t>1.  Күнге ең жақын планета  Плутон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ffffff"/>
                </a:solidFill>
                <a:latin typeface="Tahoma"/>
              </a:rPr>
              <a:t>2.  Күн жерді айналады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ffffff"/>
                </a:solidFill>
                <a:latin typeface="Tahoma"/>
              </a:rPr>
              <a:t>3.  Паралель солтүстіктен оңтүстікке қарай созылып жатыр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ffffff"/>
                </a:solidFill>
                <a:latin typeface="Tahoma"/>
              </a:rPr>
              <a:t>4.  Мередиян жерді екі ендікке бөліп тұр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ffffff"/>
                </a:solidFill>
                <a:latin typeface="Tahoma"/>
              </a:rPr>
              <a:t>5. Жер өз білігінен бір жылда бірлет айналып шығады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ffffff"/>
                </a:solidFill>
                <a:latin typeface="Tahoma"/>
              </a:rPr>
              <a:t>6.  Жер сілкіну жазық жерлерде болады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ffffff"/>
                </a:solidFill>
                <a:latin typeface="Tahoma"/>
              </a:rPr>
              <a:t>7. Жанартау магмалық әсернен болады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ffffff"/>
                </a:solidFill>
                <a:latin typeface="Tahoma"/>
              </a:rPr>
              <a:t>8. Жер сілкіну  ядроның қозғалуынан пайда болады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ffffff"/>
                </a:solidFill>
                <a:latin typeface="Tahoma"/>
              </a:rPr>
              <a:t>9.  Жердің ішкі қабаты төрт қабаттан тұрады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ffffff"/>
                </a:solidFill>
                <a:latin typeface="Tahoma"/>
              </a:rPr>
              <a:t>10. Мсштабтың бес түрі бар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ffffff"/>
                </a:solidFill>
                <a:latin typeface="Tahoma"/>
              </a:rPr>
              <a:t>11. Жердің сілкіну күштілігін балмен өлшейміз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ffffff"/>
                </a:solidFill>
                <a:latin typeface="Tahoma"/>
              </a:rPr>
              <a:t>12. Жер қозғалысын жануарлар, балықтар, жыландар сезеді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ffffff"/>
                </a:solidFill>
                <a:latin typeface="Tahoma"/>
              </a:rPr>
              <a:t>13. Жыл мезгілі жердің күнді айналуынан өзгереді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ffffff"/>
                </a:solidFill>
                <a:latin typeface="Tahoma"/>
              </a:rPr>
              <a:t>14. Күннен жерг,е күн сәулесі сегіз мин. жетеді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ffffff"/>
                </a:solidFill>
                <a:latin typeface="Tahoma"/>
              </a:rPr>
              <a:t>15. Күнмен жердің ара қашықтығы 150 000 000 км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/>
          </p:nvPr>
        </p:nvSpPr>
        <p:spPr>
          <a:xfrm>
            <a:off x="324000" y="189000"/>
            <a:ext cx="7704000" cy="64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ffffff"/>
                </a:solidFill>
                <a:latin typeface="Times New Roman"/>
              </a:rPr>
              <a:t>1.  Күнге ең жақын планета  (Меркурий) жоқ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ffffff"/>
                </a:solidFill>
                <a:latin typeface="Times New Roman"/>
              </a:rPr>
              <a:t>2.  Күн жерді айналады (Жер күнді айналады) жоқ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ffffff"/>
                </a:solidFill>
                <a:latin typeface="Times New Roman"/>
              </a:rPr>
              <a:t>3.  Паралель солтүстіктен оңтүстікке қарай созылып жатыр. (Батыстан шығысқа қарай) жоқ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ffffff"/>
                </a:solidFill>
                <a:latin typeface="Times New Roman"/>
              </a:rPr>
              <a:t>4. Мередиян жерді екі ендікке бөліп тұр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i="1" lang="kk-KZ" sz="2000" spc="-1" strike="noStrike">
                <a:solidFill>
                  <a:srgbClr val="ffffff"/>
                </a:solidFill>
                <a:latin typeface="Times New Roman"/>
              </a:rPr>
              <a:t>(Екі бойлыққа бөліп тұр) жоқ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ffffff"/>
                </a:solidFill>
                <a:latin typeface="Times New Roman"/>
              </a:rPr>
              <a:t>5.Жер өз білігінен бір жылда бірлет айналып шығады. (24 сағ.айналады) жоқ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ffffff"/>
                </a:solidFill>
                <a:latin typeface="Times New Roman"/>
              </a:rPr>
              <a:t>6. Жер сілкіну жазық жерлерде болады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i="1" lang="kk-KZ" sz="2000" spc="-1" strike="noStrike">
                <a:solidFill>
                  <a:srgbClr val="ffffff"/>
                </a:solidFill>
                <a:latin typeface="Times New Roman"/>
              </a:rPr>
              <a:t>(таулы жерде) жоқ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ffffff"/>
                </a:solidFill>
                <a:latin typeface="Times New Roman"/>
              </a:rPr>
              <a:t>7. Жанартау магмалық әсернен болады. (Иә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ffffff"/>
                </a:solidFill>
                <a:latin typeface="Times New Roman"/>
              </a:rPr>
              <a:t>8. Жер сілкіну  ядроның қозғалуынан пайда болады. (Мантияның қозғалуынан) Жоқ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ffffff"/>
                </a:solidFill>
                <a:latin typeface="Times New Roman"/>
              </a:rPr>
              <a:t>9. Жердің ішкі қабаты төрт қабаттан тұрады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i="1" lang="kk-KZ" sz="2000" spc="-1" strike="noStrike">
                <a:solidFill>
                  <a:srgbClr val="ffffff"/>
                </a:solidFill>
                <a:latin typeface="Times New Roman"/>
              </a:rPr>
              <a:t>(үш қабаттан) Жоқ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ffffff"/>
                </a:solidFill>
                <a:latin typeface="Times New Roman"/>
              </a:rPr>
              <a:t>10. Мсштабтың бес түрі бар. (3 түрі бар) Жоқ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ffffff"/>
                </a:solidFill>
                <a:latin typeface="Times New Roman"/>
              </a:rPr>
              <a:t>11. Жердің сілкіну күштілігін балмен өлшейміз. (Иә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ffffff"/>
                </a:solidFill>
                <a:latin typeface="Times New Roman"/>
              </a:rPr>
              <a:t>12. Жер қозғалысын жануарлар, балықтар, жыландар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i="1" lang="kk-KZ" sz="2000" spc="-1" strike="noStrike">
                <a:solidFill>
                  <a:srgbClr val="ffffff"/>
                </a:solidFill>
                <a:latin typeface="Times New Roman"/>
              </a:rPr>
              <a:t>сезеді. (Иә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ffffff"/>
                </a:solidFill>
                <a:latin typeface="Times New Roman"/>
              </a:rPr>
              <a:t>13. Жыл мезгілі жердің күнді айналуынан өзгереді. (Иә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ffffff"/>
                </a:solidFill>
                <a:latin typeface="Times New Roman"/>
              </a:rPr>
              <a:t>14. Күннен жерг,е күн сәулесі сегіз мин. жетеді (Иә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ffffff"/>
                </a:solidFill>
                <a:latin typeface="Times New Roman"/>
              </a:rPr>
              <a:t>15. Күнмен жердің ара қашықтығы 150 000 000 км. (Иә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3" name=""/>
          <p:cNvSpPr txBox="1"/>
          <p:nvPr/>
        </p:nvSpPr>
        <p:spPr>
          <a:xfrm rot="5400000">
            <a:off x="5811840" y="3196440"/>
            <a:ext cx="5386680" cy="523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Arial"/>
              </a:rPr>
              <a:t>ДҰРЫС ЖАУАПТАРЫ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5003280" y="274320"/>
            <a:ext cx="368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800" spc="-1" strike="noStrike">
                <a:solidFill>
                  <a:srgbClr val="ffffcc"/>
                </a:solidFill>
                <a:latin typeface="Times New Roman"/>
              </a:rPr>
              <a:t>Жаңа сабақ</a:t>
            </a:r>
            <a:r>
              <a:rPr b="0" lang="ru-RU" sz="48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6840" y="476280"/>
            <a:ext cx="476244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Times New Roman"/>
              </a:rPr>
              <a:t>1. Тау дегеніміз не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Times New Roman"/>
              </a:rPr>
              <a:t>2. Тау қырат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Times New Roman"/>
              </a:rPr>
              <a:t>3. Таулы үстірт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Times New Roman"/>
              </a:rPr>
              <a:t>4. Тау аңғар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Times New Roman"/>
              </a:rPr>
              <a:t>5. Таулы өлкелер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Times New Roman"/>
              </a:rPr>
              <a:t>6. Таудың биіктігіне,ұзындығына қарай бөлнуі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Times New Roman"/>
              </a:rPr>
              <a:t>7. Тауда не істеуге болмайды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Times New Roman"/>
              </a:rPr>
              <a:t>8. Альпинизм 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Times New Roman"/>
              </a:rPr>
              <a:t>9. Сабақтың барыс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Times New Roman"/>
              </a:rPr>
              <a:t>10. Жергілікті жерімізде биік таулар барма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Times New Roman"/>
              </a:rPr>
              <a:t>11. Біздің жеріміз қандай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Times New Roman"/>
              </a:rPr>
              <a:t>12. Көліміздің аты не деп аталады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36" name="" descr=""/>
          <p:cNvPicPr/>
          <p:nvPr/>
        </p:nvPicPr>
        <p:blipFill>
          <a:blip r:embed="rId1"/>
          <a:stretch/>
        </p:blipFill>
        <p:spPr>
          <a:xfrm>
            <a:off x="5364000" y="1773360"/>
            <a:ext cx="3456000" cy="38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/>
          </p:nvPr>
        </p:nvSpPr>
        <p:spPr>
          <a:xfrm>
            <a:off x="178920" y="1773360"/>
            <a:ext cx="4475160" cy="25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Tahoma"/>
              </a:rPr>
              <a:t>Болады таудың жас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Tahoma"/>
              </a:rPr>
              <a:t>Жотасы, шыңы , бас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Tahoma"/>
              </a:rPr>
              <a:t>Беткейі мен етегі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Tahoma"/>
              </a:rPr>
              <a:t>Әр түрлі келер жас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38" name="" descr=""/>
          <p:cNvPicPr/>
          <p:nvPr/>
        </p:nvPicPr>
        <p:blipFill>
          <a:blip r:embed="rId1"/>
          <a:stretch/>
        </p:blipFill>
        <p:spPr>
          <a:xfrm>
            <a:off x="4716360" y="3106800"/>
            <a:ext cx="4032360" cy="3017880"/>
          </a:xfrm>
          <a:prstGeom prst="rect">
            <a:avLst/>
          </a:prstGeom>
          <a:ln w="0">
            <a:noFill/>
          </a:ln>
        </p:spPr>
      </p:pic>
      <p:sp>
        <p:nvSpPr>
          <p:cNvPr id="539" name=""/>
          <p:cNvSpPr txBox="1"/>
          <p:nvPr/>
        </p:nvSpPr>
        <p:spPr>
          <a:xfrm>
            <a:off x="1403280" y="404640"/>
            <a:ext cx="6480360" cy="9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Тау туралы өлең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2T09:49:58Z</dcterms:created>
  <dc:creator>SamLab.ws</dc:creator>
  <dc:description/>
  <dc:language>en-US</dc:language>
  <cp:lastModifiedBy>SamLab.ws</cp:lastModifiedBy>
  <dcterms:modified xsi:type="dcterms:W3CDTF">2011-12-10T13:24:45Z</dcterms:modified>
  <cp:revision>18</cp:revision>
  <dc:subject/>
  <dc:title>Құрлықтағы таулар</dc:title>
</cp:coreProperties>
</file>