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5C6-581E-4D50-B69F-557C7DAA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666-3D40-4B93-AAA2-E844C970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EEB-46EE-4211-A67A-A9160EEA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60B-FC4E-48D5-ABC6-61FAC8B1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D197-3E88-41AE-BCC7-610B1981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53F4-9C41-4F29-85A2-AE1CECE8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52B4-5BDA-4506-B057-28844BE6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DCB1-DA57-49DE-B716-C5953FD8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E261-64D5-4583-A385-7EA6A0B4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823E-C8FD-4C01-B7DD-E4AAFAA8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20A8-7CBE-4ACF-9EF0-75C8796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423-2ED9-4EEE-A828-198664DB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FADE-B475-4FEE-8B85-3B21747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28F-5683-46D1-8B5E-BDDDB21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F238-FC32-40FC-A8AC-2D060686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F931-DCAA-41B9-9A60-3BCBB018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010C-8CFA-4F6F-B8E5-FBE75ADF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4C86-81CD-4CE9-B315-A5FF07C0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538F-2C89-453F-81DA-F5ED16D3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B64A-DA8B-4E0B-AF5C-4E4F712F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2D45-9864-45A2-9B2F-1BFA9735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D4EA-0155-4B71-8A59-A642DAC4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840-CBD8-4AC6-BF44-D7989FF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5878-6CA9-48D4-92DC-0A98935B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2CB6-713D-4195-AED0-A971EC90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782A-7153-4145-96DD-96D00408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1D98-E0A6-4837-937F-5D000510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5064-28B4-40E3-9C27-4F1DB73C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3941-4716-4E96-BDFC-53F0F8DE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37B1-8DEA-48D6-9360-CDC3493E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AEFC-1C79-423F-B3D8-3DFEFBAC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53DEC-5A8B-4F9B-80CF-6D1FDA86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06E1-6F6C-4C86-AE4C-620AA124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95C-4E49-4431-AE13-2562D25B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B38B-4C4B-4FBC-A9FB-13512268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97AA-80BE-4EDE-8D69-10402D69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3EAA0-9058-4A81-A338-580DF395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A73E-AFAE-4FBD-AC1D-B14774BB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C0B05-ED5D-4267-A0D0-9DA1676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5C2F0-5197-4492-98E6-08D6B96B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741F-974A-4ACA-AC01-B305437A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5B45-9320-44E0-951C-2DDDF122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0E46-AA92-4A1A-B47B-85316B51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886A-16A3-4DD4-92B2-BAB2D015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02F-C435-4B19-BF72-2BC11A71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FDA6-740C-4480-B441-137699DB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70B28-C785-4B2C-A025-893F2726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FB39-C726-499A-B17F-E60D7653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96A3B-02DC-4DD2-96C6-F13EC288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C191-BFE6-4BB8-B4F5-734D49BD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21720-1738-4B64-8BE8-24727BE0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C72BA-35F5-4E84-97AD-B3AAB4B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489D-C2AD-4B1D-B405-856281D8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7C1B-B6EF-4190-AA77-778C8C5C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F580B-3308-4762-ABCB-DDFDA712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481-F547-4D31-A404-FF45E192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A4A27-1359-4A2E-87B0-45F89773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A35D6-EBA4-44BA-A5C8-E9EBB303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F61CA-5B75-4029-85CB-41D95E65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8FDC-6E9B-43F6-879D-0BA8B6C8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EAFE9-EDE4-4FCA-8FB3-D8FAF07F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8573-74F9-40E2-BC3A-1C00E95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820A4-631F-43C6-8B89-21EE5452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2C9A-B24D-47B8-8583-7776D5AD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1EE0B-0824-4A7F-A7D6-A4CDD27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C2F79-5034-4CCF-88FD-1EFC449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7C0-C16A-46FA-A415-1576F51E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9C42-639E-4B7A-948B-5900DB1B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BE7EC-394E-4421-95B5-1B969859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3F07-8179-4B95-853B-ED77B19D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75ED5-7B25-4802-AC14-99A47456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3F092-C2B0-47A6-8A67-784B534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ABE4-CD8E-4A79-B286-7085B1E4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B1535-8A9A-43F3-B27D-07239EEF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F2A9-9F8E-405A-B0A2-7B070B24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6A8D7-6070-4453-9240-3064CFC2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43A73-28A2-49DB-B9E8-B118D6A2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002-8A2D-4F52-AB37-8B156BB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EB680-2BF1-41C1-88CA-73ECA805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9C41C-3BDF-4984-A3EE-34CB9FA7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22946-11EB-4E70-A8A8-4B1D26FA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9A160-3344-46F5-891F-80288BA1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648A-BF26-438B-A3E9-773DFC9F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0185F-697D-4341-879C-6B264E4A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68CBE-2963-4AAC-A65F-3A9E0473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19D17-A2C8-4813-9AEA-33FF25BE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5CE25-7590-4D47-B98C-963691BB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F4BBD-9118-4CCE-AA7F-F6E08765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5D8-8532-4F18-A436-36E5B34B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56670-3476-4BE3-9DD3-4E28AB21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531DC-5B1B-46E7-9F3C-B906781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5723C-D71B-4EC8-8DD7-8A6C9A1A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61CD5-1DBD-4438-B635-24557522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86AB1-4D50-458C-A01F-831EF774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FE708-54F8-481F-A030-DCBD4F8C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7CEFF-715A-47B2-82FA-88DBD787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DE01-331D-40A0-BD44-225DA78A4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D83C-E187-4D8C-AB0D-CFCE0EC7B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1499-9B9E-47BC-A023-7C2CD76727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6A4D-4142-40ED-ACBA-3C15B82A30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131E-D12F-4F44-843E-762FA92F41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F540-3E0F-4E75-A1FD-0D3E9A3F1C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2EE4-A327-4383-B458-E13C5FA49B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5DD7-43DE-4EA1-93F2-95CA1A7FB6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900000" y="3203280"/>
            <a:ext cx="68724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6 сыны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Пән мұғалімі 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Қонқабаева О.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95640" cy="2737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 rot="21390600">
            <a:off x="3997080" y="615600"/>
            <a:ext cx="460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Құрлықтағы тау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50920" y="2637000"/>
            <a:ext cx="5473800" cy="338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ЕТКЕЙ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484280"/>
            <a:ext cx="2663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64000" y="333360"/>
            <a:ext cx="23241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ШЫ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3034200">
            <a:off x="5133600" y="387792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ОТ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9440" y="595008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ТЕГ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26920" y="981000"/>
            <a:ext cx="295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спан таулары мағынасы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білдіретін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ау атау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2205000"/>
            <a:ext cx="266400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емдегі ең биік 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789360"/>
            <a:ext cx="266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зия мен Еуроп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өліп тұрған 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5157720"/>
            <a:ext cx="2735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ң  ұзын таулар жүй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52640"/>
            <a:ext cx="2592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64000" y="2565360"/>
            <a:ext cx="2521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64000" y="3789360"/>
            <a:ext cx="2521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2720" y="5157720"/>
            <a:ext cx="2519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08360" y="1484280"/>
            <a:ext cx="1871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256536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492360" y="1557360"/>
            <a:ext cx="1871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360" y="544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28680" y="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СӘЙКЕСТЕРІН ТАП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imes New Roman"/>
              </a:rPr>
              <a:t>Таулардың пайда болу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2637000"/>
            <a:ext cx="287964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421000"/>
            <a:ext cx="2519280" cy="165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- жақ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2952720" cy="194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ьпі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ордиль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24360" y="5084640"/>
            <a:ext cx="280836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тай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789360"/>
            <a:ext cx="1079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32720" y="4076640"/>
            <a:ext cx="43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68360" y="1484280"/>
            <a:ext cx="1656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1484280"/>
            <a:ext cx="1440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ahoma"/>
              </a:rPr>
              <a:t>Таулардың жас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2708280"/>
            <a:ext cx="3529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скі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852640"/>
            <a:ext cx="28814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ас таул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4653000"/>
            <a:ext cx="280836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2360" y="4437000"/>
            <a:ext cx="316692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Пами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43280" y="1413000"/>
            <a:ext cx="1441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32360" y="148428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573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3640" y="3500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ff3300"/>
                </a:solidFill>
                <a:latin typeface="Times New Roman"/>
              </a:rPr>
              <a:t>Үгіл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708280"/>
            <a:ext cx="251928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Физ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3068640"/>
            <a:ext cx="2521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Химия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4005360"/>
            <a:ext cx="3311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ган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692000" y="1484280"/>
            <a:ext cx="28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1484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484280"/>
            <a:ext cx="273672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5290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Тау  жасайтын </a:t>
            </a: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ішкі күштер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өзге емес оны іст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тауды тағы бұзаты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адам емес сыртқы күште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Ішкі күштерге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а) жер сілкі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б)  жаңартаудың атқылау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ртқы күштер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жел, қар, жаңбыр, ыстық – суық ау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Химиялық үгілу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тұздар, қышқыл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 rot="1050000">
            <a:off x="6084720" y="692280"/>
            <a:ext cx="277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3333ff"/>
                </a:solidFill>
                <a:latin typeface="Times New Roman"/>
              </a:rPr>
              <a:t>Картамен жұмы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скін картада тауды қоңыр бояумен боя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ff"/>
                </a:solidFill>
                <a:latin typeface="Times New Roman"/>
              </a:rPr>
              <a:t>кане, бәрін ойлаңдар, тізімде қандай таулар б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) Волга                      6) Байкал                     11) Жайы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2) Анд                         7) Гималай                   12) Балқа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3) Амазонка               8) Каспий                     13) Альп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4) Кордильер             9) Тибет                       14) А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5) Алтай                     10) Тянь-шянь            15) Карп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6) Көкшетау            17) Жерорта                18) Ерті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imes New Roman"/>
              </a:rPr>
              <a:t>Кім тауға тез шыға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565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ahoma"/>
              </a:rPr>
              <a:t>Құрлықтағы ең биік шыңда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50920" y="1557360"/>
          <a:ext cx="8713800" cy="2089080"/>
        </p:xfrm>
        <a:graphic>
          <a:graphicData uri="http://schemas.openxmlformats.org/drawingml/2006/table">
            <a:tbl>
              <a:tblPr/>
              <a:tblGrid>
                <a:gridCol w="288720"/>
                <a:gridCol w="1224000"/>
                <a:gridCol w="360360"/>
                <a:gridCol w="1120680"/>
                <a:gridCol w="390600"/>
                <a:gridCol w="1003320"/>
                <a:gridCol w="365040"/>
                <a:gridCol w="1028880"/>
                <a:gridCol w="339840"/>
                <a:gridCol w="1054080"/>
                <a:gridCol w="385560"/>
                <a:gridCol w="115272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ур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фр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ң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ракт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жамалунг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лиманжа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стюш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 rot="20732400">
            <a:off x="684360" y="4365720"/>
            <a:ext cx="2233440" cy="1549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 rot="20839200">
            <a:off x="3708360" y="4365360"/>
            <a:ext cx="2233800" cy="1682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 rot="20951400">
            <a:off x="6659280" y="4437000"/>
            <a:ext cx="2158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 дегеніміз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лар ... Қарай үшке бөліне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Жер шарындағы ең биік тау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Қатпарлы таулар -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71640" y="62064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Бекіт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20692800">
            <a:off x="4642920" y="479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ағала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970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Бейімді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оқушыларға тау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 тау қыраты, үстірті, өлкесі, аңға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еген сөздердің ерекшеліктерімен маңыздылығ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білім б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Дамытушылық мақсаты: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оқушыларғ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 кескін картаға түсірте отырып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құрлыстық ерекшеліктерін жайлы білімдер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мы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Тәрбие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ң ерекшелігіне тоқт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барысында басты мақсат экологиялық тәрбие екен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скер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920" y="333360"/>
            <a:ext cx="5905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абақтың мақс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7d47d"/>
                </a:solidFill>
                <a:latin typeface="Arial"/>
              </a:rPr>
              <a:t>Сабақтың барысы:</a:t>
            </a:r>
            <a:r>
              <a:rPr b="0" lang="kk-KZ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870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1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Ұйымдастыру кезең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2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Үй тапсырмасын тексе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А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Венн диограммасын толты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Б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Бәйге жарысы.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В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Қыз қуу” жарыс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Г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Дұрыс жауабын тап «Адасқан атаулар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ойы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Д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Логикалық тапсыр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Ж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«Жанар тау» сипатта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Везувий-                                                     Антракт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тна-                                                           Жапо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ракаттау-                                                  Ре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илиманджаро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арисимбо       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рисабо                                                     Оң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конкагуа                                                   Сол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Фудзиама                                                    Индонез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льбурс                                                       Исланд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Гекла                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лючи шоқысы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 rot="333000">
            <a:off x="610920" y="620640"/>
            <a:ext cx="63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ұрыс орнын т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b7e7ff"/>
                </a:solidFill>
                <a:latin typeface="Arial"/>
              </a:rPr>
              <a:t>Дұрыс жауапт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Везувий-                                 Италия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тна-                                      Ита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ракаттау-                          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илиманджаро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арисимбо       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Орисабо                                 Сол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Аконкагуа                              Оң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Фудзиама                               Жап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льбурс                                 Антракт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Гекла                                      Исланди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лючи шоқысы                    Ресей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Логикалық тапсырмалар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.  Күнге ең жақын планета  Плу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2.  Күн жерді айнала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3.  Паралель солтүстіктен оңтүстікке қарай созылып жаты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4.  Мередиян жерді екі ендікке бөліп т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5. Жер өз білігінен бір жылда бірлет айналып шығ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6.  Жер сілкіну жазық жерлерде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7. Жанартау магмалық әсернен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8. Жер сілкіну  ядроның қозғалуынан пайда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9.  Жердің ішкі қабаты төрт қабаттан тұр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0. Мсштабтың бес түрі б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1. Жердің сілкіну күштілігін балмен өлшеймі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2. Жер қозғалысын жануарлар, балықтар, жыландар сез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3. Жыл мезгілі жердің күнді айналуынан өзгер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4. Күннен жерг,е күн сәулесі сегіз мин. жетед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5. Күнмен жердің ара қашықтығы 150 000 00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70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.  Күнге ең жақын планета  (Меркури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2.  Күн жерді айналады (Жер күнді 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3.  Паралель солтүстіктен оңтүстікке қарай созылып жатыр. (Батыстан шығысқа қара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4. Мередиян жерді екі ендікке бөліп тұ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Екі бойлыққа бөліп тұ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5.Жер өз білігінен бір жылда бірлет айналып шығады. (24 сағ.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6. Жер сілкіну жазық жерлерде бола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таулы жерде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7. Жанартау магмалық әсернен болады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8. Жер сілкіну  ядроның қозғалуынан пайда болады. (Мантияның қозғалуынан) Жоқ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9. Жердің ішкі қабаты төрт қабаттан тұр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үш қабаттан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0. Мсштабтың бес түрі бар. (3 түрі ба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1. Жердің сілкіну күштілігін балмен өлшейміз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2. Жер қозғалысын жануарлар, балықтар, жыландар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сез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3. Жыл мезгілі жердің күнді айналуынан өзгер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4. Күннен жерг,е күн сәулесі сегіз мин. жетеді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5. Күнмен жердің ара қашықтығы 150 000 000 км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5811840" y="3196440"/>
            <a:ext cx="5386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ҰРЫС ЖАУАПТ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cc"/>
                </a:solidFill>
                <a:latin typeface="Times New Roman"/>
              </a:rPr>
              <a:t>Жаңа сабақ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476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 Тау дегеніміз 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 Тау қы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3. Таулы үсті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4. Тау аңғ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5. Таулы өлкел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6. Таудың биіктігіне,ұзындығына қарай бөлн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7. Тауда не істеуге болмай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8. Альпиниз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9. Сабақтың бары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0. Жергілікті жерімізде биік таулар барм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1. Біздің жеріміз қанда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2. Көліміздің аты не деп ата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456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4475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олады таудың ж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Жотасы, шыңы , б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еткейі мен етег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р түрлі келер жа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716360" y="310680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403280" y="40464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у туралы өле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9:49:58Z</dcterms:created>
  <dc:creator>SamLab.ws</dc:creator>
  <dc:description/>
  <dc:language>en-US</dc:language>
  <cp:lastModifiedBy>SamLab.ws</cp:lastModifiedBy>
  <dcterms:modified xsi:type="dcterms:W3CDTF">2011-12-10T13:24:45Z</dcterms:modified>
  <cp:revision>18</cp:revision>
  <dc:subject/>
  <dc:title>Құрлықтағы таулар</dc:title>
</cp:coreProperties>
</file>