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258-5DDE-41C4-9940-71B0195C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0D9-7743-4043-9D59-F90A1366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09D-C5D9-48B1-9147-7F449E67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EE3-72DE-4258-8578-0CFA8B33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AE02-7D9A-4943-ABE9-318ABB53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4353-13C1-4D1A-9350-E798D07C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2DCB-B84B-4755-97AF-E050C493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6C2D-CF73-40FD-B670-0020C864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515E-627C-4D25-B698-5CA20A91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DD3E-2662-4B69-9831-BF3D55BF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4E19-03DB-4955-A44D-B6F626A2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644-635A-456C-9F46-D607860A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F878-3711-4DC6-89A1-DC3E6C42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104E-3925-442E-AB70-1A0B4227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D9DE-B804-4481-A5DE-EA5528EA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51F1-5149-42A0-92D5-80AC5CB9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B9E2-F836-454E-9E16-EA9C342F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0F4F5-5A89-4C02-A686-18E11006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D74B0-7D25-4FC9-B2BE-8349288F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A2BDE-32ED-45B3-8024-B6B31FCB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EF2D-F429-49B6-8B71-5800702F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E195A-8DE8-407B-B9D5-3602D567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B8D5-34D4-4F9C-A412-7E7B3E93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84C62-08F8-4125-AD21-7F2E53A6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9E3F-F2CD-423E-8B77-4600E754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4635-7258-4893-A788-C81F3B3B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128E4-FF8C-4C3D-98BE-1461D649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D21C5-1B1F-4C77-9B4F-3FFAC010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DAC8-B6DE-4112-AB4C-878E6B0F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DBEE-774B-4100-9F30-57D36737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6A73F-8A32-4533-B5EC-35B761A6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6B0F2-31E3-4862-BF5F-FA9B33BE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E4714-EF90-4881-A8BC-6D47AEDC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27B-A268-4801-B396-E1EC357D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CE2A4-3BDF-4607-BD74-528C1423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BA262-C58B-4AAD-9C8E-E047C795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3ADA6-5213-435B-BADD-F0D9418C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D7171-5C38-4619-B699-6E5D6691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A81CD-D174-486A-95C6-9EB9E8CC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707D3-4183-4CA9-A7A9-38D8B496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87A35-9AA5-4283-94B3-6ADBB504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2DD50-50D4-4DCC-A0E4-D2E172D1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771E4-C314-4974-B232-CF4C81B5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3E7AA-9579-4A3F-8882-789667D1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660-BD60-44C6-862B-5CCEFBB0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499D7-6459-4D3E-AFB3-4A863FFA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EFE0F-3428-4EA0-80CD-DF2637E8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8E3AD-9174-4959-A1AA-E547442F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04AC3-1AFD-4725-B2E3-A2325544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2A90A-A8D1-404B-AF7B-917D6202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17278-60FF-4976-9CF2-AE2CCD0D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E3B16-8569-4E15-850D-4613D81F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D5E08-1392-4944-850D-DDE8B611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C5013-8FE7-4715-94CE-526818E0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1A80D-CA6E-4385-BEF8-A2F19C0E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2FC-4C39-4661-B2C3-557CFB88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05B5A-6041-4627-A22D-21BA6E1D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71A58-8BDC-45FC-B4D5-2531E4BF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A89F1-EEE6-434F-83F1-FD5898FE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702B3-FF60-460A-BBAE-6D67C9A9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C187A-40C0-4F0E-AF16-2E6C79A2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633E0-020D-4B29-B911-FA000B72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A7A34-1B11-40EB-9828-E3A707D6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E665D-C150-4CCA-9EFB-1E0B80B7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C2C5F-D402-43BD-90C5-1482AEDF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54B40-8D71-4F65-A62B-86059331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128-206C-4173-93DB-1C984C5B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22F71-CC18-442E-9C58-B1F133C4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FE840-BE87-4ECA-9EEF-A900FB13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1E37E-4001-4002-A582-88E236D5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546F0-BF2A-4392-8FDF-93933CE9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89597-FD69-4450-9928-1D3D094C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7BC54-DFAA-431D-8A40-949FB123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01521-83AE-4C5F-B903-70C8B474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5A6EB-B4F7-40C6-A726-0376D764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93349-CF5A-4AFC-9AED-E869F296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34D8D-3E2C-4BEB-803A-BA4FC409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471-4E0A-4B01-8061-31A6EF22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29800-B602-4A41-8D6A-10039DFD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3793E-FD7A-49E2-B928-DB2D678D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98859-A6B2-44DF-BB6E-B21E5E43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2EE46-27DF-46D8-B680-D5144758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32F7F-B510-4037-A791-F630D8D9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72F39-AE57-40C0-8947-58B80944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6B271-803A-43A0-ABE8-71B1DA14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AB4C1-A77F-4C1F-8C44-5871F543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468CB-2139-43F5-AEBC-E3D8E9EE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A5421-9A4C-4CFE-B64A-E9560E27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C32-40AA-47B5-B463-FB6070E0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24579-AFE5-465C-BB4D-C1D91204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46549-5FD5-4F65-9A07-636B8FE6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02435-D52C-4D86-943B-4482C989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31603-5F1C-4A41-889A-E63FF6CB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D9080-F2D3-4EEE-AC16-5D202DDB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5B0D0-8E7F-4BD0-8A14-C2D16023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E4B5D-7751-4328-9CCF-6D5068F8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5319-B062-46A8-BF40-AF57AC4C9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F96E-BAD9-4C48-94DA-CF392D37F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3CCC-2B37-4835-AA68-81622948482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EBC4-07ED-43C8-84EF-29429A3E729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CE19-7AE9-4B5E-B796-752B058C0E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E86B-41CF-496A-8AE7-9970FEBA0E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3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60A2-BD6C-4A08-84FA-3865E13436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7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9555-5F28-4CCF-99D1-3B386BB978E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900000" y="3203280"/>
            <a:ext cx="687240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6 сыны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Пән мұғалімі 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Қонқабаева О.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095640" cy="27370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 rot="21390600">
            <a:off x="3997080" y="615600"/>
            <a:ext cx="460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Құрлықтағы таула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050920" y="2637000"/>
            <a:ext cx="5473800" cy="3384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БЕТКЕЙ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19640" y="1484280"/>
            <a:ext cx="2663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Б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564000" y="333360"/>
            <a:ext cx="23241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ШЫ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3034200">
            <a:off x="5133600" y="387792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ЖОТ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069440" y="5950080"/>
            <a:ext cx="15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ЕТЕГ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826920" y="981000"/>
            <a:ext cx="2953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спан таулары мағынасы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білдіретін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тау атау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6920" y="2205000"/>
            <a:ext cx="266400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Әлемдегі ең биік 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у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6920" y="3789360"/>
            <a:ext cx="266400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зия мен Еуроп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өліп тұрған тау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5157720"/>
            <a:ext cx="2735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ң  ұзын таулар жүйе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052640"/>
            <a:ext cx="259236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р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64000" y="2565360"/>
            <a:ext cx="25210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янь-Ш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64000" y="3789360"/>
            <a:ext cx="2521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Гимал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92720" y="5157720"/>
            <a:ext cx="2519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Ан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708360" y="1484280"/>
            <a:ext cx="187164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92360" y="2565360"/>
            <a:ext cx="2016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492360" y="1557360"/>
            <a:ext cx="187164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2360" y="544500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28680" y="0"/>
            <a:ext cx="49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СӘЙКЕСТЕРІН ТАП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Times New Roman"/>
              </a:rPr>
              <a:t>Таулардың пайда болуына қарай жіктелу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755640" y="2637000"/>
            <a:ext cx="2879640" cy="11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Қатпарл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а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92720" y="2421000"/>
            <a:ext cx="2519280" cy="1655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Қатпар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- жақпар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4724280"/>
            <a:ext cx="2952720" cy="194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Альпі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авказ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ордиль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724360" y="5084640"/>
            <a:ext cx="2808360" cy="1224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Алтай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янь-Ша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92360" y="3789360"/>
            <a:ext cx="107928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32720" y="4076640"/>
            <a:ext cx="431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68360" y="1484280"/>
            <a:ext cx="1656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64000" y="1484280"/>
            <a:ext cx="1440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Tahoma"/>
              </a:rPr>
              <a:t>Таулардың жасына қарай жіктелу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1042920" y="2708280"/>
            <a:ext cx="352908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Ескі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а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32360" y="2852640"/>
            <a:ext cx="288144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Жас таула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32000" y="4653000"/>
            <a:ext cx="280836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Ор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32360" y="4437000"/>
            <a:ext cx="3166920" cy="18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авказ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Памир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Гимала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843280" y="1413000"/>
            <a:ext cx="14414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32360" y="1484280"/>
            <a:ext cx="1368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360" y="357336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443640" y="3500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7200" spc="-1" strike="noStrike">
                <a:solidFill>
                  <a:srgbClr val="ff3300"/>
                </a:solidFill>
                <a:latin typeface="Times New Roman"/>
              </a:rPr>
              <a:t>Үгілу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"/>
          <p:cNvSpPr/>
          <p:nvPr/>
        </p:nvSpPr>
        <p:spPr>
          <a:xfrm>
            <a:off x="395280" y="2708280"/>
            <a:ext cx="251928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Физика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35280" y="3068640"/>
            <a:ext cx="2521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Химия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80000" y="4005360"/>
            <a:ext cx="33116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Органика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692000" y="1484280"/>
            <a:ext cx="2879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1484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1484280"/>
            <a:ext cx="273672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352908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5075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Тау  жасайтын </a:t>
            </a: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ішкі күштер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өзге емес оны істе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тауды тағы бұзатын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адам емес сыртқы күштер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Ішкі күштерге:</a:t>
            </a: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а) жер сілкі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б)  жаңартаудың атқылау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ртқы күштер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жел, қар, жаңбыр, ыстық – суық ау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Химиялық үгілу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тұздар, қышқылд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 rot="1050000">
            <a:off x="6084720" y="692280"/>
            <a:ext cx="277200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3333ff"/>
                </a:solidFill>
                <a:latin typeface="Times New Roman"/>
              </a:rPr>
              <a:t>Картамен жұмыс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скін картада тауды қоңыр бояумен боя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ff"/>
                </a:solidFill>
                <a:latin typeface="Times New Roman"/>
              </a:rPr>
              <a:t>кане, бәрін ойлаңдар, тізімде қандай таулар ба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1) Волга                      6) Байкал                     11) Жайы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2) Анд                         7) Гималай                   12) Балқа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3) Амазонка               8) Каспий                     13) Альп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4) Кордильер             9) Тибет                       14) Ар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5) Алтай                     10) Тянь-шянь            15) Карп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16) Көкшетау            17) Жерорта                18) Ерті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ff"/>
                </a:solidFill>
                <a:latin typeface="Times New Roman"/>
              </a:rPr>
              <a:t>Кім тауға тез шығад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тау тапсырмаларын оқушыларға барып, алып, дұрыс жауап беру ке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-тау тапсырмаларын оқушыларға барып, алып, дұрыс жауап беру ке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35654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ff"/>
                </a:solidFill>
                <a:latin typeface="Tahoma"/>
              </a:rPr>
              <a:t>Құрлықтағы ең биік шыңдар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250920" y="1557360"/>
          <a:ext cx="8713800" cy="2089080"/>
        </p:xfrm>
        <a:graphic>
          <a:graphicData uri="http://schemas.openxmlformats.org/drawingml/2006/table">
            <a:tbl>
              <a:tblPr/>
              <a:tblGrid>
                <a:gridCol w="288720"/>
                <a:gridCol w="1224000"/>
                <a:gridCol w="360360"/>
                <a:gridCol w="1120680"/>
                <a:gridCol w="390600"/>
                <a:gridCol w="1003320"/>
                <a:gridCol w="365040"/>
                <a:gridCol w="1028880"/>
                <a:gridCol w="339840"/>
                <a:gridCol w="1054080"/>
                <a:gridCol w="385560"/>
                <a:gridCol w="115272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ураз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фри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лтүстік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ңтүстік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встрал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тракти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жамалунг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илиманжа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-кин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стюш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нс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 rot="20732400">
            <a:off x="684360" y="4365720"/>
            <a:ext cx="2233440" cy="154944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 rot="20839200">
            <a:off x="3708360" y="4365360"/>
            <a:ext cx="2233800" cy="16826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 rot="20951400">
            <a:off x="6659280" y="4437000"/>
            <a:ext cx="21589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Тау дегеніміз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Таулар ... Қарай үшке бөлінед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Жер шарындағы ең биік тау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Қатпарлы таулар -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971640" y="620640"/>
            <a:ext cx="48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Бекіт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 rot="20692800">
            <a:off x="4642920" y="4797000"/>
            <a:ext cx="410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Бағала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5796000" y="260280"/>
            <a:ext cx="30970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Бейімділік мақсаты: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оқушыларға таул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йында  тау қыраты, үстірті, өлкесі, аңғар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еген сөздердің ерекшеліктерімен маңыздылығ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йында білім б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Дамытушылық мақсаты: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оқушыларғ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тауларды кескін картаға түсірте отырып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құрлыстық ерекшеліктерін жайлы білімдері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мы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Тәрбиелік мақсаты: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таулардың ерекшелігіне тоқта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барысында басты мақсат экологиялық тәрбие екені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скер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920" y="333360"/>
            <a:ext cx="5905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абақтың мақса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7d47d"/>
                </a:solidFill>
                <a:latin typeface="Arial"/>
              </a:rPr>
              <a:t>Сабақтың барысы:</a:t>
            </a:r>
            <a:r>
              <a:rPr b="0" lang="kk-KZ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8701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1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Ұйымдастыру кезеңі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2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Үй тапсырмасын тексер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А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Венн диограммасын толтыр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Б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“Бәйге жарысы.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В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“Қыз қуу” жарыс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Г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Дұрыс жауабын тап «Адасқан атаулар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        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ойын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Д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Логикалық тапсырм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Ж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«Жанар тау» сипатта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Везувий-                                                     Антракт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Этна-                                                           Жапо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ракаттау-                                                  Рес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илиманджаро                                           И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арисимбо                                                  И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рисабо                                                     Оң түстік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конкагуа                                                   Сол түстік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Фудзиама                                                    Индонез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Эльбурс                                                       Исланд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Гекла                                                           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лючи шоқысы                                           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 rot="333000">
            <a:off x="610920" y="620640"/>
            <a:ext cx="633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ұрыс орнын та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b7e7ff"/>
                </a:solidFill>
                <a:latin typeface="Arial"/>
              </a:rPr>
              <a:t>Дұрыс жауапта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Везувий-                                 Италия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Этна-                                      Ита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ракаттау-                           Индонез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илиманджаро                   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арисимбо                          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Орисабо                                 Сол түстік 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Аконкагуа                              Оң түстік 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Фудзиама                               Жап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Эльбурс                                 Антракт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Гекла                                      Исландия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лючи шоқысы                    Ресей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Tahoma"/>
              </a:rPr>
              <a:t>Логикалық тапсырмалар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.  Күнге ең жақын планета  Плу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2.  Күн жерді айналад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3.  Паралель солтүстіктен оңтүстікке қарай созылып жаты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4.  Мередиян жерді екі ендікке бөліп тұ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5. Жер өз білігінен бір жылда бірлет айналып шығ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6.  Жер сілкіну жазық жерлерде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7. Жанартау магмалық әсернен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8. Жер сілкіну  ядроның қозғалуынан пайда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9.  Жердің ішкі қабаты төрт қабаттан тұр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0. Мсштабтың бес түрі ба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1. Жердің сілкіну күштілігін балмен өлшеймі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2. Жер қозғалысын жануарлар, балықтар, жыландар сез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3. Жыл мезгілі жердің күнді айналуынан өзгер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4. Күннен жерг,е күн сәулесі сегіз мин. жетед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5. Күнмен жердің ара қашықтығы 150 000 000 к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70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.  Күнге ең жақын планета  (Меркурий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2.  Күн жерді айналады (Жер күнді айналады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3.  Паралель солтүстіктен оңтүстікке қарай созылып жатыр. (Батыстан шығысқа қарай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4. Мередиян жерді екі ендікке бөліп тұ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Екі бойлыққа бөліп тұр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5.Жер өз білігінен бір жылда бірлет айналып шығады. (24 сағ.айналады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6. Жер сілкіну жазық жерлерде бола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таулы жерде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7. Жанартау магмалық әсернен болады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8. Жер сілкіну  ядроның қозғалуынан пайда болады. (Мантияның қозғалуынан) Жоқ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9. Жердің ішкі қабаты төрт қабаттан тұра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үш қабаттан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0. Мсштабтың бес түрі бар. (3 түрі бар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1. Жердің сілкіну күштілігін балмен өлшейміз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2. Жер қозғалысын жануарлар, балықтар, жыландар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сезеді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3. Жыл мезгілі жердің күнді айналуынан өзгереді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4. Күннен жерг,е күн сәулесі сегіз мин. жетеді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5. Күнмен жердің ара қашықтығы 150 000 000 км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"/>
          <p:cNvSpPr txBox="1"/>
          <p:nvPr/>
        </p:nvSpPr>
        <p:spPr>
          <a:xfrm rot="5400000">
            <a:off x="5811840" y="3196440"/>
            <a:ext cx="5386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ДҰРЫС ЖАУАПТА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0328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cc"/>
                </a:solidFill>
                <a:latin typeface="Times New Roman"/>
              </a:rPr>
              <a:t>Жаңа сабақ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4762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 Тау дегеніміз 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 Тау қыр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3. Таулы үсті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4. Тау аңғ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5. Таулы өлкел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6. Таудың биіктігіне,ұзындығына қарай бөлну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7. Тауда не істеуге болмай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8. Альпиниз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9. Сабақтың бары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0. Жергілікті жерімізде биік таулар барм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1. Біздің жеріміз қанда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2. Көліміздің аты не деп ата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4560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44751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олады таудың ж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Жотасы, шыңы , б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еткейі мен етегі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Әр түрлі келер жа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716360" y="3106800"/>
            <a:ext cx="4032360" cy="30178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1403280" y="404640"/>
            <a:ext cx="648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ау туралы өле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9:49:58Z</dcterms:created>
  <dc:creator>SamLab.ws</dc:creator>
  <dc:description/>
  <dc:language>en-US</dc:language>
  <cp:lastModifiedBy>SamLab.ws</cp:lastModifiedBy>
  <dcterms:modified xsi:type="dcterms:W3CDTF">2011-12-10T13:24:45Z</dcterms:modified>
  <cp:revision>18</cp:revision>
  <dc:subject/>
  <dc:title>Құрлықтағы таулар</dc:title>
</cp:coreProperties>
</file>