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A4F-8588-4C00-9AB6-85DE3B08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A97-A818-4C08-B54F-AF6EBC3B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61A-10B3-42FF-AD99-E489C552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E4F-5D8A-49F7-A977-EDFF09F6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1895-11F5-4792-94F1-1415D548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35E7-A6BD-4778-A34B-3F35064B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AEB1-2FD3-41F8-B8A1-6E602506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821A-B377-479E-8302-32D0DBC7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D81A-B925-4977-BC64-ADF61A14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7009-13B0-4C3B-A273-1270A0E5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E5C6-6EEF-4E74-BB4F-C04B4BF4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210-3B8D-4D90-8A4F-ACF45CC0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6F16-0AC9-41FA-8668-F5B59A7F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A200-35A4-49BC-A574-7AF10294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20ED-89E7-4897-BBEC-4FE76CF0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F8E1-D460-4CA9-BA45-E41CE001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2078-DB91-4E76-999F-989DD27E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CACB7-0850-4C73-8CBB-BC03AB3D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0CA6D-F966-4133-8685-8E82365C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4E8E-9A17-4309-B33C-DED6ACE4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FA053-E651-4AC0-BE99-BE61C6E8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D631-95BE-40EB-BD4B-CBF42D1B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6CD-7928-4DD9-ADC3-4B3F6758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30E2-4D37-4934-90F5-336306D0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44AA-3E40-41B9-8239-9AC3ED7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C79B-5A25-4E84-8D3D-A720976F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6BD3C-9A33-435D-AA53-8F05204B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9009-A731-44EE-8E5C-9392E10D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A2A5-054A-4299-82A7-6A2CE3B1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27C5-728E-48A1-8254-830D5C45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570F-8063-4C00-AD3E-5BD3596D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7ECFA-7C31-456C-A4B7-3136BB58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A43AC-5D7D-4C2B-AECC-28F45284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B0A-A8F7-4145-ADD0-9603BFB4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5975A-63AE-4303-BA97-1707D2A5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B6AC-FF87-4300-BDF7-6ADD3F0C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6107F-9CAE-478E-8866-1ED61E32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BDB92-B4D2-4EA5-8402-BD75F34D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A05A1-BF45-49BE-8631-E76FAEDC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DF41-4543-4EA1-B4E7-33B1A4C4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ADE1-38C6-45A5-BB52-BE3EDA5F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1CBB-45E9-484F-87F4-EB28DB84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CC283-31D3-456B-8488-0F1770BA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F3F5A-5C81-4073-8364-127B3A6A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FBF-ACAD-4178-B037-5E780EF8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21567-1768-437D-B6BF-FAD41D6D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82AF8-9931-4AD7-8B12-41A1609F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77FC6-178A-4433-8259-F8440107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91972-252D-4E2E-86A8-983831C0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D7EB-15EB-4C88-9FFF-DB5238FC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94805-B2B9-40F6-8B0F-0532C63F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6BE22-ABC3-4319-944F-DC986312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FC301-0735-46F0-9E26-ABCA7087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AF7C0-5BC3-4BEA-9159-FFB307F9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A330B-70CE-4BE8-8D41-01CAA2BA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1F0-2F58-4307-AC11-D13D26B3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C9400-2AB1-4906-BF76-BF9A7ED3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DEA0F-1FD4-4C08-B7A6-A3AE92B0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AD236-0E04-4C68-BE58-860EAC30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791E-C488-4605-9B3C-E8BB447C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826D3-3530-4963-9770-864A674C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F6C10-DC19-4609-B344-82C43F7F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0D0C8-D378-4987-9CCF-EDBB190D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25445-4C5F-4C6F-B275-6A9A7928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57D09-CA05-410B-9AA8-18CDAC69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206B7-0D50-4A13-9807-26CDD613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8E5-CEAD-44DE-987A-1D7C6261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F3779-B558-4F59-998A-790BBAEC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0113C-1FBD-457A-B539-C9781AB5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59F6-ABDA-4CE2-9AB0-DF54A1D9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B571E-C769-4936-A2B6-09282EC4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CA449-D777-47AD-9C7A-084E407F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71E74-A752-457A-9772-E151BFCE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7396C-4714-40BB-A589-B64A54E0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99007-3F92-4447-8153-38EA9C12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0F79B-15B7-4457-B3BF-7367A489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1BFD4-EC35-4536-9746-EF77712D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1A3-5D64-4883-9447-F15EC23B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6A3AE-3C47-4720-9AB1-19AC4C97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10D79-7715-4D48-9DC7-A272652C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2F904-E53D-49CB-96B3-0AC89EB5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11C20-E4D6-4EF6-827C-2E35DF35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D5C80-59C4-45F8-B73A-74978990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8EBCA-7FE8-4FEE-8BEA-F68A7D1A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D98A7-24DB-4DFF-BF23-269A51DC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480C3-D9D9-4FFA-B7A5-3504499F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CD1E9-C465-454B-85AB-CA3C1F51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CCA9-98FA-4CA3-9101-E5E2F197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C91-08DF-4A66-BD9D-8ACEFCDB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81EE5-DFD6-43F8-8C18-082512EE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3DABD-8644-4E33-8526-5BFC9D12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2E116-A88A-4C22-875A-35BBC814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5E9B8-C71D-4DC4-922A-5C52E525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561B9-F23F-4390-9B4D-FF59E7B3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9CB0F-6D1A-46C7-8591-C8223BFF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3DB55-E873-4954-A031-5118ACCC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1F5E-2597-4C56-846B-19B8024D7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E076-FD0D-44E1-9E6C-99ACB0B92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E489-995D-4517-BAD8-2BC1E02701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9917-8CDC-496B-B3F2-17324E5B5A9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FA12-8BCA-4D1E-9154-FAEE0A9D32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A9DC-E1BE-4D85-AC07-A9F51D112E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3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F904-27EC-4D03-B84A-314CC11068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7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E4B6-B6FE-4B3B-9216-972BFA3B6A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900000" y="3203280"/>
            <a:ext cx="687240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6 сыны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Пән мұғалімі 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Қонқабаева О.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095640" cy="27370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 rot="21390600">
            <a:off x="3997080" y="615600"/>
            <a:ext cx="460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Құрлықтағы таула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050920" y="2637000"/>
            <a:ext cx="5473800" cy="3384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ЕТКЕЙ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19640" y="1484280"/>
            <a:ext cx="2663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64000" y="333360"/>
            <a:ext cx="23241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ШЫ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3034200">
            <a:off x="5133600" y="387792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ОТ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69440" y="5950080"/>
            <a:ext cx="15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ТЕГ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826920" y="981000"/>
            <a:ext cx="2953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спан таулары мағынасы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білдіретін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ау атау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6920" y="2205000"/>
            <a:ext cx="266400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емдегі ең биік 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6920" y="3789360"/>
            <a:ext cx="266400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зия мен Еуроп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өліп тұрған 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5157720"/>
            <a:ext cx="2735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ң  ұзын таулар жүй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52640"/>
            <a:ext cx="259236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64000" y="2565360"/>
            <a:ext cx="25210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64000" y="3789360"/>
            <a:ext cx="2521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92720" y="5157720"/>
            <a:ext cx="2519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А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08360" y="1484280"/>
            <a:ext cx="187164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92360" y="2565360"/>
            <a:ext cx="2016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492360" y="1557360"/>
            <a:ext cx="187164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2360" y="544500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28680" y="0"/>
            <a:ext cx="49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СӘЙКЕСТЕРІН ТАП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imes New Roman"/>
              </a:rPr>
              <a:t>Таулардың пайда болу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2637000"/>
            <a:ext cx="2879640" cy="11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92720" y="2421000"/>
            <a:ext cx="2519280" cy="1655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- жақ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2952720" cy="194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ьпі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ордиль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24360" y="5084640"/>
            <a:ext cx="2808360" cy="12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тай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92360" y="3789360"/>
            <a:ext cx="10792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32720" y="4076640"/>
            <a:ext cx="431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68360" y="1484280"/>
            <a:ext cx="1656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64000" y="1484280"/>
            <a:ext cx="1440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ahoma"/>
              </a:rPr>
              <a:t>Таулардың жас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1042920" y="2708280"/>
            <a:ext cx="352908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скі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32360" y="2852640"/>
            <a:ext cx="288144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ас таул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4653000"/>
            <a:ext cx="280836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32360" y="4437000"/>
            <a:ext cx="3166920" cy="18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Памир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843280" y="1413000"/>
            <a:ext cx="1441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32360" y="1484280"/>
            <a:ext cx="1368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360" y="357336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443640" y="3500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7200" spc="-1" strike="noStrike">
                <a:solidFill>
                  <a:srgbClr val="ff3300"/>
                </a:solidFill>
                <a:latin typeface="Times New Roman"/>
              </a:rPr>
              <a:t>Үгіл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2708280"/>
            <a:ext cx="251928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Физ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35280" y="3068640"/>
            <a:ext cx="2521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Химия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80000" y="4005360"/>
            <a:ext cx="3311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ган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692000" y="1484280"/>
            <a:ext cx="2879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1484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484280"/>
            <a:ext cx="273672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352908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5075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Тау  жасайтын </a:t>
            </a: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ішкі күштер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өзге емес оны істе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тауды тағы бұзатын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адам емес сыртқы күштер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Ішкі күштерге: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а) жер сілкі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б)  жаңартаудың атқылау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ртқы күштер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жел, қар, жаңбыр, ыстық – суық ау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Химиялық үгілу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тұздар, қышқылд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 rot="1050000">
            <a:off x="6084720" y="692280"/>
            <a:ext cx="27720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3333ff"/>
                </a:solidFill>
                <a:latin typeface="Times New Roman"/>
              </a:rPr>
              <a:t>Картамен жұмыс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скін картада тауды қоңыр бояумен боя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ff"/>
                </a:solidFill>
                <a:latin typeface="Times New Roman"/>
              </a:rPr>
              <a:t>кане, бәрін ойлаңдар, тізімде қандай таулар ба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) Волга                      6) Байкал                     11) Жайы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2) Анд                         7) Гималай                   12) Балқа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3) Амазонка               8) Каспий                     13) Альп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4) Кордильер             9) Тибет                       14) Ар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5) Алтай                     10) Тянь-шянь            15) Карп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6) Көкшетау            17) Жерорта                18) Ерті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imes New Roman"/>
              </a:rPr>
              <a:t>Кім тауға тез шыға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3565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ahoma"/>
              </a:rPr>
              <a:t>Құрлықтағы ең биік шыңда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50920" y="1557360"/>
          <a:ext cx="8713800" cy="2089080"/>
        </p:xfrm>
        <a:graphic>
          <a:graphicData uri="http://schemas.openxmlformats.org/drawingml/2006/table">
            <a:tbl>
              <a:tblPr/>
              <a:tblGrid>
                <a:gridCol w="288720"/>
                <a:gridCol w="1224000"/>
                <a:gridCol w="360360"/>
                <a:gridCol w="1120680"/>
                <a:gridCol w="390600"/>
                <a:gridCol w="1003320"/>
                <a:gridCol w="365040"/>
                <a:gridCol w="1028880"/>
                <a:gridCol w="339840"/>
                <a:gridCol w="1054080"/>
                <a:gridCol w="385560"/>
                <a:gridCol w="115272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ур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фри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л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ң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тракти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жамалунг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лиманжа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-кин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стюш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н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 rot="20732400">
            <a:off x="684360" y="4365720"/>
            <a:ext cx="2233440" cy="15494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 rot="20839200">
            <a:off x="3708360" y="4365360"/>
            <a:ext cx="2233800" cy="16826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 rot="20951400">
            <a:off x="6659280" y="4437000"/>
            <a:ext cx="21589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 дегеніміз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лар ... Қарай үшке бөліне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Жер шарындағы ең биік тау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Қатпарлы таулар -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971640" y="620640"/>
            <a:ext cx="48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Бекіт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 rot="20692800">
            <a:off x="4642920" y="4797000"/>
            <a:ext cx="41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Бағала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5796000" y="260280"/>
            <a:ext cx="30970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Бейімді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оқушыларға таул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 тау қыраты, үстірті, өлкесі, аңға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еген сөздердің ерекшеліктерімен маңыздылығ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білім б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Дамытушылық мақсаты: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оқушыларғ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 кескін картаға түсірте отырып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құрлыстық ерекшеліктерін жайлы білімдер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мы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Тәрбие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ң ерекшелігіне тоқт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барысында басты мақсат экологиялық тәрбие екен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скер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920" y="333360"/>
            <a:ext cx="5905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абақтың мақс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7d47d"/>
                </a:solidFill>
                <a:latin typeface="Arial"/>
              </a:rPr>
              <a:t>Сабақтың барысы:</a:t>
            </a:r>
            <a:r>
              <a:rPr b="0" lang="kk-KZ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8701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1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Ұйымдастыру кезеңі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2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Үй тапсырмасын тексе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А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Венн диограммасын толты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Б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Бәйге жарысы.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В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Қыз қуу” жарыс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Г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Дұрыс жауабын тап «Адасқан атаулар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        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ойы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Д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Логикалық тапсырм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Ж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«Жанар тау» сипатта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Везувий-                                                     Антракт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тна-                                                           Жапо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ракаттау-                                                  Рес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илиманджаро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арисимбо       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рисабо                                                     Оң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конкагуа                                                   Сол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Фудзиама                                                    Индонез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льбурс                                                       Исланд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Гекла                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лючи шоқысы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 rot="333000">
            <a:off x="610920" y="620640"/>
            <a:ext cx="633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ұрыс орнын та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b7e7ff"/>
                </a:solidFill>
                <a:latin typeface="Arial"/>
              </a:rPr>
              <a:t>Дұрыс жауапта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Везувий-                                 Италия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тна-                                      Ита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ракаттау-                           Индоне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илиманджаро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арисимбо       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Орисабо                                 Сол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Аконкагуа                              Оң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Фудзиама                               Жап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льбурс                                 Антракт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Гекла                                      Исландия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лючи шоқысы                    Ресей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ahoma"/>
              </a:rPr>
              <a:t>Логикалық тапсырмалар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.  Күнге ең жақын планета  Плу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2.  Күн жерді айнала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3.  Паралель солтүстіктен оңтүстікке қарай созылып жаты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4.  Мередиян жерді екі ендікке бөліп тұ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5. Жер өз білігінен бір жылда бірлет айналып шығ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6.  Жер сілкіну жазық жерлерде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7. Жанартау магмалық әсернен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8. Жер сілкіну  ядроның қозғалуынан пайда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9.  Жердің ішкі қабаты төрт қабаттан тұр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0. Мсштабтың бес түрі ба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1. Жердің сілкіну күштілігін балмен өлшеймі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2. Жер қозғалысын жануарлар, балықтар, жыландар сез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3. Жыл мезгілі жердің күнді айналуынан өзгер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4. Күннен жерг,е күн сәулесі сегіз мин. жетед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5. Күнмен жердің ара қашықтығы 150 000 000 к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70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.  Күнге ең жақын планета  (Меркури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2.  Күн жерді айналады (Жер күнді 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3.  Паралель солтүстіктен оңтүстікке қарай созылып жатыр. (Батыстан шығысқа қара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4. Мередиян жерді екі ендікке бөліп тұ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Екі бойлыққа бөліп тұ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5.Жер өз білігінен бір жылда бірлет айналып шығады. (24 сағ.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6. Жер сілкіну жазық жерлерде бола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таулы жерде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7. Жанартау магмалық әсернен болады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8. Жер сілкіну  ядроның қозғалуынан пайда болады. (Мантияның қозғалуынан) Жоқ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9. Жердің ішкі қабаты төрт қабаттан тұр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үш қабаттан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0. Мсштабтың бес түрі бар. (3 түрі ба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1. Жердің сілкіну күштілігін балмен өлшейміз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2. Жер қозғалысын жануарлар, балықтар, жыландар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сез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3. Жыл мезгілі жердің күнді айналуынан өзгер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4. Күннен жерг,е күн сәулесі сегіз мин. жетеді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5. Күнмен жердің ара қашықтығы 150 000 000 км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 rot="5400000">
            <a:off x="5811840" y="3196440"/>
            <a:ext cx="5386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ДҰРЫС ЖАУАПТ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cc"/>
                </a:solidFill>
                <a:latin typeface="Times New Roman"/>
              </a:rPr>
              <a:t>Жаңа сабақ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4762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 Тау дегеніміз 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 Тау қыр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3. Таулы үсті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4. Тау аңғ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5. Таулы өлкел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6. Таудың биіктігіне,ұзындығына қарай бөлну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7. Тауда не істеуге болмай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8. Альпиниз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9. Сабақтың бары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0. Жергілікті жерімізде биік таулар барм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1. Біздің жеріміз қанда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2. Көліміздің аты не деп ата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4560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44751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олады таудың ж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Жотасы, шыңы , б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еткейі мен етегі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Әр түрлі келер жа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716360" y="3106800"/>
            <a:ext cx="4032360" cy="30178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1403280" y="404640"/>
            <a:ext cx="648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ау туралы өле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9:49:58Z</dcterms:created>
  <dc:creator>SamLab.ws</dc:creator>
  <dc:description/>
  <dc:language>en-US</dc:language>
  <cp:lastModifiedBy>SamLab.ws</cp:lastModifiedBy>
  <dcterms:modified xsi:type="dcterms:W3CDTF">2011-12-10T13:24:45Z</dcterms:modified>
  <cp:revision>18</cp:revision>
  <dc:subject/>
  <dc:title>Құрлықтағы таулар</dc:title>
</cp:coreProperties>
</file>