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11.png" ContentType="image/png"/>
  <Override PartName="/ppt/media/image1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0940-7C2B-4A25-9F57-76CC55BA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607-5884-40B1-B6E5-5B44D865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34CC-C7ED-4F09-BFD3-B7382037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6D61-8129-44E2-B963-757E264E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EEDD-7ED7-4625-881B-6691821B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AD20-BF7B-4C01-8C08-B2CFEAF9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6FE7-6962-4902-BD67-6EA2F827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6B3D-C082-4555-AE0A-7B4631CD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5D30-0BFC-471C-B349-7D2AB509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06E7-A347-47CF-BA23-872E1FF1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A411-F109-4BDE-ADB6-4C4F3446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FC4-2FA6-4FB0-AAA5-BEF652E0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1172-A247-48DE-8697-16F00090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9164-4DFF-4809-8D7D-131E5717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5982-7C27-4FD7-9C39-E2439273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1E4A-8131-4755-9A63-946BF4BC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784D-344C-4A77-B233-BEA2AB40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1E9E9-2363-484D-B77A-B8EBF743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E31E1-30CB-4009-B244-251BC8C7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99B8C-7A6D-407A-B893-2F56F345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59E0A-F457-4E9A-ADB8-EAFBC20A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A2D8B-97F7-40E5-AE6B-6868F129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2DF1-F57E-475B-8441-CF793415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C2D66-7BC9-4DC9-8E32-97138B03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0C24D-C8EE-401F-A04A-18EDDEF5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49C19-5922-4020-B880-2E6FB90F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F7E54-BB87-4522-AEED-6012D6A3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04F5E-CA58-4A67-B080-AA703230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9BAF9-94C3-4470-9EA3-1429329D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B85D0-38E1-4B0A-9F5F-B1EAE9E6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A6FFB-5E4F-4169-B49C-7F33CF9A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A7378-AC6E-46AE-AB48-D9396E36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D456A-2117-4168-8B2C-42844156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C26-3941-4976-890C-24351DE6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C57B1-391D-45C1-946B-5C7E7E1A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733B8-07D8-4B77-9ED7-26615859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B9424-101A-430F-B87A-9729D7EF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F7358-E39C-402E-B4A4-5DA318BF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A8523-B038-4900-82B0-B16329B0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40C26-C91C-403A-8A1C-B875A6CB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2B68A-2214-43FE-8E1D-28B12E26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04EE3-8BBC-45B3-9A7C-66F4AB12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D0770-5DC1-4F21-9330-80E1184C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495F4-2372-481E-8082-F5BAE777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983-46DD-4BDE-9901-CFE17984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85D4F-E5C3-4E8D-A6B6-F2B43066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F450F-2A4B-4923-A30E-3705C010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3ECC9-679C-4439-88D0-0F17EEB7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31EF9-BD75-4FCF-B8D6-43B75287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C7E15-CA47-4679-8C96-20789280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AD284-1769-4A14-BA01-41E0B785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2538C-CCEA-4DE7-922B-AFC46292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C8E15-4177-48EF-B144-CC727384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088CB-2E7D-424D-BC5F-ACB3FE6F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A7E75-6139-4A16-8AC9-81607D24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C19-F8B9-4BFA-8258-2EFED272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AC40B-69FC-4CFB-89AF-B3C05133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AAD6A-D57D-40A3-A764-1570F617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41A43-FB49-497D-B8CD-460D725A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FFB3A-5A74-4B2A-85CA-7754EDFD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ABFB2-1B8C-4C79-B5E8-7E243761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635C9-CD95-472F-BAAB-917BB1DE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4AB1B-06B2-4F85-889D-D52E609C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BA32D-C71B-41E4-9AE1-E33112F8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40059-D21E-40A0-BD22-370AC60A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4DC85-717C-439B-B0A2-9AE2DEA7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5D73-0163-484F-9750-25876FFF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97253-4D6F-4409-B6E8-DB62FADD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33052-F882-4501-A0F4-8047FD75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41CAC-C366-4E29-8696-F75ADBB0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BF31D-958A-4654-9A09-585CBF75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23D6D-4509-41FF-9D8A-A07BBEE1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65E9F-D756-4074-AAB6-1A473964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12D4B-2AEF-4222-A494-EEB71DE6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5FDA8-05E6-4CC6-9C45-3C7C5840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AB060-FACF-4332-AA2E-BB9DF195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B6385-DA8D-4EA5-B79F-F47B8B4A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79F-823E-4BF9-967C-CC14A9E4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52471-3E1B-4586-BA02-F0707101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D9763-44E9-4D78-9B02-7444547A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75A6C-52A4-438D-BABA-BF9CF25D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2512C-4504-4E52-B5B3-5C1DE026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F4B84-BCE2-42A7-87AA-6C0DC1C2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DD38E-2C78-4367-98CD-271A2D6F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922A3-12A4-474A-B755-69DC1C2B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16C00-9D69-4C0D-A349-427DB93B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78057-1BF6-4A96-80FF-7673834C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B26E5-BE59-4DD9-8227-2778EE84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1BC-5DB9-4838-AD8C-493F959F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D5890-807C-472B-B542-36C95733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4BC47-4E5E-48C0-B7C2-003C1026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05556-19F2-47EF-8ED4-A3448686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AECC5-FFFC-4493-9118-F8FAFCD9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B554A-7094-4243-8BD8-4D624F33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0BD38-32CD-4CA7-B3C9-7567FF6A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70AE3-0E44-4015-9807-C9BCDEC5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8F14-35DE-44D2-BEBF-ED9119315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4039-BAB2-412F-8C2A-5E1936725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A945-E698-4589-981A-786131DD328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8674-19FD-420D-8BCC-B3688376122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FAE9-0F46-483C-9E68-802D1024EA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108E-3D30-4D77-9D3A-E7EEDFCCA8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3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979B-C712-42BA-B56A-BA918B1606C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7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5ABA-08DB-4C7F-BE4F-4F690F9FDFD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900000" y="3203280"/>
            <a:ext cx="687240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6 сыны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Пән мұғалімі 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Қонқабаева О.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095640" cy="27370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 rot="21390600">
            <a:off x="3997080" y="615600"/>
            <a:ext cx="4608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Құрлықтағы таула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050920" y="2637000"/>
            <a:ext cx="5473800" cy="33843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БЕТКЕЙ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19640" y="1484280"/>
            <a:ext cx="2663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Б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564000" y="333360"/>
            <a:ext cx="23241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ШЫН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3034200">
            <a:off x="5133600" y="3877920"/>
            <a:ext cx="245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ЖОТ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069440" y="5950080"/>
            <a:ext cx="15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ЕТЕГ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826920" y="981000"/>
            <a:ext cx="29530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спан таулары мағынасы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білдіретін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тау атау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6920" y="2205000"/>
            <a:ext cx="266400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Әлемдегі ең биік </a:t>
            </a: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аул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26920" y="3789360"/>
            <a:ext cx="266400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зия мен Еуроп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өліп тұрған таул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5640" y="5157720"/>
            <a:ext cx="27352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ң  ұзын таулар жүйе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219640" y="1052640"/>
            <a:ext cx="259236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р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364000" y="2565360"/>
            <a:ext cx="252108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янь-Ш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364000" y="3789360"/>
            <a:ext cx="25210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Гимал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92720" y="5157720"/>
            <a:ext cx="25192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Ан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708360" y="1484280"/>
            <a:ext cx="187164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492360" y="2565360"/>
            <a:ext cx="2016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492360" y="1557360"/>
            <a:ext cx="1871640" cy="25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92360" y="544500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28680" y="0"/>
            <a:ext cx="49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СӘЙКЕСТЕРІН ТАП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3300"/>
                </a:solidFill>
                <a:latin typeface="Times New Roman"/>
              </a:rPr>
              <a:t>Таулардың пайда болуына қарай жіктелу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755640" y="2637000"/>
            <a:ext cx="2879640" cy="11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Қатпарл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а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292720" y="2421000"/>
            <a:ext cx="2519280" cy="1655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Қатпар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- жақпар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19280" y="4724280"/>
            <a:ext cx="2952720" cy="194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Альпі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авказ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ордиль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724360" y="5084640"/>
            <a:ext cx="2808360" cy="1224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Алтай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янь-Ша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92360" y="3789360"/>
            <a:ext cx="107928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32720" y="4076640"/>
            <a:ext cx="431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68360" y="1484280"/>
            <a:ext cx="165600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364000" y="1484280"/>
            <a:ext cx="144000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3300"/>
                </a:solidFill>
                <a:latin typeface="Tahoma"/>
              </a:rPr>
              <a:t>Таулардың жасына қарай жіктелу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1042920" y="2708280"/>
            <a:ext cx="352908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Ескі</a:t>
            </a: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а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32360" y="2852640"/>
            <a:ext cx="288144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Жас таула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332000" y="4653000"/>
            <a:ext cx="280836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Ор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32360" y="4437000"/>
            <a:ext cx="3166920" cy="18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авказ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Памир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Гимала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843280" y="1413000"/>
            <a:ext cx="14414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32360" y="1484280"/>
            <a:ext cx="1368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00360" y="357336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443640" y="3500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7200" spc="-1" strike="noStrike">
                <a:solidFill>
                  <a:srgbClr val="ff3300"/>
                </a:solidFill>
                <a:latin typeface="Times New Roman"/>
              </a:rPr>
              <a:t>Үгілу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7" name=""/>
          <p:cNvSpPr/>
          <p:nvPr/>
        </p:nvSpPr>
        <p:spPr>
          <a:xfrm>
            <a:off x="395280" y="2708280"/>
            <a:ext cx="2519280" cy="720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Физика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35280" y="3068640"/>
            <a:ext cx="252108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Химия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580000" y="4005360"/>
            <a:ext cx="331164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Органика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692000" y="1484280"/>
            <a:ext cx="28796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148428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0" y="1484280"/>
            <a:ext cx="2736720" cy="252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3529080" cy="23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50752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Times New Roman"/>
              </a:rPr>
              <a:t>Тау  жасайтын </a:t>
            </a: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ішкі күштер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өзге емес оны істе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тауды тағы бұзатын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адам емес сыртқы күштер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Ішкі күштерге:</a:t>
            </a: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а) жер сілкін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б)  жаңартаудың атқылау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Сыртқы күштер: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жел, қар, жаңбыр, ыстық – суық ау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Химиялық үгілу: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тұздар, қышқылд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 rot="1050000">
            <a:off x="6084720" y="692280"/>
            <a:ext cx="277200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3333ff"/>
                </a:solidFill>
                <a:latin typeface="Times New Roman"/>
              </a:rPr>
              <a:t>Картамен жұмыс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ескін картада тауды қоңыр бояумен боя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3333ff"/>
                </a:solidFill>
                <a:latin typeface="Times New Roman"/>
              </a:rPr>
              <a:t>кане, бәрін ойлаңдар, тізімде қандай таулар бар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1) Волга                      6) Байкал                     11) Жайы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2) Анд                         7) Гималай                   12) Балқа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3) Амазонка               8) Каспий                     13) Альп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4) Кордильер             9) Тибет                       14) Ар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5) Алтай                     10) Тянь-шянь            15) Карп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16) Көкшетау            17) Жерорта                18) Ерті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ff"/>
                </a:solidFill>
                <a:latin typeface="Times New Roman"/>
              </a:rPr>
              <a:t>Кім тауға тез шығад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-тау тапсырмаларын оқушыларға барып, алып, дұрыс жауап беру ке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--тау тапсырмаларын оқушыларға барып, алып, дұрыс жауап беру ке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35654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ff"/>
                </a:solidFill>
                <a:latin typeface="Tahoma"/>
              </a:rPr>
              <a:t>Құрлықтағы ең биік шыңдар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250920" y="1557360"/>
          <a:ext cx="8713800" cy="2089080"/>
        </p:xfrm>
        <a:graphic>
          <a:graphicData uri="http://schemas.openxmlformats.org/drawingml/2006/table">
            <a:tbl>
              <a:tblPr/>
              <a:tblGrid>
                <a:gridCol w="288720"/>
                <a:gridCol w="1224000"/>
                <a:gridCol w="360360"/>
                <a:gridCol w="1120680"/>
                <a:gridCol w="390600"/>
                <a:gridCol w="1003320"/>
                <a:gridCol w="365040"/>
                <a:gridCol w="1028880"/>
                <a:gridCol w="339840"/>
                <a:gridCol w="1054080"/>
                <a:gridCol w="385560"/>
                <a:gridCol w="115272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ураз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фри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лтүстік 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ңтүстік 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встрал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тракти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жамалунг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илиманжа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к-кин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стюш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нс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 rot="20732400">
            <a:off x="684360" y="4365720"/>
            <a:ext cx="2233440" cy="154944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 rot="20839200">
            <a:off x="3708360" y="4365360"/>
            <a:ext cx="2233800" cy="16826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 rot="20951400">
            <a:off x="6659280" y="4437000"/>
            <a:ext cx="21589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Тау дегеніміз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Таулар ... Қарай үшке бөлінеді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Жер шарындағы ең биік тау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Қатпарлы таулар -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971640" y="620640"/>
            <a:ext cx="48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Бекіту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 rot="20692800">
            <a:off x="4642920" y="4797000"/>
            <a:ext cx="410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Бағалау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5796000" y="260280"/>
            <a:ext cx="309708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Бейімділік мақсаты: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оқушыларға таул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йында  тау қыраты, үстірті, өлкесі, аңғар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еген сөздердің ерекшеліктерімен маңыздылығ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йында білім бе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Дамытушылық мақсаты: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 оқушыларғ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тауларды кескін картаға түсірте отырып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құрлыстық ерекшеліктерін жайлы білімдері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амыт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Тәрбиелік мақсаты: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таулардың ерекшелігіне тоқтал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барысында басты мақсат экологиялық тәрбие екені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ескерт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42920" y="333360"/>
            <a:ext cx="5905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абақтың мақса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7d47d"/>
                </a:solidFill>
                <a:latin typeface="Arial"/>
              </a:rPr>
              <a:t>Сабақтың барысы:</a:t>
            </a:r>
            <a:r>
              <a:rPr b="0" lang="kk-KZ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8701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1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Ұйымдастыру кезеңі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2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Үй тапсырмасын тексер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А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Венн диограммасын толтыр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Б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“Бәйге жарысы.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В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“Қыз қуу” жарыс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Г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Дұрыс жауабын тап «Адасқан атаулар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        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ойын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Д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Логикалық тапсырм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Ж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«Жанар тау» сипатта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Везувий-                                                     Антракти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Этна-                                                           Жапо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ракаттау-                                                  Рес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илиманджаро                                           Ит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арисимбо                                                  Ит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рисабо                                                     Оң түстік Аме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конкагуа                                                   Сол түстік Аме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Фудзиама                                                    Индонез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Эльбурс                                                       Исланд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Гекла                                                           Аф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лючи шоқысы                                           Аф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 rot="333000">
            <a:off x="610920" y="620640"/>
            <a:ext cx="633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ұрыс орнын та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b7e7ff"/>
                </a:solidFill>
                <a:latin typeface="Arial"/>
              </a:rPr>
              <a:t>Дұрыс жауапта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Везувий-                                 Италия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Этна-                                      Ита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ракаттау-                           Индонез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илиманджаро                      Аф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арисимбо                             Аф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Орисабо                                 Сол түстік Аме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Аконкагуа                              Оң түстік Аме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Фудзиама                               Жап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Эльбурс                                 Антракт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Гекла                                      Исландия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лючи шоқысы                    Ресей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Tahoma"/>
              </a:rPr>
              <a:t>Логикалық тапсырмалар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.  Күнге ең жақын планета  Плут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2.  Күн жерді айналад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3.  Паралель солтүстіктен оңтүстікке қарай созылып жаты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4.  Мередиян жерді екі ендікке бөліп тұ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5. Жер өз білігінен бір жылда бірлет айналып шығ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6.  Жер сілкіну жазық жерлерде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7. Жанартау магмалық әсернен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8. Жер сілкіну  ядроның қозғалуынан пайда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9.  Жердің ішкі қабаты төрт қабаттан тұр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0. Мсштабтың бес түрі ба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1. Жердің сілкіну күштілігін балмен өлшеймі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2. Жер қозғалысын жануарлар, балықтар, жыландар сезед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3. Жыл мезгілі жердің күнді айналуынан өзгеред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4. Күннен жерг,е күн сәулесі сегіз мин. жетед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5. Күнмен жердің ара қашықтығы 150 000 000 к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70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.  Күнге ең жақын планета  (Меркурий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2.  Күн жерді айналады (Жер күнді айналады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3.  Паралель солтүстіктен оңтүстікке қарай созылып жатыр. (Батыстан шығысқа қарай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4. Мередиян жерді екі ендікке бөліп тұ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Екі бойлыққа бөліп тұр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5.Жер өз білігінен бір жылда бірлет айналып шығады. (24 сағ.айналады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6. Жер сілкіну жазық жерлерде бола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таулы жерде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7. Жанартау магмалық әсернен болады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8. Жер сілкіну  ядроның қозғалуынан пайда болады. (Мантияның қозғалуынан) Жоқ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9. Жердің ішкі қабаты төрт қабаттан тұра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үш қабаттан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0. Мсштабтың бес түрі бар. (3 түрі бар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1. Жердің сілкіну күштілігін балмен өлшейміз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2. Жер қозғалысын жануарлар, балықтар, жыландар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сезеді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3. Жыл мезгілі жердің күнді айналуынан өзгереді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4. Күннен жерг,е күн сәулесі сегіз мин. жетеді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5. Күнмен жердің ара қашықтығы 150 000 000 км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"/>
          <p:cNvSpPr txBox="1"/>
          <p:nvPr/>
        </p:nvSpPr>
        <p:spPr>
          <a:xfrm rot="5400000">
            <a:off x="5811840" y="3196440"/>
            <a:ext cx="5386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ДҰРЫС ЖАУАПТАР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0328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cc"/>
                </a:solidFill>
                <a:latin typeface="Times New Roman"/>
              </a:rPr>
              <a:t>Жаңа сабақ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4762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. Тау дегеніміз н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2. Тау қыр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3. Таулы үсті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4. Тау аңға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5. Таулы өлкеле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6. Таудың биіктігіне,ұзындығына қарай бөлнуі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7. Тауда не істеуге болмай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8. Альпинизм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9. Сабақтың бары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0. Жергілікті жерімізде биік таулар барм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1. Біздің жеріміз қанда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2. Көліміздің аты не деп атал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4560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44751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Болады таудың жа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Жотасы, шыңы , ба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Беткейі мен етегі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Әр түрлі келер жа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4716360" y="3106800"/>
            <a:ext cx="4032360" cy="30178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1403280" y="404640"/>
            <a:ext cx="648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Тау туралы өле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9:49:58Z</dcterms:created>
  <dc:creator>SamLab.ws</dc:creator>
  <dc:description/>
  <dc:language>en-US</dc:language>
  <cp:lastModifiedBy>SamLab.ws</cp:lastModifiedBy>
  <dcterms:modified xsi:type="dcterms:W3CDTF">2011-12-10T13:24:45Z</dcterms:modified>
  <cp:revision>18</cp:revision>
  <dc:subject/>
  <dc:title>Құрлықтағы таулар</dc:title>
</cp:coreProperties>
</file>