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8DB-2F41-450D-80CB-42926A41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72B-E3F8-407C-9C9A-8E76148A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7C9-3D54-41BC-8D57-63173EAF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C58-50C8-49D3-9D9E-08AAE7BD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5A52-E125-4A08-AC56-0FB6309E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84B0-0E80-4978-A860-28446293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7A5E-484B-49E8-8B97-BAAFACF9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C89B-2B0D-4489-AEC6-94778694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0888-D1BC-49C8-B1C6-CDE40964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BC64-8B4E-4E88-A150-DD536239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BF15-1DB2-45BE-89EA-FA5F93C0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824-B659-4AE0-B972-283177B5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5168-01F4-4663-B7B5-62991DF6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5256-8185-4EC2-87F5-1DAAC9E6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29DD-FDF3-40A2-9835-46C2FE54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A062-FE60-475D-976B-281E656A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D2CE-FEC4-4351-958A-97C2965D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1A6-D43D-4F28-945F-31829B90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073-055F-47DB-BE4B-4AFC8F49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41A-AA2B-4F19-8EEF-6FE3914B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A46-CD4B-44BF-A261-C6D8F1BF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526-56F2-457D-8050-C8290915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E45-0706-4B4F-BABC-10A2B7B3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A7F-1F37-4749-B137-9EB2D580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C007-E527-44DE-A29E-7D2E9BE13B6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1EEE-5889-4206-8132-5F89239BB6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646200" y="858960"/>
            <a:ext cx="8016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230694394_president"/>
          <p:cNvPicPr/>
          <p:nvPr/>
        </p:nvPicPr>
        <p:blipFill>
          <a:blip r:embed="rId1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192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609480" y="22096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езидента - процветание госуда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socobekt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Цель</a:t>
            </a:r>
            <a:r>
              <a:rPr b="0" lang="kk-KZ" sz="3600" spc="-1" strike="noStrike">
                <a:solidFill>
                  <a:srgbClr val="744ffd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Воспитать суверенную личность        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         гражданина-патриота.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1) реализация нравственных, политико-правовых ориентиров, отражающих общечеловеческие ценности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2) формирование гражданского самосознания и казахстанского патриотизма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3) воспитание гуманизма, миролюбия. </a:t>
            </a:r>
            <a:br>
              <a:rPr sz="2800"/>
            </a:br>
            <a:r>
              <a:rPr b="0" lang="kk-KZ" sz="3200" spc="-1" strike="noStrike">
                <a:solidFill>
                  <a:srgbClr val="744ffd"/>
                </a:solidFill>
                <a:latin typeface="Tahoma"/>
              </a:rPr>
              <a:t> ТИП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:</a:t>
            </a:r>
            <a:r>
              <a:rPr b="0" lang="kk-KZ" sz="4000" spc="-1" strike="noStrike">
                <a:solidFill>
                  <a:srgbClr val="744ffd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ТРЕНИНГ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</a:t>
            </a: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</a:t>
            </a: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en-US" sz="2000" spc="-1" strike="noStrike">
                <a:solidFill>
                  <a:srgbClr val="eefa52"/>
                </a:solidFill>
                <a:latin typeface="Tahoma"/>
              </a:rPr>
              <a:t>I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. Уровневые задания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1. Что такое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2. Назовите структуру Конституции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3. Какие слова и термины встречаются в Конституции    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    Республики  Казахстан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4. Что такое правовое государство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5. Когда была принята первая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6. По Конституции на сколько лет избирается президент</a:t>
            </a: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?</a:t>
            </a:r>
            <a:br>
              <a:rPr sz="2000"/>
            </a:b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         7. Как называется введение в Конституцию?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kk-KZ" sz="1600" spc="-1" strike="noStrike">
                <a:solidFill>
                  <a:srgbClr val="744ffd"/>
                </a:solidFill>
                <a:latin typeface="Tahoma"/>
              </a:rPr>
              <a:t>                                 </a:t>
            </a:r>
            <a:br>
              <a:rPr sz="16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ла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28600" y="609480"/>
            <a:ext cx="88567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a52"/>
                </a:solidFill>
                <a:latin typeface="Tahoma"/>
              </a:rPr>
              <a:t>IV</a:t>
            </a:r>
            <a:r>
              <a:rPr b="0" lang="kk-KZ" sz="2800" spc="-1" strike="noStrike">
                <a:solidFill>
                  <a:srgbClr val="eefa52"/>
                </a:solidFill>
                <a:latin typeface="Tahoma"/>
              </a:rPr>
              <a:t>. “Покажи свои знания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.Какую роль играет Конституция в нашей жизн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2. Когда были приняты государственные символы Республики Казахста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3. Зачем тебе нужно знать свои права и обьязательства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4. Может ли гражданин не достигшии 18 лет участвовать на выбор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5. Что такое референду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6. В какой статье Назарбаева  изложены основные идеи  и цели председательства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7. Каковы главные приоритеты казахстанского председательст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8. Что даст нам председательство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9. Как характеризует международные эксперты программу действии Казахст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0. Девизом казахстанского председательства является четыре “Т”, что это означа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07052008120629"/>
          <p:cNvPicPr/>
          <p:nvPr/>
        </p:nvPicPr>
        <p:blipFill>
          <a:blip r:embed="rId1"/>
          <a:stretch/>
        </p:blipFill>
        <p:spPr>
          <a:xfrm>
            <a:off x="0" y="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92760" y="1523880"/>
            <a:ext cx="76345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. ГЛОССАРИЙ “Наведи порядок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1. Пра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А – Основной за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2. Конституция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Б – Глава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3. Государтс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В – Политки общественная организация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4. Гражданин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Г –Независ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5. Право нарушение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Д – Зако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6. Презид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Е – Законодательный орга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7. Парлам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Ж –нарушение зак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8. Независимость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З – человек имеющии свои основные прав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4336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cf854"/>
                </a:solidFill>
                <a:latin typeface="Tahoma"/>
              </a:rPr>
              <a:t>VI</a:t>
            </a:r>
            <a:r>
              <a:rPr b="0" lang="kk-KZ" sz="3200" spc="-1" strike="noStrike">
                <a:solidFill>
                  <a:srgbClr val="ecf854"/>
                </a:solidFill>
                <a:latin typeface="Tahoma"/>
              </a:rPr>
              <a:t>. “Итог. “Защитить проек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“</a:t>
            </a: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Счастье без границ” – как вы поним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0705200812135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cf854"/>
                </a:solidFill>
                <a:latin typeface="Tahoma"/>
              </a:rPr>
              <a:t>Конституции – 15 ле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kk-KZ" sz="2800" spc="-1" strike="noStrike">
                <a:solidFill>
                  <a:srgbClr val="ecf854"/>
                </a:solidFill>
                <a:latin typeface="Tahoma"/>
              </a:rPr>
              <a:t>Пусть наше государство развивается и растет во главе с нашим основным Законом! Пусть ценятся права каждого гражданина Казахстана. Ведь по Конституции самое главное богатство страны не нефть и газ, металлы и уголь, а мы граждане Руспублики Казахстан. Пусть небесный флаг гордо веется над нами. Нам всем вместе строить наш Казахстан, поэтому успехов в этом нелегком пут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4:38:06Z</dcterms:created>
  <dc:creator>кабинет биологии</dc:creator>
  <dc:description/>
  <dc:language>en-US</dc:language>
  <cp:lastModifiedBy>Admin</cp:lastModifiedBy>
  <dcterms:modified xsi:type="dcterms:W3CDTF">2011-11-24T15:5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70000000000010250500207f7000400038000</vt:lpwstr>
  </property>
  <property fmtid="{D5CDD505-2E9C-101B-9397-08002B2CF9AE}" pid="3" name="Version">
    <vt:r8>1</vt:r8>
  </property>
</Properties>
</file>