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47771-A3F5-40AD-8B1E-0C7A42E8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A95A-BB5C-4864-A7C2-58CD1787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CCB4-08CB-48F1-AD61-C809EB1B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EBA-479D-4AA7-B8CA-2818AFE54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04CCB-10AD-4923-8E7D-518A14044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75F4A-A6A3-4425-BBC8-3D617054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10CC-6D3F-4EAD-BB9B-6F0942128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E8279-F471-4020-A922-10D1D621E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CBA4-63BE-4F8F-8A45-9C9257FB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A29E-1E35-470A-866F-A95563F8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B3015-DAED-4696-846D-D5C0140D0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2DC-9265-4B63-901F-803EED297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4CC7-EF01-4C08-A857-2FBA8257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6DE13-462F-4570-8B01-51DA91B73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3733-70C8-435F-B141-1A4290DA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23317-49C0-41F7-850E-B24B20D6F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BD9F9-3AEC-4B39-A5BE-70FABFD3C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909-852C-434A-9CCD-7D95E1192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8914-CDB5-4F0F-93DE-2DEA0B1AB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793F-9647-4964-A59F-6EF0B3AC5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E6A1-403C-4203-BF6E-7F812A80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D001-7840-45DA-B3D8-E0F072FE3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95CB-8C93-4780-B706-1AD80EB85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375A-9C3C-49D0-B7F6-D0FD19678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958B1-F1B6-46E0-8DE7-1F62632ED39B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79F22-2C1F-42DB-AB0B-D47C08F87E85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Заголовок 2" descr=""/>
          <p:cNvPicPr/>
          <p:nvPr/>
        </p:nvPicPr>
        <p:blipFill>
          <a:blip r:embed="rId1"/>
          <a:stretch/>
        </p:blipFill>
        <p:spPr>
          <a:xfrm>
            <a:off x="646200" y="858960"/>
            <a:ext cx="8016840" cy="26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1230694394_president"/>
          <p:cNvPicPr/>
          <p:nvPr/>
        </p:nvPicPr>
        <p:blipFill>
          <a:blip r:embed="rId1"/>
          <a:stretch/>
        </p:blipFill>
        <p:spPr>
          <a:xfrm>
            <a:off x="0" y="0"/>
            <a:ext cx="3429000" cy="25909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4" descr="23192"/>
          <p:cNvPicPr/>
          <p:nvPr/>
        </p:nvPicPr>
        <p:blipFill>
          <a:blip r:embed="rId2"/>
          <a:stretch/>
        </p:blipFill>
        <p:spPr>
          <a:xfrm>
            <a:off x="4572000" y="3657600"/>
            <a:ext cx="4572000" cy="3200400"/>
          </a:xfrm>
          <a:prstGeom prst="rect">
            <a:avLst/>
          </a:prstGeom>
          <a:ln w="0">
            <a:noFill/>
          </a:ln>
        </p:spPr>
      </p:pic>
      <p:sp>
        <p:nvSpPr>
          <p:cNvPr id="91" name="WordArt 12"/>
          <p:cNvSpPr txBox="1"/>
          <p:nvPr/>
        </p:nvSpPr>
        <p:spPr>
          <a:xfrm>
            <a:off x="609480" y="2209680"/>
            <a:ext cx="82296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Цель президента - процветание государств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socobekt"/>
          <p:cNvPicPr/>
          <p:nvPr/>
        </p:nvPicPr>
        <p:blipFill>
          <a:blip r:embed="rId1"/>
          <a:stretch/>
        </p:blipFill>
        <p:spPr>
          <a:xfrm>
            <a:off x="0" y="0"/>
            <a:ext cx="9144000" cy="691848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      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Цель</a:t>
            </a:r>
            <a:r>
              <a:rPr b="0" lang="kk-KZ" sz="3600" spc="-1" strike="noStrike">
                <a:solidFill>
                  <a:srgbClr val="744ffd"/>
                </a:solidFill>
                <a:latin typeface="Tahoma"/>
              </a:rPr>
              <a:t>:</a:t>
            </a:r>
            <a:br>
              <a:rPr sz="2800"/>
            </a:b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Воспитать суверенную личность        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                       гражданина-патриота.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1) реализация нравственных, политико-правовых ориентиров, отражающих общечеловеческие ценности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2) формирование гражданского самосознания и казахстанского патриотизма;</a:t>
            </a:r>
            <a:br>
              <a:rPr sz="2800"/>
            </a:b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3) воспитание гуманизма, миролюбия. </a:t>
            </a:r>
            <a:br>
              <a:rPr sz="2800"/>
            </a:br>
            <a:r>
              <a:rPr b="0" lang="kk-KZ" sz="3200" spc="-1" strike="noStrike">
                <a:solidFill>
                  <a:srgbClr val="744ffd"/>
                </a:solidFill>
                <a:latin typeface="Tahoma"/>
              </a:rPr>
              <a:t> ТИП</a:t>
            </a:r>
            <a:r>
              <a:rPr b="0" lang="ru-RU" sz="4000" spc="-1" strike="noStrike">
                <a:solidFill>
                  <a:srgbClr val="744ffd"/>
                </a:solidFill>
                <a:latin typeface="Tahoma"/>
              </a:rPr>
              <a:t>:</a:t>
            </a:r>
            <a:r>
              <a:rPr b="0" lang="kk-KZ" sz="4000" spc="-1" strike="noStrike">
                <a:solidFill>
                  <a:srgbClr val="744ffd"/>
                </a:solidFill>
                <a:latin typeface="Tahoma"/>
              </a:rPr>
              <a:t> </a:t>
            </a:r>
            <a:r>
              <a:rPr b="0" lang="kk-KZ" sz="2800" spc="-1" strike="noStrike">
                <a:solidFill>
                  <a:srgbClr val="744ffd"/>
                </a:solidFill>
                <a:latin typeface="Tahoma"/>
              </a:rPr>
              <a:t>ТРЕНИНГ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mage"/>
          <p:cNvPicPr/>
          <p:nvPr/>
        </p:nvPicPr>
        <p:blipFill>
          <a:blip r:embed="rId1"/>
          <a:stretch/>
        </p:blipFill>
        <p:spPr>
          <a:xfrm>
            <a:off x="0" y="0"/>
            <a:ext cx="9752040" cy="731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29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</a:t>
            </a:r>
            <a:br>
              <a:rPr sz="4000"/>
            </a:b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</a:t>
            </a:r>
            <a:br>
              <a:rPr sz="40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              </a:t>
            </a:r>
            <a:r>
              <a:rPr b="1" lang="en-US" sz="2000" spc="-1" strike="noStrike">
                <a:solidFill>
                  <a:srgbClr val="eefa52"/>
                </a:solidFill>
                <a:latin typeface="Tahoma"/>
              </a:rPr>
              <a:t>I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. Уровневые задания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1. Что такое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2. Назовите структуру Конституции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3. Какие слова и термины встречаются в Конституции    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    Республики  Казахстан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4. Что такое правовое государство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5. Когда была принята первая Конституция?</a:t>
            </a:r>
            <a:br>
              <a:rPr sz="2000"/>
            </a:b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        6. По Конституции на сколько лет избирается президент</a:t>
            </a: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?</a:t>
            </a:r>
            <a:br>
              <a:rPr sz="2000"/>
            </a:br>
            <a:r>
              <a:rPr b="1" lang="ru-RU" sz="2000" spc="-1" strike="noStrike">
                <a:solidFill>
                  <a:srgbClr val="eefa52"/>
                </a:solidFill>
                <a:latin typeface="Tahoma"/>
              </a:rPr>
              <a:t>         7. Как называется введение в Конституцию?</a:t>
            </a:r>
            <a:r>
              <a:rPr b="1" lang="kk-KZ" sz="2000" spc="-1" strike="noStrike">
                <a:solidFill>
                  <a:srgbClr val="eefa52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br>
              <a:rPr sz="1600"/>
            </a:br>
            <a:r>
              <a:rPr b="0" lang="kk-KZ" sz="1600" spc="-1" strike="noStrike">
                <a:solidFill>
                  <a:srgbClr val="744ffd"/>
                </a:solidFill>
                <a:latin typeface="Tahoma"/>
              </a:rPr>
              <a:t>                                 </a:t>
            </a:r>
            <a:br>
              <a:rPr sz="1600"/>
            </a:br>
            <a:r>
              <a:rPr b="0" lang="kk-KZ" sz="4000" spc="-1" strike="noStrike">
                <a:solidFill>
                  <a:srgbClr val="ffffcc"/>
                </a:solidFill>
                <a:latin typeface="Tahoma"/>
              </a:rPr>
              <a:t>  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Флаг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-228600" y="609480"/>
            <a:ext cx="8856720" cy="561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209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efa52"/>
                </a:solidFill>
                <a:latin typeface="Tahoma"/>
              </a:rPr>
              <a:t>IV</a:t>
            </a:r>
            <a:r>
              <a:rPr b="0" lang="kk-KZ" sz="2800" spc="-1" strike="noStrike">
                <a:solidFill>
                  <a:srgbClr val="eefa52"/>
                </a:solidFill>
                <a:latin typeface="Tahoma"/>
              </a:rPr>
              <a:t>. “Покажи свои знания”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.Какую роль играет Конституция в нашей жизни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2. Когда были приняты государственные символы Республики Казахстан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3. Зачем тебе нужно знать свои права и обьязательства?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4. Может ли гражданин не достигшии 18 лет участвовать на выборах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5. Что такое референдум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6. В какой статье Назарбаева  изложены основные идеи  и цели председательства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7. Каковы главные приоритеты казахстанского председательств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8. Что даст нам председательство в ОБСЕ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9. Как характеризует международные эксперты программу действии Казахстана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10. Девизом казахстанского председательства является четыре “Т”, что это означает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eefa5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2209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9" descr="07052008120629"/>
          <p:cNvPicPr/>
          <p:nvPr/>
        </p:nvPicPr>
        <p:blipFill>
          <a:blip r:embed="rId1"/>
          <a:stretch/>
        </p:blipFill>
        <p:spPr>
          <a:xfrm>
            <a:off x="0" y="0"/>
            <a:ext cx="4952880" cy="426708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292760" y="1523880"/>
            <a:ext cx="763452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III</a:t>
            </a:r>
            <a:r>
              <a:rPr b="0" lang="kk-KZ" sz="2800" spc="-1" strike="noStrike">
                <a:solidFill>
                  <a:srgbClr val="ffff00"/>
                </a:solidFill>
                <a:latin typeface="Times New Roman"/>
              </a:rPr>
              <a:t>. ГЛОССАРИЙ “Наведи порядок”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1. Пра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А – Основной зако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2. Конституция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Б – Глава государств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3. Государтсво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В – Политки общественная организация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4. Гражданин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Г –Независимость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5. Право нарушение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Д – Зако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6. Презид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Е – Законодательный орган</a:t>
            </a:r>
            <a:br>
              <a:rPr sz="2000"/>
            </a:b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7. Парламент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Ж –нарушение зако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8. Независимость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kk-KZ" sz="2000" spc="-1" strike="noStrike">
                <a:solidFill>
                  <a:srgbClr val="ffff00"/>
                </a:solidFill>
                <a:latin typeface="Times New Roman"/>
              </a:rPr>
              <a:t>З – человек имеющии свои основные прав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2433600"/>
            <a:ext cx="8229600" cy="35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ecf854"/>
                </a:solidFill>
                <a:latin typeface="Tahoma"/>
              </a:rPr>
              <a:t>VI</a:t>
            </a:r>
            <a:r>
              <a:rPr b="0" lang="kk-KZ" sz="3200" spc="-1" strike="noStrike">
                <a:solidFill>
                  <a:srgbClr val="ecf854"/>
                </a:solidFill>
                <a:latin typeface="Tahoma"/>
              </a:rPr>
              <a:t>. “Итог. “Защитить проект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“</a:t>
            </a: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Счастье без границ” – как вы понимает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ecf854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10" descr="07052008121353"/>
          <p:cNvPicPr/>
          <p:nvPr/>
        </p:nvPicPr>
        <p:blipFill>
          <a:blip r:embed="rId1"/>
          <a:stretch/>
        </p:blipFill>
        <p:spPr>
          <a:xfrm>
            <a:off x="6324480" y="0"/>
            <a:ext cx="2819520" cy="342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ecf854"/>
                </a:solidFill>
                <a:latin typeface="Tahoma"/>
              </a:rPr>
              <a:t>Конституции – 15 лет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kk-KZ" sz="2800" spc="-1" strike="noStrike">
                <a:solidFill>
                  <a:srgbClr val="ecf854"/>
                </a:solidFill>
                <a:latin typeface="Tahoma"/>
              </a:rPr>
              <a:t>Пусть наше государство развивается и растет во главе с нашим основным Законом! Пусть ценятся права каждого гражданина Казахстана. Ведь по Конституции самое главное богатство страны не нефть и газ, металлы и уголь, а мы граждане Руспублики Казахстан. Пусть небесный флаг гордо веется над нами. Нам всем вместе строить наш Казахстан, поэтому успехов в этом нелегком пути!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28T04:38:06Z</dcterms:created>
  <dc:creator>кабинет биологии</dc:creator>
  <dc:description/>
  <dc:language>en-US</dc:language>
  <cp:lastModifiedBy>Admin</cp:lastModifiedBy>
  <dcterms:modified xsi:type="dcterms:W3CDTF">2011-11-24T15:55:31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0070000000000010250500207f7000400038000</vt:lpwstr>
  </property>
  <property fmtid="{D5CDD505-2E9C-101B-9397-08002B2CF9AE}" pid="3" name="Version">
    <vt:r8>1</vt:r8>
  </property>
</Properties>
</file>