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46D-3755-42FC-9B8B-3432B307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ED9-4CFA-4E8F-96CB-659374E8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890-579F-4620-B3CE-1B1C3898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077-4EA6-4BFC-9A7B-E07EA027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3A75-E7A1-4B14-955B-209D16D3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8FBE-8C7B-43A8-8734-CFA4C4FD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6B77-AE06-40F1-AA98-3A44E7CF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13F4-6807-451F-8302-7D97049F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1FC5-3A82-439B-906A-71366A3E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9BB2-997B-44AE-928B-D8DEFEA6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BA19-E610-4D5D-97D1-946B225C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F18-91F2-4527-9BA8-81E5053C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FFDD-5E16-4FF6-8A09-7A15517C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15B9-1873-48F4-8575-C9EC541C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84F4-3A8B-43A5-83FA-99D52AB7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7526-94E9-48A3-A8EC-B1A02F1F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F966-F688-4647-AE4F-19D8A49D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4BA-5F8E-4031-899F-CA8A4CB5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5A9-04CC-4C2E-8214-A5A3FC02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60C-B3A6-4B1D-8740-761E4253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5B8-5878-48D7-8B33-C9B280A8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4AA-6AAB-4D13-A5FA-17FEE4CE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519-7878-4BD1-9FD9-C916CBE6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9F1-B0E7-4FDB-A028-52F90D7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AEDF-ABA1-4A87-AECF-06B54478E5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359-72B7-4526-BAEC-AF07E71F5D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646200" y="858960"/>
            <a:ext cx="8016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230694394_president"/>
          <p:cNvPicPr/>
          <p:nvPr/>
        </p:nvPicPr>
        <p:blipFill>
          <a:blip r:embed="rId1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192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609480" y="22096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езидента - процветание госуда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socobekt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Цель</a:t>
            </a:r>
            <a:r>
              <a:rPr b="0" lang="kk-KZ" sz="3600" spc="-1" strike="noStrike">
                <a:solidFill>
                  <a:srgbClr val="744ffd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Воспитать суверенную личность        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         гражданина-патриота.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1) реализация нравственных, политико-правовых ориентиров, отражающих общечеловеческие ценности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2) формирование гражданского самосознания и казахстанского патриотизма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3) воспитание гуманизма, миролюбия. </a:t>
            </a:r>
            <a:br>
              <a:rPr sz="2800"/>
            </a:br>
            <a:r>
              <a:rPr b="0" lang="kk-KZ" sz="3200" spc="-1" strike="noStrike">
                <a:solidFill>
                  <a:srgbClr val="744ffd"/>
                </a:solidFill>
                <a:latin typeface="Tahoma"/>
              </a:rPr>
              <a:t> ТИП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:</a:t>
            </a:r>
            <a:r>
              <a:rPr b="0" lang="kk-KZ" sz="4000" spc="-1" strike="noStrike">
                <a:solidFill>
                  <a:srgbClr val="744ffd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ТРЕНИНГ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</a:t>
            </a: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</a:t>
            </a: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en-US" sz="2000" spc="-1" strike="noStrike">
                <a:solidFill>
                  <a:srgbClr val="eefa52"/>
                </a:solidFill>
                <a:latin typeface="Tahoma"/>
              </a:rPr>
              <a:t>I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. Уровневые задания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1. Что такое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2. Назовите структуру Конституции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3. Какие слова и термины встречаются в Конституции    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    Республики  Казахстан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4. Что такое правовое государство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5. Когда была принята первая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6. По Конституции на сколько лет избирается президент</a:t>
            </a: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?</a:t>
            </a:r>
            <a:br>
              <a:rPr sz="2000"/>
            </a:b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         7. Как называется введение в Конституцию?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kk-KZ" sz="1600" spc="-1" strike="noStrike">
                <a:solidFill>
                  <a:srgbClr val="744ffd"/>
                </a:solidFill>
                <a:latin typeface="Tahoma"/>
              </a:rPr>
              <a:t>                                 </a:t>
            </a:r>
            <a:br>
              <a:rPr sz="16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ла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28600" y="609480"/>
            <a:ext cx="88567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a52"/>
                </a:solidFill>
                <a:latin typeface="Tahoma"/>
              </a:rPr>
              <a:t>IV</a:t>
            </a:r>
            <a:r>
              <a:rPr b="0" lang="kk-KZ" sz="2800" spc="-1" strike="noStrike">
                <a:solidFill>
                  <a:srgbClr val="eefa52"/>
                </a:solidFill>
                <a:latin typeface="Tahoma"/>
              </a:rPr>
              <a:t>. “Покажи свои знания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.Какую роль играет Конституция в нашей жизн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2. Когда были приняты государственные символы Республики Казахста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3. Зачем тебе нужно знать свои права и обьязательства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4. Может ли гражданин не достигшии 18 лет участвовать на выбор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5. Что такое референду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6. В какой статье Назарбаева  изложены основные идеи  и цели председательства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7. Каковы главные приоритеты казахстанского председательст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8. Что даст нам председательство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9. Как характеризует международные эксперты программу действии Казахст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0. Девизом казахстанского председательства является четыре “Т”, что это означа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07052008120629"/>
          <p:cNvPicPr/>
          <p:nvPr/>
        </p:nvPicPr>
        <p:blipFill>
          <a:blip r:embed="rId1"/>
          <a:stretch/>
        </p:blipFill>
        <p:spPr>
          <a:xfrm>
            <a:off x="0" y="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92760" y="1523880"/>
            <a:ext cx="76345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. ГЛОССАРИЙ “Наведи порядок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1. Пра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А – Основной за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2. Конституция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Б – Глава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3. Государтс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В – Политки общественная организация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4. Гражданин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Г –Независ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5. Право нарушение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Д – Зако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6. Презид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Е – Законодательный орга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7. Парлам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Ж –нарушение зак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8. Независимость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З – человек имеющии свои основные прав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4336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cf854"/>
                </a:solidFill>
                <a:latin typeface="Tahoma"/>
              </a:rPr>
              <a:t>VI</a:t>
            </a:r>
            <a:r>
              <a:rPr b="0" lang="kk-KZ" sz="3200" spc="-1" strike="noStrike">
                <a:solidFill>
                  <a:srgbClr val="ecf854"/>
                </a:solidFill>
                <a:latin typeface="Tahoma"/>
              </a:rPr>
              <a:t>. “Итог. “Защитить проек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“</a:t>
            </a: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Счастье без границ” – как вы поним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0705200812135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cf854"/>
                </a:solidFill>
                <a:latin typeface="Tahoma"/>
              </a:rPr>
              <a:t>Конституции – 15 ле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kk-KZ" sz="2800" spc="-1" strike="noStrike">
                <a:solidFill>
                  <a:srgbClr val="ecf854"/>
                </a:solidFill>
                <a:latin typeface="Tahoma"/>
              </a:rPr>
              <a:t>Пусть наше государство развивается и растет во главе с нашим основным Законом! Пусть ценятся права каждого гражданина Казахстана. Ведь по Конституции самое главное богатство страны не нефть и газ, металлы и уголь, а мы граждане Руспублики Казахстан. Пусть небесный флаг гордо веется над нами. Нам всем вместе строить наш Казахстан, поэтому успехов в этом нелегком пут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4:38:06Z</dcterms:created>
  <dc:creator>кабинет биологии</dc:creator>
  <dc:description/>
  <dc:language>en-US</dc:language>
  <cp:lastModifiedBy>Admin</cp:lastModifiedBy>
  <dcterms:modified xsi:type="dcterms:W3CDTF">2011-11-24T15:5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70000000000010250500207f7000400038000</vt:lpwstr>
  </property>
  <property fmtid="{D5CDD505-2E9C-101B-9397-08002B2CF9AE}" pid="3" name="Version">
    <vt:r8>1</vt:r8>
  </property>
</Properties>
</file>