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DDE-D45B-4050-9926-6555F5D6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4FA-2607-42B3-BC9F-6BDFFCDB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D71-188F-490C-BF3D-85C94D31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445-47A7-4A48-A198-F5EFC647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BD0D-6BBB-4C1A-8319-3D81FAD9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B9CF-BF9A-4CB5-BC03-A5F8A00D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BED2-FF89-44AD-A945-060D11B5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74FC-CBF5-497B-99B0-90134DC1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31F2-E175-4CBC-BFCA-1F61F1E9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DDF7-578C-4C83-8E0B-32B964A8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34D5-989F-4B54-BE3E-06363B9A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217-303F-4F52-80BC-1C88EB7C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2370-E7E8-43F0-B927-7A0127F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7FD5-8C94-4B73-869C-E4D5CC48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70F3-3632-4C4A-B21A-C845807C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BF5B-0486-405D-8EBF-E6854D94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2350-5A3D-4102-BE6C-94DB837B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579-740C-4F4F-B8EE-399A124F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A7B-EADE-4DD2-8A1D-B6E804AD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F74-BAFB-42A7-A00C-CE6B4259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D1F-BD96-45DC-9677-19A467F9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437-6BA5-43DB-B4B6-50AD34B6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9AB-4049-49EE-B4A0-12B1A4DB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D6B-EBCF-47B4-8766-9F1A5B25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A348-5F4F-47CE-8935-2592E72894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1F8A-DAB7-4A7B-BAB0-8FE9DB8FF5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646200" y="858960"/>
            <a:ext cx="8016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230694394_president"/>
          <p:cNvPicPr/>
          <p:nvPr/>
        </p:nvPicPr>
        <p:blipFill>
          <a:blip r:embed="rId1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192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609480" y="22096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езидента - процветание госуда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socobekt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Цель</a:t>
            </a:r>
            <a:r>
              <a:rPr b="0" lang="kk-KZ" sz="3600" spc="-1" strike="noStrike">
                <a:solidFill>
                  <a:srgbClr val="744ffd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Воспитать суверенную личность        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         гражданина-патриота.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1) реализация нравственных, политико-правовых ориентиров, отражающих общечеловеческие ценности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2) формирование гражданского самосознания и казахстанского патриотизма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3) воспитание гуманизма, миролюбия. </a:t>
            </a:r>
            <a:br>
              <a:rPr sz="2800"/>
            </a:br>
            <a:r>
              <a:rPr b="0" lang="kk-KZ" sz="3200" spc="-1" strike="noStrike">
                <a:solidFill>
                  <a:srgbClr val="744ffd"/>
                </a:solidFill>
                <a:latin typeface="Tahoma"/>
              </a:rPr>
              <a:t> ТИП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:</a:t>
            </a:r>
            <a:r>
              <a:rPr b="0" lang="kk-KZ" sz="4000" spc="-1" strike="noStrike">
                <a:solidFill>
                  <a:srgbClr val="744ffd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ТРЕНИНГ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</a:t>
            </a: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</a:t>
            </a: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en-US" sz="2000" spc="-1" strike="noStrike">
                <a:solidFill>
                  <a:srgbClr val="eefa52"/>
                </a:solidFill>
                <a:latin typeface="Tahoma"/>
              </a:rPr>
              <a:t>I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. Уровневые задания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1. Что такое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2. Назовите структуру Конституции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3. Какие слова и термины встречаются в Конституции    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    Республики  Казахстан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4. Что такое правовое государство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5. Когда была принята первая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6. По Конституции на сколько лет избирается президент</a:t>
            </a: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?</a:t>
            </a:r>
            <a:br>
              <a:rPr sz="2000"/>
            </a:b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         7. Как называется введение в Конституцию?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kk-KZ" sz="1600" spc="-1" strike="noStrike">
                <a:solidFill>
                  <a:srgbClr val="744ffd"/>
                </a:solidFill>
                <a:latin typeface="Tahoma"/>
              </a:rPr>
              <a:t>                                 </a:t>
            </a:r>
            <a:br>
              <a:rPr sz="16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ла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28600" y="609480"/>
            <a:ext cx="88567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a52"/>
                </a:solidFill>
                <a:latin typeface="Tahoma"/>
              </a:rPr>
              <a:t>IV</a:t>
            </a:r>
            <a:r>
              <a:rPr b="0" lang="kk-KZ" sz="2800" spc="-1" strike="noStrike">
                <a:solidFill>
                  <a:srgbClr val="eefa52"/>
                </a:solidFill>
                <a:latin typeface="Tahoma"/>
              </a:rPr>
              <a:t>. “Покажи свои знания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.Какую роль играет Конституция в нашей жизн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2. Когда были приняты государственные символы Республики Казахста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3. Зачем тебе нужно знать свои права и обьязательства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4. Может ли гражданин не достигшии 18 лет участвовать на выбор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5. Что такое референду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6. В какой статье Назарбаева  изложены основные идеи  и цели председательства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7. Каковы главные приоритеты казахстанского председательст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8. Что даст нам председательство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9. Как характеризует международные эксперты программу действии Казахст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0. Девизом казахстанского председательства является четыре “Т”, что это означа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07052008120629"/>
          <p:cNvPicPr/>
          <p:nvPr/>
        </p:nvPicPr>
        <p:blipFill>
          <a:blip r:embed="rId1"/>
          <a:stretch/>
        </p:blipFill>
        <p:spPr>
          <a:xfrm>
            <a:off x="0" y="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92760" y="1523880"/>
            <a:ext cx="76345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. ГЛОССАРИЙ “Наведи порядок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1. Пра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А – Основной за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2. Конституция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Б – Глава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3. Государтс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В – Политки общественная организация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4. Гражданин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Г –Независ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5. Право нарушение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Д – Зако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6. Презид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Е – Законодательный орга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7. Парлам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Ж –нарушение зак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8. Независимость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З – человек имеющии свои основные прав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4336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cf854"/>
                </a:solidFill>
                <a:latin typeface="Tahoma"/>
              </a:rPr>
              <a:t>VI</a:t>
            </a:r>
            <a:r>
              <a:rPr b="0" lang="kk-KZ" sz="3200" spc="-1" strike="noStrike">
                <a:solidFill>
                  <a:srgbClr val="ecf854"/>
                </a:solidFill>
                <a:latin typeface="Tahoma"/>
              </a:rPr>
              <a:t>. “Итог. “Защитить проек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“</a:t>
            </a: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Счастье без границ” – как вы поним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0705200812135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cf854"/>
                </a:solidFill>
                <a:latin typeface="Tahoma"/>
              </a:rPr>
              <a:t>Конституции – 15 ле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kk-KZ" sz="2800" spc="-1" strike="noStrike">
                <a:solidFill>
                  <a:srgbClr val="ecf854"/>
                </a:solidFill>
                <a:latin typeface="Tahoma"/>
              </a:rPr>
              <a:t>Пусть наше государство развивается и растет во главе с нашим основным Законом! Пусть ценятся права каждого гражданина Казахстана. Ведь по Конституции самое главное богатство страны не нефть и газ, металлы и уголь, а мы граждане Руспублики Казахстан. Пусть небесный флаг гордо веется над нами. Нам всем вместе строить наш Казахстан, поэтому успехов в этом нелегком пут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4:38:06Z</dcterms:created>
  <dc:creator>кабинет биологии</dc:creator>
  <dc:description/>
  <dc:language>en-US</dc:language>
  <cp:lastModifiedBy>Admin</cp:lastModifiedBy>
  <dcterms:modified xsi:type="dcterms:W3CDTF">2011-11-24T15:5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70000000000010250500207f7000400038000</vt:lpwstr>
  </property>
  <property fmtid="{D5CDD505-2E9C-101B-9397-08002B2CF9AE}" pid="3" name="Version">
    <vt:r8>1</vt:r8>
  </property>
</Properties>
</file>