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image6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4FC3-86C0-45A2-919E-16A7304756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9DC3-9B3C-4F4A-9CE3-E6F226092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8AD-9D57-4DC5-83A9-5B395F80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70C-6951-4138-8481-0AA45C59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EF6-CC02-467B-BF08-90979B39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AA3-0FBC-475C-A060-56D40AAD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116-8E16-4FB3-A229-372F29B9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D4A-DC28-42E5-9CBA-EE73D877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8B5-DCF6-4396-8BE2-6706DFD2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6CE-6944-49F1-9292-0F67232F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75F-8139-45A5-AA5D-32F0B29C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9DD-0A41-485E-9649-54B5A567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54C-82EC-4D33-A615-F83349C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9E4-6506-431F-A76F-8217213E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AD3C-D230-4004-A623-FC398B733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847640" y="4680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6200000">
            <a:off x="-360" y="562644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0800000">
            <a:off x="7872120" y="5530320"/>
            <a:ext cx="1368360" cy="1319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9528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17 Жалпы орта білім беретін мекте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14172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Ашық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Тақырыбы: “Таулар. Таулардың пайда болу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Сыныбы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Өтесінова Айнагү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golub135"/>
          <p:cNvPicPr/>
          <p:nvPr/>
        </p:nvPicPr>
        <p:blipFill>
          <a:blip r:embed="rId2"/>
          <a:stretch/>
        </p:blipFill>
        <p:spPr>
          <a:xfrm>
            <a:off x="-104472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141" name="Organization Chart 10"/>
          <p:cNvGrpSpPr/>
          <p:nvPr/>
        </p:nvGrpSpPr>
        <p:grpSpPr>
          <a:xfrm>
            <a:off x="324000" y="765000"/>
            <a:ext cx="7631280" cy="4968360"/>
            <a:chOff x="324000" y="765000"/>
            <a:chExt cx="7631280" cy="4968360"/>
          </a:xfrm>
        </p:grpSpPr>
        <p:cxnSp>
          <p:nvCxnSpPr>
            <p:cNvPr id="142" name="_s3076"/>
            <p:cNvCxnSpPr/>
            <p:nvPr/>
          </p:nvCxnSpPr>
          <p:spPr>
            <a:xfrm flipV="1" rot="16200000">
              <a:off x="5397840" y="4112280"/>
              <a:ext cx="433800" cy="74520"/>
            </a:xfrm>
            <a:prstGeom prst="bentConnector3">
              <a:avLst>
                <a:gd name="adj1" fmla="val 264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1"/>
              <a:endCxn id="145" idx="2"/>
            </p:cNvCxnSpPr>
            <p:nvPr/>
          </p:nvCxnSpPr>
          <p:spPr>
            <a:xfrm rot="10800000">
              <a:off x="2611080" y="1999800"/>
              <a:ext cx="752400" cy="1287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_s3078"/>
            <p:cNvSpPr/>
            <p:nvPr/>
          </p:nvSpPr>
          <p:spPr>
            <a:xfrm>
              <a:off x="324000" y="76500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9966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пайда болу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3379320" y="267552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ff9966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 таулар су түбі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налған тау жыныстарыны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баттары орасан з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үйір қысымының әсерін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анып, биіктікке көтерілі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құраға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>
              <a:off x="3491280" y="4467960"/>
              <a:ext cx="4433040" cy="1265400"/>
            </a:xfrm>
            <a:prstGeom prst="bracketPair">
              <a:avLst>
                <a:gd name="adj" fmla="val 0"/>
              </a:avLst>
            </a:prstGeom>
            <a:solidFill>
              <a:srgbClr val="cc33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-жақпарлы таула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ген жерлері жоталар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 опырықтар,тауаралық ірі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йыстарға сәйкес келеді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8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Organization Chart 5"/>
          <p:cNvGrpSpPr/>
          <p:nvPr/>
        </p:nvGrpSpPr>
        <p:grpSpPr>
          <a:xfrm>
            <a:off x="482400" y="658440"/>
            <a:ext cx="8445600" cy="5436360"/>
            <a:chOff x="482400" y="658440"/>
            <a:chExt cx="8445600" cy="5436360"/>
          </a:xfrm>
        </p:grpSpPr>
        <p:cxnSp>
          <p:nvCxnSpPr>
            <p:cNvPr id="149" name="_s4100"/>
            <p:cNvCxnSpPr>
              <a:stCxn id="150" idx="0"/>
              <a:endCxn id="151" idx="2"/>
            </p:cNvCxnSpPr>
            <p:nvPr/>
          </p:nvCxnSpPr>
          <p:spPr>
            <a:xfrm flipV="1" rot="16200000">
              <a:off x="5628240" y="1871640"/>
              <a:ext cx="1009080" cy="3003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2" name="_s4101"/>
            <p:cNvCxnSpPr>
              <a:stCxn id="153" idx="0"/>
              <a:endCxn id="151" idx="2"/>
            </p:cNvCxnSpPr>
            <p:nvPr/>
          </p:nvCxnSpPr>
          <p:spPr>
            <a:xfrm flipV="1">
              <a:off x="4631400" y="2868840"/>
              <a:ext cx="3240" cy="1009080"/>
            </a:xfrm>
            <a:prstGeom prst="bentConnector2">
              <a:avLst/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4" name="_s4102"/>
            <p:cNvCxnSpPr>
              <a:stCxn id="155" idx="0"/>
              <a:endCxn id="151" idx="2"/>
            </p:cNvCxnSpPr>
            <p:nvPr/>
          </p:nvCxnSpPr>
          <p:spPr>
            <a:xfrm flipH="1" flipV="1" rot="5400000">
              <a:off x="2702160" y="1948320"/>
              <a:ext cx="1009080" cy="2850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sp>
          <p:nvSpPr>
            <p:cNvPr id="151" name="_s4103"/>
            <p:cNvSpPr/>
            <p:nvPr/>
          </p:nvSpPr>
          <p:spPr>
            <a:xfrm>
              <a:off x="3335760" y="658440"/>
              <a:ext cx="2592000" cy="2185920"/>
            </a:xfrm>
            <a:prstGeom prst="roundRect">
              <a:avLst>
                <a:gd name="adj" fmla="val 16667"/>
              </a:avLst>
            </a:prstGeom>
            <a:solidFill>
              <a:srgbClr val="fdec98"/>
            </a:solidFill>
            <a:ln w="3816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Үгілу сыртқ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күштердің әсерін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тау жыныстарын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өзгеру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104"/>
            <p:cNvSpPr/>
            <p:nvPr/>
          </p:nvSpPr>
          <p:spPr>
            <a:xfrm>
              <a:off x="482400" y="3893400"/>
              <a:ext cx="259812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Физикалық үгіл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ауа температ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сының өзгеруін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байланысты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105"/>
            <p:cNvSpPr/>
            <p:nvPr/>
          </p:nvSpPr>
          <p:spPr>
            <a:xfrm>
              <a:off x="333576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Химиялық үгілу с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мен ауаның та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жыныстарым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әрекеттесуіні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арқасында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6"/>
            <p:cNvSpPr/>
            <p:nvPr/>
          </p:nvSpPr>
          <p:spPr>
            <a:xfrm>
              <a:off x="633600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Органикалық үгіл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әртүрлі ағзалард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қатысуымен өт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olub135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5400000">
            <a:off x="7692120" y="-21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ер бетінің маңайындағы жазықтардан оқшау көтеріліп жатқан,қатты тілімденген биік бөліктері.................. деп а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ан Тәңірі шыңының биіктігі 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Аласа таулардың биіктігі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Биік тауларды ата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ыртқы күштердің әсерінен тау жыныстардың өзгеруі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Тау жоталарының шоғырлануы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Дүние жүзіндегі ең биік тау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Еуропаны Азиядан бөліп тұратын тау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99"/>
                </a:solidFill>
                <a:latin typeface="Arial"/>
              </a:rPr>
              <a:t>Рельефті бақы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Дүние жүзіндегі ең биік тау Гимал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Тау жоталары шоғырланып тауды құрай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Биік таулардың бірі Мұғал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Сыртқы күштердің әсерінен тау жыныстардың өзгеруінен жанартаулар пайда бо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Қатпарлы таудың бірі-Тянь-Щ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Гималай таулары мен Кордильера тауларының биіктігі 5000 мың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Үгілудің бес түрі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Алтай тауының биіктігі 2000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Еуропа мен Азияны бөліп тұратын тау- О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жауап </a:t>
            </a: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емес жауап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^</a:t>
            </a:r>
            <a:r>
              <a:rPr b="0" lang="kk-KZ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Кескін картам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Кескін картаға түсі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. Мұғалжа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. Алтай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Тянь-Шань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  Іле Алатауы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Оқулықп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иға шабуыл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ртадан Қазақстандағы биік тауларды көрс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Қазақстанның теңіз деңгейінен ең төмен жатқан, және ең биік нүктелері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Ескі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Қатпарлы-жақпарлы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вказ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янь-Щань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Жас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 Еуропа мен Азияны бөліп тұрған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Бекіту: Сауалнамалық сұрақ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   ә) 4   б)5  в) 7   г)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ау жоталары шоғырлану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ау  ә) тау торабы  б) жер бедері в) таулы ө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үние жүзіндегі ең биік та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ималай  ә) Альпі б) Тянь-Шань в) Мұғалжар г) Тарбағат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аулар биіктігіне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екі   ә) төрт  б) үш   в) бес  г) ал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Аласа таулардың биіктігі қандай бо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0-1000м ә) 400-800м  б) 400-1000м  в) 200-800м  г) 1000-2000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Биік таудың бірін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рпат  ә) Мұғалжар  б) Тянь-Шань в) Орал  г)Қы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і   ә) үш   б) бес  в) жеті  г) тө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Ескі тауды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Қырым  ә) Мұғалжар б) Орал  в) Тянь-Шань  г) Кавк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Сыртқы күштердің әсерінен тау жыныстардың өзгеруі қалай ата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ер бедері ә) тау жыныстары  б) тау жотасы в) үгілу  г) гейзерл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Ауа температурасының өзгеруіне байланысты жүретін үгілу түр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изикалық  ә)химиялық  б) органикалық в) биологиялық г) химия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Сауалнама жауа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)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4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7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8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9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0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Қорытынды: Оқушыларды баға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Үйге тапсырма беру: Таулар. Таулардың пайда болу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248436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19564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GUVERC~1"/>
          <p:cNvPicPr/>
          <p:nvPr/>
        </p:nvPicPr>
        <p:blipFill>
          <a:blip r:embed="rId1"/>
          <a:stretch/>
        </p:blipFill>
        <p:spPr>
          <a:xfrm flipH="1" rot="20916000">
            <a:off x="-360" y="4861800"/>
            <a:ext cx="2986200" cy="199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GUVERC~1"/>
          <p:cNvPicPr/>
          <p:nvPr/>
        </p:nvPicPr>
        <p:blipFill>
          <a:blip r:embed="rId2"/>
          <a:stretch/>
        </p:blipFill>
        <p:spPr>
          <a:xfrm rot="21582600">
            <a:off x="6396480" y="-123840"/>
            <a:ext cx="3143160" cy="21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GUVERC~1"/>
          <p:cNvPicPr/>
          <p:nvPr/>
        </p:nvPicPr>
        <p:blipFill>
          <a:blip r:embed="rId3"/>
          <a:stretch/>
        </p:blipFill>
        <p:spPr>
          <a:xfrm rot="21582600">
            <a:off x="6192360" y="4854600"/>
            <a:ext cx="2952720" cy="199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GUVERC~1"/>
          <p:cNvPicPr/>
          <p:nvPr/>
        </p:nvPicPr>
        <p:blipFill>
          <a:blip r:embed="rId4"/>
          <a:stretch/>
        </p:blipFill>
        <p:spPr>
          <a:xfrm flipH="1" rot="21414000">
            <a:off x="-341280" y="-172800"/>
            <a:ext cx="3119400" cy="2084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3160" y="1341360"/>
            <a:ext cx="8196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Білімділігі: таулар және олардың пайда болуы туралы оқушылардың білімдерін жинақт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Тәрбиелілігі: таулардың пайда болуы, үгілу және үгілу түрлері туралы түсінік б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Дамытушылығы: карта арқылы іскерлік пен дағды қалыптасты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түрі: 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әдісі: түсіндіру, саулнама,сұрақ-жау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46120" y="7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884720" y="55389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006200">
            <a:off x="-32400" y="548208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абақтың жүру бары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341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Ұйымдастыру. Амандасу. Оқушыларды түгелдеу. Жаңа сабаққа әзірле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Үй тапсырмасын текс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Жаңа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74920" y="6120"/>
            <a:ext cx="1368720" cy="1320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786440" y="551304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200000">
            <a:off x="-24480" y="551376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й тапсырмасын текс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9  Жанартаулар ыстық бұлақтар, гейзер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) Сөзжұмбақ “Жанартау,ыстық бұлақта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2) Логикалық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ӨЗЖҰМБА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5"/>
          <p:cNvSpPr/>
          <p:nvPr/>
        </p:nvSpPr>
        <p:spPr>
          <a:xfrm>
            <a:off x="1042920" y="1628640"/>
            <a:ext cx="439272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8"/>
          <p:cNvSpPr/>
          <p:nvPr/>
        </p:nvSpPr>
        <p:spPr>
          <a:xfrm>
            <a:off x="356400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1"/>
          <p:cNvSpPr/>
          <p:nvPr/>
        </p:nvSpPr>
        <p:spPr>
          <a:xfrm>
            <a:off x="1835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2"/>
          <p:cNvSpPr/>
          <p:nvPr/>
        </p:nvSpPr>
        <p:spPr>
          <a:xfrm>
            <a:off x="2700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3"/>
          <p:cNvSpPr/>
          <p:nvPr/>
        </p:nvSpPr>
        <p:spPr>
          <a:xfrm>
            <a:off x="457200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5"/>
          <p:cNvSpPr/>
          <p:nvPr/>
        </p:nvSpPr>
        <p:spPr>
          <a:xfrm>
            <a:off x="1835280" y="2492280"/>
            <a:ext cx="360036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6"/>
          <p:cNvSpPr/>
          <p:nvPr/>
        </p:nvSpPr>
        <p:spPr>
          <a:xfrm>
            <a:off x="2700360" y="249228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7"/>
          <p:cNvSpPr/>
          <p:nvPr/>
        </p:nvSpPr>
        <p:spPr>
          <a:xfrm>
            <a:off x="3564000" y="2421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9"/>
          <p:cNvSpPr/>
          <p:nvPr/>
        </p:nvSpPr>
        <p:spPr>
          <a:xfrm>
            <a:off x="4572000" y="234936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0"/>
          <p:cNvSpPr/>
          <p:nvPr/>
        </p:nvSpPr>
        <p:spPr>
          <a:xfrm flipH="1">
            <a:off x="2699640" y="3068640"/>
            <a:ext cx="4678200" cy="866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1"/>
          <p:cNvSpPr/>
          <p:nvPr/>
        </p:nvSpPr>
        <p:spPr>
          <a:xfrm>
            <a:off x="3564000" y="2997360"/>
            <a:ext cx="14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2"/>
          <p:cNvSpPr/>
          <p:nvPr/>
        </p:nvSpPr>
        <p:spPr>
          <a:xfrm>
            <a:off x="457200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3"/>
          <p:cNvSpPr/>
          <p:nvPr/>
        </p:nvSpPr>
        <p:spPr>
          <a:xfrm>
            <a:off x="5435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4"/>
          <p:cNvSpPr/>
          <p:nvPr/>
        </p:nvSpPr>
        <p:spPr>
          <a:xfrm>
            <a:off x="6084720" y="3068640"/>
            <a:ext cx="180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5"/>
          <p:cNvSpPr/>
          <p:nvPr/>
        </p:nvSpPr>
        <p:spPr>
          <a:xfrm>
            <a:off x="6659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6"/>
          <p:cNvSpPr/>
          <p:nvPr/>
        </p:nvSpPr>
        <p:spPr>
          <a:xfrm>
            <a:off x="900000" y="3933720"/>
            <a:ext cx="4537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7"/>
          <p:cNvSpPr/>
          <p:nvPr/>
        </p:nvSpPr>
        <p:spPr>
          <a:xfrm>
            <a:off x="1692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8"/>
          <p:cNvSpPr/>
          <p:nvPr/>
        </p:nvSpPr>
        <p:spPr>
          <a:xfrm>
            <a:off x="2700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9"/>
          <p:cNvSpPr/>
          <p:nvPr/>
        </p:nvSpPr>
        <p:spPr>
          <a:xfrm>
            <a:off x="3564000" y="3933720"/>
            <a:ext cx="144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0"/>
          <p:cNvSpPr/>
          <p:nvPr/>
        </p:nvSpPr>
        <p:spPr>
          <a:xfrm>
            <a:off x="457200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1"/>
          <p:cNvSpPr/>
          <p:nvPr/>
        </p:nvSpPr>
        <p:spPr>
          <a:xfrm>
            <a:off x="1692360" y="4581360"/>
            <a:ext cx="511164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2"/>
          <p:cNvSpPr/>
          <p:nvPr/>
        </p:nvSpPr>
        <p:spPr>
          <a:xfrm flipH="1">
            <a:off x="2700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3"/>
          <p:cNvSpPr/>
          <p:nvPr/>
        </p:nvSpPr>
        <p:spPr>
          <a:xfrm>
            <a:off x="3564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4"/>
          <p:cNvSpPr/>
          <p:nvPr/>
        </p:nvSpPr>
        <p:spPr>
          <a:xfrm>
            <a:off x="4572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5"/>
          <p:cNvSpPr/>
          <p:nvPr/>
        </p:nvSpPr>
        <p:spPr>
          <a:xfrm flipH="1">
            <a:off x="543564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6"/>
          <p:cNvSpPr/>
          <p:nvPr/>
        </p:nvSpPr>
        <p:spPr>
          <a:xfrm>
            <a:off x="6156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7"/>
          <p:cNvSpPr/>
          <p:nvPr/>
        </p:nvSpPr>
        <p:spPr>
          <a:xfrm>
            <a:off x="1835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88"/>
          <p:cNvSpPr/>
          <p:nvPr/>
        </p:nvSpPr>
        <p:spPr>
          <a:xfrm>
            <a:off x="2700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9"/>
          <p:cNvSpPr/>
          <p:nvPr/>
        </p:nvSpPr>
        <p:spPr>
          <a:xfrm>
            <a:off x="3564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1"/>
          <p:cNvSpPr/>
          <p:nvPr/>
        </p:nvSpPr>
        <p:spPr>
          <a:xfrm>
            <a:off x="4572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2"/>
          <p:cNvSpPr/>
          <p:nvPr/>
        </p:nvSpPr>
        <p:spPr>
          <a:xfrm>
            <a:off x="270036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93"/>
          <p:cNvSpPr/>
          <p:nvPr/>
        </p:nvSpPr>
        <p:spPr>
          <a:xfrm>
            <a:off x="356400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4"/>
          <p:cNvSpPr/>
          <p:nvPr/>
        </p:nvSpPr>
        <p:spPr>
          <a:xfrm>
            <a:off x="4572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5"/>
          <p:cNvSpPr/>
          <p:nvPr/>
        </p:nvSpPr>
        <p:spPr>
          <a:xfrm>
            <a:off x="543564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6"/>
          <p:cNvSpPr/>
          <p:nvPr/>
        </p:nvSpPr>
        <p:spPr>
          <a:xfrm>
            <a:off x="615636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golub280"/>
          <p:cNvPicPr/>
          <p:nvPr/>
        </p:nvPicPr>
        <p:blipFill>
          <a:blip r:embed="rId1"/>
          <a:stretch/>
        </p:blipFill>
        <p:spPr>
          <a:xfrm>
            <a:off x="0" y="-44280"/>
            <a:ext cx="9178920" cy="690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object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0" y="-2556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 rot="5400000">
            <a:off x="7800120" y="-385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200000">
            <a:off x="42120" y="553752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0800000">
            <a:off x="7775280" y="556272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өзжұмбақ сұрақта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артаудың м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агманың сыртқа төгілу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Ыстық бұлақт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Жер қыртысының жоғарғы қаб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Жанартаудың төбесін а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Логикалық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Логикалық 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және олардың құрылысы қандай бөліктерден тұ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ер бетіне шыққанда ұшпа заттарынан айырылған магма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ратер сөзінің  мағынас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амчатка түбегіндегі жанартаулар қандай жанартаулар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аз қысымы үлкен болған жағдайда су мен газ мезгіл-мезгіл шапшып атылады. Ол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ейзер сөзінінің мағынас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Ұдайы атқылап жататын жанартаулар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атқылаған кезде қандай процестер бо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әрекеттерінін маңыз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Магма ошағынан жоғарыға қарай өңеші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Жаңа сабақ: Таулар.Таулардың пайда болу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Organization Chart 17"/>
          <p:cNvGrpSpPr/>
          <p:nvPr/>
        </p:nvGrpSpPr>
        <p:grpSpPr>
          <a:xfrm>
            <a:off x="468360" y="1700280"/>
            <a:ext cx="8148600" cy="4376880"/>
            <a:chOff x="468360" y="1700280"/>
            <a:chExt cx="8148600" cy="437688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745600" y="2651040"/>
              <a:ext cx="501840" cy="277920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606920" y="3790080"/>
              <a:ext cx="3240" cy="5018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902320" y="2586960"/>
              <a:ext cx="501840" cy="290772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2626200" y="1700280"/>
              <a:ext cx="3962160" cy="209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 жер бетінің маңайындағ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азықтардан оқш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іп жатқан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ты тілімденге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бөліктер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683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жоталары жалға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ізіліп жатқ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04360" y="4292280"/>
              <a:ext cx="280764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торабы бірнеше т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 келі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үйісетін же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1545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лер тау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оғырланы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ұрай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Organization Chart 170"/>
          <p:cNvGrpSpPr/>
          <p:nvPr/>
        </p:nvGrpSpPr>
        <p:grpSpPr>
          <a:xfrm>
            <a:off x="468360" y="260280"/>
            <a:ext cx="8423280" cy="5682600"/>
            <a:chOff x="468360" y="260280"/>
            <a:chExt cx="8423280" cy="5682600"/>
          </a:xfrm>
        </p:grpSpPr>
        <p:cxnSp>
          <p:nvCxnSpPr>
            <p:cNvPr id="129" name="_s2052"/>
            <p:cNvCxnSpPr>
              <a:stCxn id="130" idx="3"/>
              <a:endCxn id="131" idx="2"/>
            </p:cNvCxnSpPr>
            <p:nvPr/>
          </p:nvCxnSpPr>
          <p:spPr>
            <a:xfrm flipV="1">
              <a:off x="5522040" y="1293120"/>
              <a:ext cx="842760" cy="41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3"/>
            <p:cNvCxnSpPr>
              <a:stCxn id="133" idx="3"/>
              <a:endCxn id="131" idx="2"/>
            </p:cNvCxnSpPr>
            <p:nvPr/>
          </p:nvCxnSpPr>
          <p:spPr>
            <a:xfrm flipV="1">
              <a:off x="5522040" y="1293120"/>
              <a:ext cx="842760" cy="258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4"/>
            <p:cNvCxnSpPr>
              <a:stCxn id="135" idx="3"/>
              <a:endCxn id="131" idx="2"/>
            </p:cNvCxnSpPr>
            <p:nvPr/>
          </p:nvCxnSpPr>
          <p:spPr>
            <a:xfrm flipV="1">
              <a:off x="5522040" y="1293480"/>
              <a:ext cx="842760" cy="103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2055"/>
            <p:cNvSpPr/>
            <p:nvPr/>
          </p:nvSpPr>
          <p:spPr>
            <a:xfrm>
              <a:off x="3837600" y="2602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биіктікке бөліну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6"/>
            <p:cNvSpPr/>
            <p:nvPr/>
          </p:nvSpPr>
          <p:spPr>
            <a:xfrm>
              <a:off x="468360" y="18100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аса таулар деп биіктігі 400м-де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метрге дейінгі тау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7"/>
            <p:cNvSpPr/>
            <p:nvPr/>
          </p:nvSpPr>
          <p:spPr>
            <a:xfrm>
              <a:off x="468360" y="33598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таша биік тауларға 1000 мет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0 метрге дейінгі таулар жата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8"/>
            <p:cNvSpPr/>
            <p:nvPr/>
          </p:nvSpPr>
          <p:spPr>
            <a:xfrm>
              <a:off x="468360" y="49096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таулар деп биіктігі 2000 метрле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атын тауларды айтамы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29:30Z</dcterms:created>
  <dc:creator>Admin</dc:creator>
  <dc:description/>
  <dc:language>en-US</dc:language>
  <cp:lastModifiedBy>АйнаМан</cp:lastModifiedBy>
  <dcterms:modified xsi:type="dcterms:W3CDTF">2012-11-03T09:42:12Z</dcterms:modified>
  <cp:revision>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28000000000001024110</vt:lpwstr>
  </property>
</Properties>
</file>