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386-194C-4D6C-ACFE-8BD2A3B4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1D5A-E215-44E5-A249-83B98449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E57-8F07-4E34-BEC1-E8845362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5B3-0C1E-443C-BF1D-E50C594F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6FA8-8121-411D-BE52-3659E95C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6B00-C3CA-4400-95A2-7B2E0CC7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AB4E-2CD9-49C5-BE94-388DCAD6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3BC9-16C7-4F2A-BA75-FE008590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F73B-006B-42FE-9C18-6EB5625B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60B6-AA11-41D6-9293-F1D5C0E9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3637-C715-40ED-AC84-0BA4B5C8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A5C-B191-4828-83EB-5C8AA9A3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F8EC-6463-48A4-B219-83123AEA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C519-0267-40A2-9CE5-1AE44B9C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401D-3A3C-423A-B772-F0665458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0DAC-5390-4473-A8CB-E68D6ABF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AD0F-196B-48C2-800B-7644B891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C92-E303-4E56-8703-6C09E876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8DB6-6CFF-4F3B-BC70-7F83453C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9BB-9B18-4D15-BCE3-1D995A26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0FF-01A4-4D0F-A139-896EC9B7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53F-C122-4B5D-9A85-811C0965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CC3-CD6F-4EBF-80FB-C5A67D70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2A9-6849-4344-89D2-073172F1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2996-68B5-4E36-82AD-E1DF213D181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A750-310B-44C7-A6D0-D7585F8FB4D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IMG_0052"/>
          <p:cNvPicPr/>
          <p:nvPr/>
        </p:nvPicPr>
        <p:blipFill>
          <a:blip r:embed="rId1"/>
          <a:stretch/>
        </p:blipFill>
        <p:spPr>
          <a:xfrm>
            <a:off x="250920" y="1628640"/>
            <a:ext cx="3938400" cy="369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Picture 3" descr="Фото Аркалык 037"/>
          <p:cNvPicPr/>
          <p:nvPr/>
        </p:nvPicPr>
        <p:blipFill>
          <a:blip r:embed="rId2"/>
          <a:stretch/>
        </p:blipFill>
        <p:spPr>
          <a:xfrm>
            <a:off x="4427640" y="1647720"/>
            <a:ext cx="4176720" cy="3652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Rectangle 4"/>
          <p:cNvSpPr/>
          <p:nvPr/>
        </p:nvSpPr>
        <p:spPr>
          <a:xfrm>
            <a:off x="2917800" y="5419800"/>
            <a:ext cx="330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ыныбы: 6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өткізген: Жұман А.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наты: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: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2.02.2008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19280" y="360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50920" y="2852640"/>
            <a:ext cx="669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шық сабақ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14280" y="189000"/>
            <a:ext cx="8515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Arial"/>
              </a:rPr>
              <a:t>Тақырыбы: Кенді пайдалы қазбала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8000" y="474480"/>
            <a:ext cx="831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а) кенді пайдалы қазбалар жайлы теориялық түсінік бе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ә) оқушылардың танымдық  белсенділігін арттыру, ойын, тілін дамы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б) есте сақтаушылыққа, қауіпсіздікке негіздей отырып кәсіби тәрбие б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3"/>
          <p:cNvSpPr txBox="1"/>
          <p:nvPr/>
        </p:nvSpPr>
        <p:spPr>
          <a:xfrm>
            <a:off x="665280" y="115920"/>
            <a:ext cx="655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Сабақтың мақса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278064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рамандық әдіс, картамен жұмыс, кесте,  сызбалар толтыру, «топтастыру» стратегия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684360" y="1557360"/>
            <a:ext cx="38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түр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61280" y="16351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611280" y="2349360"/>
            <a:ext cx="417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әдісі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682560" y="3532320"/>
            <a:ext cx="55436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көрнекіліг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50920" y="40114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биғи және тұрмыстық заттар,  үлгілер, магнит, тірек-сыз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үлестірмелер, кесте, к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755640" y="4898880"/>
            <a:ext cx="11667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ТСО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860480" y="48690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елевизор, бейне тас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826920" y="60588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на тілі, қазақ тілі, география,  математика, орыс тілі, еңб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3"/>
          <p:cNvSpPr txBox="1"/>
          <p:nvPr/>
        </p:nvSpPr>
        <p:spPr>
          <a:xfrm>
            <a:off x="2195640" y="5589720"/>
            <a:ext cx="47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Пән аралық байланыс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708360" y="1125000"/>
            <a:ext cx="45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дың назарын  сабаққа ауда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ндеу, журнал толты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1260360" y="333360"/>
            <a:ext cx="583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Сабақтың барысы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324000" y="1125360"/>
            <a:ext cx="3527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. Ұйымдастыру кезеңі: 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193840" y="3142440"/>
            <a:ext cx="61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ынып қалай таза 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үртілді ме тақтамы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ен сау болсын десеңі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залықты сақтаңы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 түгел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зекші оны біле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л болсақ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әрін маған қар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«Оқысаңыз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амнан шырақ жағы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генің алдынн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мей-ақ табылар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322200" y="2492280"/>
            <a:ext cx="532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. Психологиялық дайындық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64960" y="1413000"/>
            <a:ext cx="646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Times New Roman"/>
              </a:rPr>
              <a:t>Жауаптарын магниттік тақтадағы картаға жапсы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люминий қай қалада шығады? Оны белгісі қанда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ұнай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ыс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Темір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іздің қаламызда қандай кен орны бар?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Ол мекеме қалай ата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3"/>
          <p:cNvSpPr txBox="1"/>
          <p:nvPr/>
        </p:nvSpPr>
        <p:spPr>
          <a:xfrm>
            <a:off x="395280" y="260280"/>
            <a:ext cx="511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І. Үй тапсырмасын сұр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89080" y="69228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3-1. Қазақстанның пайдалы қазбалары  тақырыбы бойынша оқушыларға сұрақ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24000" y="363780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. «Топтастыру» стратегия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79280" y="40122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йдалы қазбалар деген сөздің маңайына пайдалы қазбалар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атады соны топтастыр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1835280" y="4797360"/>
            <a:ext cx="6875280" cy="1871640"/>
            <a:chOff x="1835280" y="4797360"/>
            <a:chExt cx="6875280" cy="1871640"/>
          </a:xfrm>
        </p:grpSpPr>
        <p:sp>
          <p:nvSpPr>
            <p:cNvPr id="180" name="Rectangle 8"/>
            <p:cNvSpPr/>
            <p:nvPr/>
          </p:nvSpPr>
          <p:spPr>
            <a:xfrm>
              <a:off x="3976920" y="5577120"/>
              <a:ext cx="2253960" cy="445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Пайдалы қазба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441400" y="4797360"/>
              <a:ext cx="112680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ы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18352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юми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947600" y="506484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ты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71326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абиғи г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638880" y="479736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кө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4"/>
            <p:cNvSpPr/>
            <p:nvPr/>
          </p:nvSpPr>
          <p:spPr>
            <a:xfrm>
              <a:off x="6231240" y="613440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ұн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511720" y="613440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е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"/>
            <p:cNvSpPr/>
            <p:nvPr/>
          </p:nvSpPr>
          <p:spPr>
            <a:xfrm>
              <a:off x="6906600" y="50648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сбе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7"/>
            <p:cNvSpPr/>
            <p:nvPr/>
          </p:nvSpPr>
          <p:spPr>
            <a:xfrm>
              <a:off x="4314240" y="6268320"/>
              <a:ext cx="1578960" cy="40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құ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5104080" y="6000840"/>
              <a:ext cx="0" cy="26712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 flipH="1">
              <a:off x="4089240" y="6000840"/>
              <a:ext cx="101448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5104080" y="6000840"/>
              <a:ext cx="112680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 flipV="1">
              <a:off x="5216400" y="5198400"/>
              <a:ext cx="5626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H="1" flipV="1">
              <a:off x="4765680" y="5198400"/>
              <a:ext cx="45036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 flipH="1" flipV="1">
              <a:off x="3525120" y="5198400"/>
              <a:ext cx="16912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4"/>
            <p:cNvSpPr/>
            <p:nvPr/>
          </p:nvSpPr>
          <p:spPr>
            <a:xfrm flipV="1">
              <a:off x="5216400" y="5198400"/>
              <a:ext cx="15778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>
              <a:off x="6231240" y="5733720"/>
              <a:ext cx="90108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 flipH="1">
              <a:off x="3413160" y="5733720"/>
              <a:ext cx="56376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43000" y="119628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йне таспадан кен орындарындарындағы жұмысты тамашалай отырып, кен, кеншілер, кәсіпшілік, тұрғысында әңгім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268360" y="2133000"/>
            <a:ext cx="53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лар жайлы тірек сызба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өрсете отырып сабақты түсінді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332000" y="18900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IV. Жаңа сабақ</a:t>
            </a:r>
            <a:endParaRPr b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50920" y="8715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Кіріспе бөлі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80080" y="20606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Негізгі бө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27520" y="3087720"/>
            <a:ext cx="57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ірек сызбаны дәптерге ж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ейбір оқушылар жапсыру жұмысын жасай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979640" y="3860640"/>
            <a:ext cx="6768720" cy="2736720"/>
            <a:chOff x="1979640" y="3860640"/>
            <a:chExt cx="6768720" cy="2736720"/>
          </a:xfrm>
        </p:grpSpPr>
        <p:sp>
          <p:nvSpPr>
            <p:cNvPr id="206" name="Rectangle 9"/>
            <p:cNvSpPr/>
            <p:nvPr/>
          </p:nvSpPr>
          <p:spPr>
            <a:xfrm>
              <a:off x="3362400" y="3860640"/>
              <a:ext cx="4560480" cy="39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КЕНДІ ПАЙДАЛЫ ҚАЗБАЛА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979640" y="4642560"/>
              <a:ext cx="317808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Қара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5570640" y="4642560"/>
              <a:ext cx="317772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Түсті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2309400" y="5619960"/>
              <a:ext cx="2476440" cy="781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Болат, шойын, темір, құрыш т.б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5591160" y="5619960"/>
              <a:ext cx="2661840" cy="9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Алтын, күміс, алюминий, мыс, қорғасын т.б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 flipH="1">
              <a:off x="4786200" y="4251600"/>
              <a:ext cx="68616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487840" y="4251600"/>
              <a:ext cx="61884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363060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693252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45960" y="404640"/>
            <a:ext cx="76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Мақалдағы мамандық иелерінің қимылын көрс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бердің қолы ортақ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ағаш шебер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Өнерлінің қолы алт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тігінш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шен адам «сөз» соғ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Ұста адам «төс» соғар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ұстаны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Не ексен, соны орас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егінші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59280" y="4428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ff"/>
                </a:solidFill>
                <a:latin typeface="Times New Roman"/>
              </a:rPr>
              <a:t>Сергіту сә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79280" y="32850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Үстел үстіне болат, шойын, алюминий, қорғасын, қалайы, күміс, т.б. металлдардан жасалған бұйымдар қойыл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Оқушылар олардың әрқайсысына магнит жақындаты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байқайды. Кейбіреулері магнитке тартылады, кейбіреу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тартылмайды. Оқушылар мынадай қорытынды жасайды: болат пен шойыннан жасалған бұйымдар магнитке тартылады, яғни олар қара металлдар, ал алюминий, қалайы, қорғасын, күміс, алтын т.б. магнитке тартылмайды, яғни олар түсті металл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95280" y="2852640"/>
            <a:ext cx="75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Сарамандық жұмыс жасау  арқылы жаңа сабақты бекі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468360" y="2492280"/>
            <a:ext cx="4033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V. Сарамандық жұмы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95280" y="836280"/>
            <a:ext cx="80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ұрақ-жауап, кен деп нені айтады? Қандай түрлерін білесінд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 дегніміз не? «Тірек сызба» бойынша сабақты қорытынды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539640" y="33336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. Қорытынды бөлі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539640" y="2203560"/>
            <a:ext cx="374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І. Үйге тапсы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2987640" y="6381720"/>
            <a:ext cx="1973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Бағал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09840" y="263700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Arial"/>
              </a:rPr>
              <a:t>Карточкалар үлестіріп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00000" y="3097080"/>
          <a:ext cx="6840720" cy="2925720"/>
        </p:xfrm>
        <a:graphic>
          <a:graphicData uri="http://schemas.openxmlformats.org/drawingml/2006/table">
            <a:tbl>
              <a:tblPr/>
              <a:tblGrid>
                <a:gridCol w="2281320"/>
                <a:gridCol w="2278080"/>
                <a:gridCol w="2281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ді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ге жатпайтын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анғыш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06:35:08Z</dcterms:created>
  <dc:creator>User</dc:creator>
  <dc:description/>
  <dc:language>en-US</dc:language>
  <cp:lastModifiedBy>Nurken</cp:lastModifiedBy>
  <dcterms:modified xsi:type="dcterms:W3CDTF">2012-02-26T06:07:44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80000000000010250500207f7000400038000</vt:lpwstr>
  </property>
</Properties>
</file>