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BDE3-2BEF-4DAE-A9EA-9B99B34B3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FF30-CE23-447D-A5C1-537BDB356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739A-9401-424A-8118-AFB666BA1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A65E-00FC-4813-A190-0EC1CAD34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98919-3DBD-4F83-B508-2BF4D59CC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A9F9F-2F18-4F16-9B30-6D7FAC194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44F6D-0ED2-498B-8972-4D54F0C6A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15194-9C3D-4847-85EA-2564D5D62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B578B-4F26-4E53-87D3-2D4ECED87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43900-ADA2-454B-87FA-F20FC4885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93E41-F3B3-4D74-A0A3-CED0BDE9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02B7-88E8-4DBC-AB5D-F6BF6CB8C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C619C-4CEE-487D-8AF6-D379FAB2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1B6A8-B356-4441-A649-7C9EA60E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1FD49-BA0C-4C48-B8B6-13E30CF86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6DFD9-E775-47BF-A580-13DB20F6A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2D985-5F9B-475D-B42F-76DD20D69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236C-034C-4B90-AA0C-F5B4B46A0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D903-AB2B-45F7-88F2-2688CCB39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7865-C389-4AF3-8F4F-966DFD286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0C83-C3DE-440A-ACF1-AC6F5BD99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32E9-51B4-4F88-A85D-9B6E15B7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00A2-3C62-4218-BAF8-475FF4DB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1D01-E0F8-4B62-9560-3C1F4A50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2C86A-FCF5-42D3-AD06-E3C2AF3ABCF0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E8052-11B6-4B35-95FA-3760821246DB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IMG_0052"/>
          <p:cNvPicPr/>
          <p:nvPr/>
        </p:nvPicPr>
        <p:blipFill>
          <a:blip r:embed="rId1"/>
          <a:stretch/>
        </p:blipFill>
        <p:spPr>
          <a:xfrm>
            <a:off x="250920" y="1628640"/>
            <a:ext cx="3938400" cy="3692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52" name="Picture 3" descr="Фото Аркалык 037"/>
          <p:cNvPicPr/>
          <p:nvPr/>
        </p:nvPicPr>
        <p:blipFill>
          <a:blip r:embed="rId2"/>
          <a:stretch/>
        </p:blipFill>
        <p:spPr>
          <a:xfrm>
            <a:off x="4427640" y="1647720"/>
            <a:ext cx="4176720" cy="3652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53" name="Rectangle 4"/>
          <p:cNvSpPr/>
          <p:nvPr/>
        </p:nvSpPr>
        <p:spPr>
          <a:xfrm>
            <a:off x="2917800" y="5419800"/>
            <a:ext cx="3309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ыныбы: 6 «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өткізген: Жұман А.Ж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анаты: 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уақыты: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22.02.2008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ж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1619280" y="36068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WordArt 6"/>
          <p:cNvSpPr txBox="1"/>
          <p:nvPr/>
        </p:nvSpPr>
        <p:spPr>
          <a:xfrm>
            <a:off x="250920" y="2852640"/>
            <a:ext cx="669600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Ашық сабақ</a:t>
            </a:r>
            <a:endParaRPr b="1" lang="en-US" sz="1800" spc="1" strike="noStrike">
              <a:ln w="38160">
                <a:solidFill>
                  <a:srgbClr val="ffff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6" name="WordArt 7"/>
          <p:cNvSpPr txBox="1"/>
          <p:nvPr/>
        </p:nvSpPr>
        <p:spPr>
          <a:xfrm>
            <a:off x="314280" y="189000"/>
            <a:ext cx="85154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b800"/>
                </a:solidFill>
                <a:latin typeface="Arial"/>
              </a:rPr>
              <a:t>Тақырыбы: Кенді пайдалы қазбалар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b8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108000" y="474480"/>
            <a:ext cx="831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Times New Roman"/>
              </a:rPr>
              <a:t>а) кенді пайдалы қазбалар жайлы теориялық түсінік бер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Times New Roman"/>
              </a:rPr>
              <a:t>ә) оқушылардың танымдық  белсенділігін арттыру, ойын, тілін дамыт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Times New Roman"/>
              </a:rPr>
              <a:t>б) есте сақтаушылыққа, қауіпсіздікке негіздей отырып кәсіби тәрбие бе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WordArt 3"/>
          <p:cNvSpPr txBox="1"/>
          <p:nvPr/>
        </p:nvSpPr>
        <p:spPr>
          <a:xfrm>
            <a:off x="665280" y="115920"/>
            <a:ext cx="6553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Arial"/>
              </a:rPr>
              <a:t>Сабақтың мақсаты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Arial"/>
              <a:ea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684360" y="2780640"/>
            <a:ext cx="62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Сарамандық әдіс, картамен жұмыс, кесте,  сызбалар толтыру, «топтастыру» стратегия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WordArt 5"/>
          <p:cNvSpPr txBox="1"/>
          <p:nvPr/>
        </p:nvSpPr>
        <p:spPr>
          <a:xfrm>
            <a:off x="684360" y="1557360"/>
            <a:ext cx="3816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Times New Roman"/>
              </a:rPr>
              <a:t>Сабақтың түрі: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Times New Roman"/>
              <a:ea typeface="Times New Roman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4661280" y="163512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Аралас саба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WordArt 7"/>
          <p:cNvSpPr txBox="1"/>
          <p:nvPr/>
        </p:nvSpPr>
        <p:spPr>
          <a:xfrm>
            <a:off x="611280" y="2349360"/>
            <a:ext cx="41767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Times New Roman"/>
              </a:rPr>
              <a:t>Сабақтың әдісі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Times New Roman"/>
              <a:ea typeface="Times New Roman"/>
            </a:endParaRPr>
          </a:p>
        </p:txBody>
      </p:sp>
      <p:sp>
        <p:nvSpPr>
          <p:cNvPr id="163" name="WordArt 8"/>
          <p:cNvSpPr txBox="1"/>
          <p:nvPr/>
        </p:nvSpPr>
        <p:spPr>
          <a:xfrm>
            <a:off x="682560" y="3532320"/>
            <a:ext cx="5543640" cy="40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Times New Roman"/>
              </a:rPr>
              <a:t>Сабақтың көрнекілігі: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Times New Roman"/>
              <a:ea typeface="Times New Roman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50920" y="401148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табиғи және тұрмыстық заттар,  үлгілер, магнит, тірек-сызб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үлестірмелер, кесте, кар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WordArt 10"/>
          <p:cNvSpPr txBox="1"/>
          <p:nvPr/>
        </p:nvSpPr>
        <p:spPr>
          <a:xfrm>
            <a:off x="755640" y="4898880"/>
            <a:ext cx="116676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Times New Roman"/>
              </a:rPr>
              <a:t>ТСО: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Times New Roman"/>
              <a:ea typeface="Times New Roman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1860480" y="4869000"/>
            <a:ext cx="26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Телевизор, бейне тасп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826920" y="605880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ана тілі, қазақ тілі, география,  математика, орыс тілі, еңб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WordArt 13"/>
          <p:cNvSpPr txBox="1"/>
          <p:nvPr/>
        </p:nvSpPr>
        <p:spPr>
          <a:xfrm>
            <a:off x="2195640" y="5589720"/>
            <a:ext cx="4752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Times New Roman"/>
              </a:rPr>
              <a:t>Пән аралық байланыс: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3708360" y="1125000"/>
            <a:ext cx="454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Оқушылардың назарын  сабаққа аудар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түгендеу, журнал толты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WordArt 3"/>
          <p:cNvSpPr txBox="1"/>
          <p:nvPr/>
        </p:nvSpPr>
        <p:spPr>
          <a:xfrm>
            <a:off x="1260360" y="333360"/>
            <a:ext cx="583272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b800"/>
                  </a:solidFill>
                  <a:miter/>
                </a:ln>
                <a:solidFill>
                  <a:srgbClr val="ffb800"/>
                </a:solidFill>
                <a:latin typeface="Times New Roman"/>
              </a:rPr>
              <a:t>Сабақтың барысы:</a:t>
            </a:r>
            <a:endParaRPr b="1" lang="en-US" sz="1800" spc="1" strike="noStrike">
              <a:ln w="3240">
                <a:solidFill>
                  <a:srgbClr val="ffb800"/>
                </a:solidFill>
                <a:miter/>
              </a:ln>
              <a:solidFill>
                <a:srgbClr val="ffb800"/>
              </a:solidFill>
              <a:latin typeface="Times New Roman"/>
              <a:ea typeface="Times New Roman"/>
            </a:endParaRPr>
          </a:p>
        </p:txBody>
      </p:sp>
      <p:sp>
        <p:nvSpPr>
          <p:cNvPr id="171" name="WordArt 4"/>
          <p:cNvSpPr txBox="1"/>
          <p:nvPr/>
        </p:nvSpPr>
        <p:spPr>
          <a:xfrm>
            <a:off x="324000" y="1125360"/>
            <a:ext cx="352728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b800"/>
                  </a:solidFill>
                  <a:miter/>
                </a:ln>
                <a:solidFill>
                  <a:srgbClr val="ffb800"/>
                </a:solidFill>
                <a:latin typeface="Times New Roman"/>
              </a:rPr>
              <a:t>І. Ұйымдастыру кезеңі: </a:t>
            </a:r>
            <a:endParaRPr b="1" lang="en-US" sz="1800" spc="1" strike="noStrike">
              <a:ln w="3240">
                <a:solidFill>
                  <a:srgbClr val="ffb800"/>
                </a:solidFill>
                <a:miter/>
              </a:ln>
              <a:solidFill>
                <a:srgbClr val="ffb800"/>
              </a:solidFill>
              <a:latin typeface="Times New Roman"/>
              <a:ea typeface="Times New Roman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2193840" y="3142440"/>
            <a:ext cx="6194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Сынып қалай таза м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Сүртілді ме тақтамыз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Ден сау болсын десеңіз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Тазалықты сақтаңы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Оқушылар түгел м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Кезекші оны біле м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Түгел болсақ балалар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Бәрін маған қараңд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«Оқысаңыз балалар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Шамнан шырақ жағыл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Іздегенің алдынна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Іздемей-ақ табылар»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WordArt 6"/>
          <p:cNvSpPr txBox="1"/>
          <p:nvPr/>
        </p:nvSpPr>
        <p:spPr>
          <a:xfrm>
            <a:off x="322200" y="2492280"/>
            <a:ext cx="53294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b800"/>
                  </a:solidFill>
                  <a:miter/>
                </a:ln>
                <a:solidFill>
                  <a:srgbClr val="ffb800"/>
                </a:solidFill>
                <a:latin typeface="Times New Roman"/>
              </a:rPr>
              <a:t>ІІ. Психологиялық дайындық:</a:t>
            </a:r>
            <a:endParaRPr b="1" lang="en-US" sz="1800" spc="1" strike="noStrike">
              <a:ln w="3240">
                <a:solidFill>
                  <a:srgbClr val="ffb800"/>
                </a:solidFill>
                <a:miter/>
              </a:ln>
              <a:solidFill>
                <a:srgbClr val="ffb800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264960" y="1413000"/>
            <a:ext cx="6467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 u="sng">
                <a:solidFill>
                  <a:srgbClr val="000000"/>
                </a:solidFill>
                <a:uFillTx/>
                <a:latin typeface="Times New Roman"/>
              </a:rPr>
              <a:t>Жауаптарын магниттік тақтадағы картаға жапсыр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Алюминий қай қалада шығады? Оны белгісі қанда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Мұнай қай қалада шығады? Оның белгіс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Мыс қай қалада шығады? Оның белгіс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Темір қай қалада шығады? Оның белгіс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Біздің қаламызда қандай кен орны бар?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Ол мекеме қалай атала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WordArt 3"/>
          <p:cNvSpPr txBox="1"/>
          <p:nvPr/>
        </p:nvSpPr>
        <p:spPr>
          <a:xfrm>
            <a:off x="395280" y="260280"/>
            <a:ext cx="51134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b800"/>
                </a:solidFill>
                <a:latin typeface="Times New Roman"/>
              </a:rPr>
              <a:t>ІІІ. Үй тапсырмасын сұра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b800"/>
              </a:solidFill>
              <a:latin typeface="Times New Roman"/>
              <a:ea typeface="Times New Roman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289080" y="692280"/>
            <a:ext cx="867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3-1. Қазақстанның пайдалы қазбалары  тақырыбы бойынша оқушыларға сұрақ қо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324000" y="3637800"/>
            <a:ext cx="395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2. «Топтастыру» стратегияс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179280" y="401220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айдалы қазбалар деген сөздің маңайына пайдалы қазбаларғ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е жатады соны топтастыра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7"/>
          <p:cNvGrpSpPr/>
          <p:nvPr/>
        </p:nvGrpSpPr>
        <p:grpSpPr>
          <a:xfrm>
            <a:off x="1835280" y="4797360"/>
            <a:ext cx="6875280" cy="1871640"/>
            <a:chOff x="1835280" y="4797360"/>
            <a:chExt cx="6875280" cy="1871640"/>
          </a:xfrm>
        </p:grpSpPr>
        <p:sp>
          <p:nvSpPr>
            <p:cNvPr id="180" name="Rectangle 8"/>
            <p:cNvSpPr/>
            <p:nvPr/>
          </p:nvSpPr>
          <p:spPr>
            <a:xfrm>
              <a:off x="3976920" y="5577120"/>
              <a:ext cx="2253960" cy="4453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800" spc="-1" strike="noStrike">
                  <a:solidFill>
                    <a:srgbClr val="703dff"/>
                  </a:solidFill>
                  <a:latin typeface="Arial"/>
                  <a:ea typeface="Times New Roman"/>
                </a:rPr>
                <a:t>Пайдалы қазбала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9"/>
            <p:cNvSpPr/>
            <p:nvPr/>
          </p:nvSpPr>
          <p:spPr>
            <a:xfrm>
              <a:off x="5441400" y="4797360"/>
              <a:ext cx="1126800" cy="401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703dff"/>
                  </a:solidFill>
                  <a:latin typeface="Arial"/>
                  <a:ea typeface="Times New Roman"/>
                </a:rPr>
                <a:t>мы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10"/>
            <p:cNvSpPr/>
            <p:nvPr/>
          </p:nvSpPr>
          <p:spPr>
            <a:xfrm>
              <a:off x="1835280" y="5599440"/>
              <a:ext cx="1577880" cy="401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703dff"/>
                  </a:solidFill>
                  <a:latin typeface="Arial"/>
                  <a:ea typeface="Times New Roman"/>
                </a:rPr>
                <a:t>алюмин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1"/>
            <p:cNvSpPr/>
            <p:nvPr/>
          </p:nvSpPr>
          <p:spPr>
            <a:xfrm>
              <a:off x="1947600" y="5064840"/>
              <a:ext cx="1577520" cy="401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703dff"/>
                  </a:solidFill>
                  <a:latin typeface="Arial"/>
                  <a:ea typeface="Times New Roman"/>
                </a:rPr>
                <a:t>алты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2"/>
            <p:cNvSpPr/>
            <p:nvPr/>
          </p:nvSpPr>
          <p:spPr>
            <a:xfrm>
              <a:off x="7132680" y="5599440"/>
              <a:ext cx="1577880" cy="401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703dff"/>
                  </a:solidFill>
                  <a:latin typeface="Arial"/>
                  <a:ea typeface="Times New Roman"/>
                </a:rPr>
                <a:t>табиғи га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3"/>
            <p:cNvSpPr/>
            <p:nvPr/>
          </p:nvSpPr>
          <p:spPr>
            <a:xfrm>
              <a:off x="3638880" y="4797360"/>
              <a:ext cx="1577520" cy="401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703dff"/>
                  </a:solidFill>
                  <a:latin typeface="Arial"/>
                  <a:ea typeface="Times New Roman"/>
                </a:rPr>
                <a:t>көмі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4"/>
            <p:cNvSpPr/>
            <p:nvPr/>
          </p:nvSpPr>
          <p:spPr>
            <a:xfrm>
              <a:off x="6231240" y="6134400"/>
              <a:ext cx="1577880" cy="401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703dff"/>
                  </a:solidFill>
                  <a:latin typeface="Arial"/>
                  <a:ea typeface="Times New Roman"/>
                </a:rPr>
                <a:t>мұна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15"/>
            <p:cNvSpPr/>
            <p:nvPr/>
          </p:nvSpPr>
          <p:spPr>
            <a:xfrm>
              <a:off x="2511720" y="6134400"/>
              <a:ext cx="1577520" cy="401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703dff"/>
                  </a:solidFill>
                  <a:latin typeface="Arial"/>
                  <a:ea typeface="Times New Roman"/>
                </a:rPr>
                <a:t>темі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16"/>
            <p:cNvSpPr/>
            <p:nvPr/>
          </p:nvSpPr>
          <p:spPr>
            <a:xfrm>
              <a:off x="6906600" y="5064840"/>
              <a:ext cx="1577880" cy="401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703dff"/>
                  </a:solidFill>
                  <a:latin typeface="Arial"/>
                  <a:ea typeface="Times New Roman"/>
                </a:rPr>
                <a:t>асбес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17"/>
            <p:cNvSpPr/>
            <p:nvPr/>
          </p:nvSpPr>
          <p:spPr>
            <a:xfrm>
              <a:off x="4314240" y="6268320"/>
              <a:ext cx="1578960" cy="400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703dff"/>
                  </a:solidFill>
                  <a:latin typeface="Arial"/>
                  <a:ea typeface="Times New Roman"/>
                </a:rPr>
                <a:t>құ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8"/>
            <p:cNvSpPr/>
            <p:nvPr/>
          </p:nvSpPr>
          <p:spPr>
            <a:xfrm>
              <a:off x="5104080" y="6000840"/>
              <a:ext cx="0" cy="267120"/>
            </a:xfrm>
            <a:prstGeom prst="line">
              <a:avLst/>
            </a:prstGeom>
            <a:ln w="1908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9"/>
            <p:cNvSpPr/>
            <p:nvPr/>
          </p:nvSpPr>
          <p:spPr>
            <a:xfrm flipH="1">
              <a:off x="4089240" y="6000840"/>
              <a:ext cx="1014480" cy="133200"/>
            </a:xfrm>
            <a:prstGeom prst="line">
              <a:avLst/>
            </a:prstGeom>
            <a:ln w="1908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20"/>
            <p:cNvSpPr/>
            <p:nvPr/>
          </p:nvSpPr>
          <p:spPr>
            <a:xfrm>
              <a:off x="5104080" y="6000840"/>
              <a:ext cx="1126800" cy="133200"/>
            </a:xfrm>
            <a:prstGeom prst="line">
              <a:avLst/>
            </a:prstGeom>
            <a:ln w="1908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21"/>
            <p:cNvSpPr/>
            <p:nvPr/>
          </p:nvSpPr>
          <p:spPr>
            <a:xfrm flipV="1">
              <a:off x="5216400" y="5198400"/>
              <a:ext cx="562680" cy="400680"/>
            </a:xfrm>
            <a:prstGeom prst="line">
              <a:avLst/>
            </a:prstGeom>
            <a:ln w="1908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22"/>
            <p:cNvSpPr/>
            <p:nvPr/>
          </p:nvSpPr>
          <p:spPr>
            <a:xfrm flipH="1" flipV="1">
              <a:off x="4765680" y="5198400"/>
              <a:ext cx="450360" cy="400680"/>
            </a:xfrm>
            <a:prstGeom prst="line">
              <a:avLst/>
            </a:prstGeom>
            <a:ln w="1908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3"/>
            <p:cNvSpPr/>
            <p:nvPr/>
          </p:nvSpPr>
          <p:spPr>
            <a:xfrm flipH="1" flipV="1">
              <a:off x="3525120" y="5198400"/>
              <a:ext cx="1691280" cy="400680"/>
            </a:xfrm>
            <a:prstGeom prst="line">
              <a:avLst/>
            </a:prstGeom>
            <a:ln w="1908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24"/>
            <p:cNvSpPr/>
            <p:nvPr/>
          </p:nvSpPr>
          <p:spPr>
            <a:xfrm flipV="1">
              <a:off x="5216400" y="5198400"/>
              <a:ext cx="1577880" cy="400680"/>
            </a:xfrm>
            <a:prstGeom prst="line">
              <a:avLst/>
            </a:prstGeom>
            <a:ln w="1908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25"/>
            <p:cNvSpPr/>
            <p:nvPr/>
          </p:nvSpPr>
          <p:spPr>
            <a:xfrm>
              <a:off x="6231240" y="5733720"/>
              <a:ext cx="901080" cy="0"/>
            </a:xfrm>
            <a:prstGeom prst="line">
              <a:avLst/>
            </a:prstGeom>
            <a:ln w="1908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6"/>
            <p:cNvSpPr/>
            <p:nvPr/>
          </p:nvSpPr>
          <p:spPr>
            <a:xfrm flipH="1">
              <a:off x="3413160" y="5733720"/>
              <a:ext cx="563760" cy="0"/>
            </a:xfrm>
            <a:prstGeom prst="line">
              <a:avLst/>
            </a:prstGeom>
            <a:ln w="1908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1143000" y="1196280"/>
            <a:ext cx="71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йне таспадан кен орындарындарындағы жұмысты тамашалай отырып, кен, кеншілер, кәсіпшілік, тұрғысында әңгімеле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2268360" y="2133000"/>
            <a:ext cx="532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Кенді пайдалы қазбалар жайлы тірек сызбада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көрсете отырып сабақты түсінді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WordArt 4"/>
          <p:cNvSpPr txBox="1"/>
          <p:nvPr/>
        </p:nvSpPr>
        <p:spPr>
          <a:xfrm>
            <a:off x="1332000" y="189000"/>
            <a:ext cx="6192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b8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IV. Жаңа сабақ</a:t>
            </a:r>
            <a:endParaRPr b="1" lang="en-US" sz="1800" spc="1" strike="noStrike">
              <a:ln w="9360">
                <a:solidFill>
                  <a:srgbClr val="ffb8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250920" y="87156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а) Кіріспе бөлі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280080" y="2060640"/>
            <a:ext cx="206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ә) Негізгі бөлі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227520" y="3087720"/>
            <a:ext cx="571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 u="sng">
                <a:solidFill>
                  <a:srgbClr val="000000"/>
                </a:solidFill>
                <a:uFillTx/>
                <a:latin typeface="Times New Roman"/>
              </a:rPr>
              <a:t>Тірек сызбаны дәптерге жаз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 u="sng">
                <a:solidFill>
                  <a:srgbClr val="000000"/>
                </a:solidFill>
                <a:uFillTx/>
                <a:latin typeface="Times New Roman"/>
              </a:rPr>
              <a:t>Кейбір оқушылар жапсыру жұмысын жасай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8"/>
          <p:cNvGrpSpPr/>
          <p:nvPr/>
        </p:nvGrpSpPr>
        <p:grpSpPr>
          <a:xfrm>
            <a:off x="1979640" y="3860640"/>
            <a:ext cx="6768720" cy="2736720"/>
            <a:chOff x="1979640" y="3860640"/>
            <a:chExt cx="6768720" cy="2736720"/>
          </a:xfrm>
        </p:grpSpPr>
        <p:sp>
          <p:nvSpPr>
            <p:cNvPr id="206" name="Rectangle 9"/>
            <p:cNvSpPr/>
            <p:nvPr/>
          </p:nvSpPr>
          <p:spPr>
            <a:xfrm>
              <a:off x="3362400" y="3860640"/>
              <a:ext cx="4560480" cy="390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6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КЕНДІ ПАЙДАЛЫ ҚАЗБАЛА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10"/>
            <p:cNvSpPr/>
            <p:nvPr/>
          </p:nvSpPr>
          <p:spPr>
            <a:xfrm>
              <a:off x="1979640" y="4642560"/>
              <a:ext cx="3178080" cy="586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6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Қара металл кендер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1"/>
            <p:cNvSpPr/>
            <p:nvPr/>
          </p:nvSpPr>
          <p:spPr>
            <a:xfrm>
              <a:off x="5570640" y="4642560"/>
              <a:ext cx="3177720" cy="586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6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Түсті металл кендер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2"/>
            <p:cNvSpPr/>
            <p:nvPr/>
          </p:nvSpPr>
          <p:spPr>
            <a:xfrm>
              <a:off x="2309400" y="5619960"/>
              <a:ext cx="2476440" cy="781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Болат, шойын, темір, құрыш т.б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3"/>
            <p:cNvSpPr/>
            <p:nvPr/>
          </p:nvSpPr>
          <p:spPr>
            <a:xfrm>
              <a:off x="5591160" y="5619960"/>
              <a:ext cx="2661840" cy="977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Алтын, күміс, алюминий, мыс, қорғасын т.б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14"/>
            <p:cNvSpPr/>
            <p:nvPr/>
          </p:nvSpPr>
          <p:spPr>
            <a:xfrm flipH="1">
              <a:off x="4786200" y="4251600"/>
              <a:ext cx="686160" cy="390600"/>
            </a:xfrm>
            <a:prstGeom prst="line">
              <a:avLst/>
            </a:prstGeom>
            <a:ln w="2844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15"/>
            <p:cNvSpPr/>
            <p:nvPr/>
          </p:nvSpPr>
          <p:spPr>
            <a:xfrm>
              <a:off x="5487840" y="4251600"/>
              <a:ext cx="618840" cy="390600"/>
            </a:xfrm>
            <a:prstGeom prst="line">
              <a:avLst/>
            </a:prstGeom>
            <a:ln w="2844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6"/>
            <p:cNvSpPr/>
            <p:nvPr/>
          </p:nvSpPr>
          <p:spPr>
            <a:xfrm>
              <a:off x="3630600" y="5229000"/>
              <a:ext cx="0" cy="390960"/>
            </a:xfrm>
            <a:prstGeom prst="line">
              <a:avLst/>
            </a:prstGeom>
            <a:ln w="2844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7"/>
            <p:cNvSpPr/>
            <p:nvPr/>
          </p:nvSpPr>
          <p:spPr>
            <a:xfrm>
              <a:off x="6932520" y="5229000"/>
              <a:ext cx="0" cy="390960"/>
            </a:xfrm>
            <a:prstGeom prst="line">
              <a:avLst/>
            </a:prstGeom>
            <a:ln w="2844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345960" y="404640"/>
            <a:ext cx="76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 u="sng">
                <a:solidFill>
                  <a:srgbClr val="0000ff"/>
                </a:solidFill>
                <a:uFillTx/>
                <a:latin typeface="Times New Roman"/>
              </a:rPr>
              <a:t>Мақалдағы мамандық иелерінің қимылын көрсе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Шебердің қолы ортақ.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(ағаш шеберінің қимыл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Өнерлінің қолы алтын.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(тігіншінің қимыл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Шешен адам «сөз» соғар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Ұста адам «төс» соғар.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(ұстаның қимыл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Не ексен, соны орасын.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(егінші қимыл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3059280" y="44280"/>
            <a:ext cx="172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ff"/>
                </a:solidFill>
                <a:latin typeface="Times New Roman"/>
              </a:rPr>
              <a:t>Сергіту сәті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179280" y="3285000"/>
            <a:ext cx="86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Үстел үстіне болат, шойын, алюминий, қорғасын, қалайы, күміс, т.б. металлдардан жасалған бұйымдар қойыла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Оқушылар олардың әрқайсысына магнит жақындаты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байқайды. Кейбіреулері магнитке тартылады, кейбіреу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тартылмайды. Оқушылар мынадай қорытынды жасайды: болат пен шойыннан жасалған бұйымдар магнитке тартылады, яғни олар қара металлдар, ал алюминий, қалайы, қорғасын, күміс, алтын т.б. магнитке тартылмайды, яғни олар түсті металлд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395280" y="2852640"/>
            <a:ext cx="75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 u="sng">
                <a:solidFill>
                  <a:srgbClr val="0000ff"/>
                </a:solidFill>
                <a:uFillTx/>
                <a:latin typeface="Times New Roman"/>
              </a:rPr>
              <a:t>Сарамандық жұмыс жасау  арқылы жаңа сабақты бекіт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WordArt 6"/>
          <p:cNvSpPr txBox="1"/>
          <p:nvPr/>
        </p:nvSpPr>
        <p:spPr>
          <a:xfrm>
            <a:off x="468360" y="2492280"/>
            <a:ext cx="40338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cc66"/>
                </a:solidFill>
                <a:latin typeface="Times New Roman"/>
              </a:rPr>
              <a:t>V. Сарамандық жұмыс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cc66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395280" y="836280"/>
            <a:ext cx="804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ұрақ-жауап, кен деп нені айтады? Қандай түрлерін білесіндер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Кенді пайдалы қазба дегніміз не? «Тірек сызба» бойынша сабақты қорытындыла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WordArt 3"/>
          <p:cNvSpPr txBox="1"/>
          <p:nvPr/>
        </p:nvSpPr>
        <p:spPr>
          <a:xfrm>
            <a:off x="539640" y="333360"/>
            <a:ext cx="3961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Times New Roman"/>
              </a:rPr>
              <a:t>VІ. Қорытынды бөлі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Times New Roman"/>
              <a:ea typeface="Times New Roman"/>
            </a:endParaRPr>
          </a:p>
        </p:txBody>
      </p:sp>
      <p:sp>
        <p:nvSpPr>
          <p:cNvPr id="222" name="WordArt 4"/>
          <p:cNvSpPr txBox="1"/>
          <p:nvPr/>
        </p:nvSpPr>
        <p:spPr>
          <a:xfrm>
            <a:off x="539640" y="2203560"/>
            <a:ext cx="3745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Times New Roman"/>
              </a:rPr>
              <a:t>VІІ. Үйге тапсырм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Times New Roman"/>
              <a:ea typeface="Times New Roman"/>
            </a:endParaRPr>
          </a:p>
        </p:txBody>
      </p:sp>
      <p:sp>
        <p:nvSpPr>
          <p:cNvPr id="223" name="WordArt 5"/>
          <p:cNvSpPr txBox="1"/>
          <p:nvPr/>
        </p:nvSpPr>
        <p:spPr>
          <a:xfrm>
            <a:off x="2987640" y="6381720"/>
            <a:ext cx="19731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Times New Roman"/>
              </a:rPr>
              <a:t>Бағала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Times New Roman"/>
              <a:ea typeface="Times New Roman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609840" y="2637000"/>
            <a:ext cx="37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 u="sng">
                <a:solidFill>
                  <a:srgbClr val="000000"/>
                </a:solidFill>
                <a:uFillTx/>
                <a:latin typeface="Arial"/>
              </a:rPr>
              <a:t>Карточкалар үлестіріп бе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900000" y="3097080"/>
          <a:ext cx="6840720" cy="2925720"/>
        </p:xfrm>
        <a:graphic>
          <a:graphicData uri="http://schemas.openxmlformats.org/drawingml/2006/table">
            <a:tbl>
              <a:tblPr/>
              <a:tblGrid>
                <a:gridCol w="2281320"/>
                <a:gridCol w="2278080"/>
                <a:gridCol w="22813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енді пайдалы қазбал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енге жатпайтын пайдалы қазбал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Жанғыш пайдалы қазбал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2T06:35:08Z</dcterms:created>
  <dc:creator>User</dc:creator>
  <dc:description/>
  <dc:language>en-US</dc:language>
  <cp:lastModifiedBy>Nurken</cp:lastModifiedBy>
  <dcterms:modified xsi:type="dcterms:W3CDTF">2012-02-26T06:07:44Z</dcterms:modified>
  <cp:revision>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e080000000000010250500207f7000400038000</vt:lpwstr>
  </property>
</Properties>
</file>