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C51-C409-42BB-8A6E-F7D16D09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8F3D-CC9D-49E7-85EE-589BFBDE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7C1-3E58-4A11-8C21-C2007673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F72-6C12-480F-870D-135BB88A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FF3-7903-4888-BFF8-1680A30F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6224-6FA1-48D0-9762-52D960D0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675-94C2-4429-BCD3-2BF600B5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942-CD81-480B-871F-DD5BFBBF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772-2228-4AB5-B918-BFDC5308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5F3-C47F-43AC-B5EB-F3130B85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96D8-DAAC-4D2E-9190-791610EE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4802-1B80-4C81-94EF-F7A9E7E0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9405-2246-448B-A77C-9EC9A2DD92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8578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7200" spc="-1" strike="noStrike">
                <a:solidFill>
                  <a:srgbClr val="000000"/>
                </a:solidFill>
                <a:latin typeface="Palatino Linotype"/>
              </a:rPr>
              <a:t>Жаратылыстану </a:t>
            </a:r>
            <a:br>
              <a:rPr sz="7200"/>
            </a:br>
            <a:r>
              <a:rPr b="1" i="1" lang="kk-KZ" sz="7200" spc="-1" strike="noStrike">
                <a:solidFill>
                  <a:srgbClr val="000000"/>
                </a:solidFill>
                <a:latin typeface="Palatino Linotype"/>
              </a:rPr>
              <a:t>5 сынып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573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Palatino Linotype"/>
              </a:rPr>
              <a:t>Пән мұғалімі: А.Н.Зекеш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-main-pic" descr="&amp;Kcy;&amp;acy;&amp;rcy;&amp;tcy;&amp;icy;&amp;ncy;&amp;kcy;&amp;acy; 29 &amp;icy;&amp;zcy; 12496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http://im5-tub-kz.yandex.net/i?id=488629559-44-72"/>
          <p:cNvPicPr/>
          <p:nvPr/>
        </p:nvPicPr>
        <p:blipFill>
          <a:blip r:embed="rId1"/>
          <a:stretch/>
        </p:blipFill>
        <p:spPr>
          <a:xfrm>
            <a:off x="642960" y="417600"/>
            <a:ext cx="785808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http://im0-tub-kz.yandex.net/i?id=258157437-66-72"/>
          <p:cNvPicPr/>
          <p:nvPr/>
        </p:nvPicPr>
        <p:blipFill>
          <a:blip r:embed="rId1"/>
          <a:stretch/>
        </p:blipFill>
        <p:spPr>
          <a:xfrm>
            <a:off x="149400" y="222120"/>
            <a:ext cx="875952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http://im6-tub-kz.yandex.net/i?id=62150841-09-72"/>
          <p:cNvPicPr/>
          <p:nvPr/>
        </p:nvPicPr>
        <p:blipFill>
          <a:blip r:embed="rId1"/>
          <a:stretch/>
        </p:blipFill>
        <p:spPr>
          <a:xfrm>
            <a:off x="214200" y="214200"/>
            <a:ext cx="868068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http://im4-tub-kz.yandex.net/i?id=59001028-42-72"/>
          <p:cNvPicPr/>
          <p:nvPr/>
        </p:nvPicPr>
        <p:blipFill>
          <a:blip r:embed="rId1"/>
          <a:stretch/>
        </p:blipFill>
        <p:spPr>
          <a:xfrm>
            <a:off x="222120" y="174600"/>
            <a:ext cx="87426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9600" spc="-1" strike="noStrike">
                <a:solidFill>
                  <a:srgbClr val="000000"/>
                </a:solidFill>
                <a:latin typeface="Palatino Linotype"/>
              </a:rPr>
              <a:t>Адаптация</a:t>
            </a:r>
            <a:r>
              <a:rPr b="1" i="1" lang="en-US" sz="9600" spc="-1" strike="noStrike">
                <a:solidFill>
                  <a:srgbClr val="000000"/>
                </a:solidFill>
                <a:latin typeface="Palatino Linotype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Жануарлардың қоршаған ортаға бейімделу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840" y="35676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Жинақтау</a:t>
            </a:r>
            <a:br>
              <a:rPr sz="4400"/>
            </a:b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Сөзтізбек  «Амур жолбарысы»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14240" y="1357200"/>
          <a:ext cx="7786800" cy="5286600"/>
        </p:xfrm>
        <a:graphic>
          <a:graphicData uri="http://schemas.openxmlformats.org/drawingml/2006/table">
            <a:tbl>
              <a:tblPr/>
              <a:tblGrid>
                <a:gridCol w="584280"/>
                <a:gridCol w="582840"/>
                <a:gridCol w="587160"/>
                <a:gridCol w="677880"/>
                <a:gridCol w="617400"/>
                <a:gridCol w="836640"/>
                <a:gridCol w="663840"/>
                <a:gridCol w="583920"/>
                <a:gridCol w="543240"/>
                <a:gridCol w="550800"/>
                <a:gridCol w="541080"/>
                <a:gridCol w="520920"/>
                <a:gridCol w="49680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Бағалау</a:t>
            </a:r>
            <a:br>
              <a:rPr sz="5400"/>
            </a:b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Венн диаграммас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Овал 3"/>
          <p:cNvSpPr/>
          <p:nvPr/>
        </p:nvSpPr>
        <p:spPr>
          <a:xfrm>
            <a:off x="928800" y="1714680"/>
            <a:ext cx="4357440" cy="4929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4"/>
          <p:cNvSpPr/>
          <p:nvPr/>
        </p:nvSpPr>
        <p:spPr>
          <a:xfrm>
            <a:off x="4143240" y="1714680"/>
            <a:ext cx="4286520" cy="4929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Прямоугольник 6" descr=""/>
          <p:cNvPicPr/>
          <p:nvPr/>
        </p:nvPicPr>
        <p:blipFill>
          <a:blip r:embed="rId1"/>
          <a:stretch/>
        </p:blipFill>
        <p:spPr>
          <a:xfrm>
            <a:off x="1689120" y="2109960"/>
            <a:ext cx="2711520" cy="40788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7" descr=""/>
          <p:cNvPicPr/>
          <p:nvPr/>
        </p:nvPicPr>
        <p:blipFill>
          <a:blip r:embed="rId2"/>
          <a:stretch/>
        </p:blipFill>
        <p:spPr>
          <a:xfrm>
            <a:off x="5284800" y="2182680"/>
            <a:ext cx="206064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8800" spc="-1" strike="noStrike">
                <a:solidFill>
                  <a:srgbClr val="000000"/>
                </a:solidFill>
                <a:latin typeface="Palatino Linotype"/>
              </a:rPr>
              <a:t>Кері байланыс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Не үйрендім?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Не үйренгім келеді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kk-KZ" sz="5400" spc="-1" strike="noStrike">
                <a:solidFill>
                  <a:srgbClr val="000000"/>
                </a:solidFill>
                <a:latin typeface="Palatino Linotype"/>
              </a:rPr>
              <a:t>Бағалау:</a:t>
            </a:r>
            <a:r>
              <a:rPr b="0" lang="kk-KZ" sz="5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br>
              <a:rPr sz="5400"/>
            </a:br>
            <a:r>
              <a:rPr b="0" lang="kk-KZ" sz="5400" spc="-1" strike="noStrike">
                <a:solidFill>
                  <a:srgbClr val="000000"/>
                </a:solidFill>
                <a:latin typeface="Palatino Linotype"/>
              </a:rPr>
              <a:t>Критерий бойынша оқушылардың өзін-өзі бағалау қорытындысына  талдау, қорытынды бағ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Табиғи қоршаған ор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Сабақтың мақсат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Оқушыларға табиғи қоршаған орта туралы түсінік беру, сұрақ-жауап арқылы  сыни ойлау дағдысын арттыру, өзара ынтымақтастық орна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Күтілетін нәтиж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Табиғи қоршаған орта туралы  білім ала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ілімді өз беттерімен меңгеред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Сөздік қоры арта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ірін-бірі тыңдауға үйренед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Сыни ойлай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Құралдар: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 АКТ, интерактивті тақта, слайд, флипчарт, ғаламтор мәліметтер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Сабақтың әдісі: 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лум таксономиясы,АКТ, әңгімелесу, диалог, сұрақ-жауа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28760" y="1143000"/>
          <a:ext cx="8143920" cy="5280120"/>
        </p:xfrm>
        <a:graphic>
          <a:graphicData uri="http://schemas.openxmlformats.org/drawingml/2006/table">
            <a:tbl>
              <a:tblPr/>
              <a:tblGrid>
                <a:gridCol w="4071960"/>
                <a:gridCol w="1582560"/>
                <a:gridCol w="2489400"/>
              </a:tblGrid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апсырмалар мен сұрақт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Ұпай с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қушының ұпай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іршілік ортасы дегеніміз н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ірі ағзалар жер бетінде қалай таралған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Неліктен жер шарында өсімдіктер мен жануарлар әркелкі таралған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Өсімдіктер мен жануарлардың қандай түрлері жергілікті өлкеде кездеседі? Олардың тіршілігі туралы қызықты әңгімелерді есіңе түсіріп ,айтып беріңде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қулықпен жұмы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Сөзтізбек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(10-13 жауап 10 ұпа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Венн диаграмма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Жалпы ұпай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Прямоугольник 2" descr=""/>
          <p:cNvPicPr/>
          <p:nvPr/>
        </p:nvPicPr>
        <p:blipFill>
          <a:blip r:embed="rId1"/>
          <a:stretch/>
        </p:blipFill>
        <p:spPr>
          <a:xfrm>
            <a:off x="1494000" y="-208080"/>
            <a:ext cx="733896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900" spc="-1" strike="noStrike">
                <a:solidFill>
                  <a:srgbClr val="000000"/>
                </a:solidFill>
                <a:latin typeface="Palatino Linotype"/>
              </a:rPr>
              <a:t>Бағалау критерийлері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35-45 ұпай «5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24-34 ұпай «4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13-23 ұпай «3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0-12 ұпай «2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8000" spc="-1" strike="noStrike">
                <a:solidFill>
                  <a:srgbClr val="000000"/>
                </a:solidFill>
                <a:latin typeface="Palatino Linotype"/>
              </a:rPr>
              <a:t>Үйге тапсырм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§53 оқуға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Табиғат көрінісі бейнеленген сурет салып кел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Сабақтың  барысы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Ұйымдастыру бөлімі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Оқушыларды топқа бөлу тренингі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Жануарлардың аттары қағазға жазылып, оқушылар суырады, сол жануардың дауысын  дыбыстау арқылы өз топтарын табад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Топ ережелерін еске түсір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Әр топта топ басшысын, хатшысын, репортер, тәлімгер сайлау. (Оқушылар өзара келісіп, сайлайды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Бағалау критерийлерін ұсын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Білім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071880"/>
            <a:ext cx="640080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Тіршілік ортасы дегеніміз не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Түсін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2357280"/>
            <a:ext cx="892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Тірі ағзалар жер бетінде қалай таралған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Неліктен жер шарында өсімдіктер мен жануарлар әркелкі таралған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Қолдан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840" y="160020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000000"/>
                </a:solidFill>
                <a:latin typeface="Palatino Linotype"/>
              </a:rPr>
              <a:t>Өсімдіктер мен жануарлардың қандай түрлері жергілікті өлкеде кездеседі? Олардың тіршілігі туралы қызықты әңгімелерді есіңе түсіріп, айтып беріңде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Талда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7920" y="1600200"/>
            <a:ext cx="860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Оқулықпен жұмы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(Оқушылар мәтінмен танысып шығады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Слайдтар көрсету арқылы  жануарлар мен өсімдіктердің қоршаған ортаға  бейімделуін көрсе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Суретті көре отырып өздері қорытындылап отыра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Адаптация терминіне өздері анықтама жасап, мағынасын ашады, дәптерге жаза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http://im7-tub-kz.yandex.net/i?id=347907964-02-72&amp;n=17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http://im2-tub-kz.yandex.net/i?id=547085673-03-72&amp;n=17"/>
          <p:cNvPicPr/>
          <p:nvPr/>
        </p:nvPicPr>
        <p:blipFill>
          <a:blip r:embed="rId1"/>
          <a:stretch/>
        </p:blipFill>
        <p:spPr>
          <a:xfrm>
            <a:off x="1071720" y="285840"/>
            <a:ext cx="68580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6:53:49Z</dcterms:created>
  <dc:creator>User</dc:creator>
  <dc:description/>
  <dc:language>en-US</dc:language>
  <cp:lastModifiedBy>User</cp:lastModifiedBy>
  <dcterms:modified xsi:type="dcterms:W3CDTF">2012-05-10T08:59:00Z</dcterms:modified>
  <cp:revision>7</cp:revision>
  <dc:subject/>
  <dc:title>Жаратылыстану  5 сынып</dc:title>
</cp:coreProperties>
</file>