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6E8-A88B-4341-AFB9-ED6A2F0E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49C-CA0F-4A03-9111-DF7ACF5D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FA6-41CB-442E-A17D-0DA9D98D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439-D57C-428C-9903-62072A33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183-B2A7-4F48-956B-7ED93B40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D74-1855-42CA-B24F-4CA1A273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66D-0970-481F-A567-5134B8D4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2B3-136C-456B-909A-4B0108A2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718-A0B0-4606-8B75-9BFBB900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81C-1D3B-41D3-B9C3-4B43E218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C4B-7981-4A1F-85C7-55E934A2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916-D5AD-4678-B571-C7BD608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EE75-0527-4823-93CB-13B3A1995F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578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Жаратылыстану </a:t>
            </a:r>
            <a:br>
              <a:rPr sz="7200"/>
            </a:b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5 сыны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57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Palatino Linotype"/>
              </a:rPr>
              <a:t>Пән мұғалімі: А.Н.Зекеш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-main-pic" descr="&amp;Kcy;&amp;acy;&amp;rcy;&amp;tcy;&amp;icy;&amp;ncy;&amp;kcy;&amp;acy; 29 &amp;icy;&amp;zcy; 12496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im5-tub-kz.yandex.net/i?id=488629559-44-72"/>
          <p:cNvPicPr/>
          <p:nvPr/>
        </p:nvPicPr>
        <p:blipFill>
          <a:blip r:embed="rId1"/>
          <a:stretch/>
        </p:blipFill>
        <p:spPr>
          <a:xfrm>
            <a:off x="642960" y="417600"/>
            <a:ext cx="7858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0-tub-kz.yandex.net/i?id=258157437-66-72"/>
          <p:cNvPicPr/>
          <p:nvPr/>
        </p:nvPicPr>
        <p:blipFill>
          <a:blip r:embed="rId1"/>
          <a:stretch/>
        </p:blipFill>
        <p:spPr>
          <a:xfrm>
            <a:off x="149400" y="222120"/>
            <a:ext cx="87595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http://im6-tub-kz.yandex.net/i?id=62150841-09-72"/>
          <p:cNvPicPr/>
          <p:nvPr/>
        </p:nvPicPr>
        <p:blipFill>
          <a:blip r:embed="rId1"/>
          <a:stretch/>
        </p:blipFill>
        <p:spPr>
          <a:xfrm>
            <a:off x="214200" y="214200"/>
            <a:ext cx="86806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4-tub-kz.yandex.net/i?id=59001028-42-72"/>
          <p:cNvPicPr/>
          <p:nvPr/>
        </p:nvPicPr>
        <p:blipFill>
          <a:blip r:embed="rId1"/>
          <a:stretch/>
        </p:blipFill>
        <p:spPr>
          <a:xfrm>
            <a:off x="222120" y="174600"/>
            <a:ext cx="8742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9600" spc="-1" strike="noStrike">
                <a:solidFill>
                  <a:srgbClr val="000000"/>
                </a:solidFill>
                <a:latin typeface="Palatino Linotype"/>
              </a:rPr>
              <a:t>Адаптация</a:t>
            </a:r>
            <a:r>
              <a:rPr b="1" i="1" lang="en-US" sz="9600" spc="-1" strike="noStrike">
                <a:solidFill>
                  <a:srgbClr val="000000"/>
                </a:solidFill>
                <a:latin typeface="Palatino Linotype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Жануарлардың қоршаған ортаға бейімделу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Жинақтау</a:t>
            </a:r>
            <a:br>
              <a:rPr sz="4400"/>
            </a:b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Сөзтізбек  «Амур жолбарысы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14240" y="1357200"/>
          <a:ext cx="7786800" cy="5286600"/>
        </p:xfrm>
        <a:graphic>
          <a:graphicData uri="http://schemas.openxmlformats.org/drawingml/2006/table">
            <a:tbl>
              <a:tblPr/>
              <a:tblGrid>
                <a:gridCol w="584280"/>
                <a:gridCol w="582840"/>
                <a:gridCol w="587160"/>
                <a:gridCol w="677880"/>
                <a:gridCol w="617400"/>
                <a:gridCol w="836640"/>
                <a:gridCol w="663840"/>
                <a:gridCol w="583920"/>
                <a:gridCol w="543240"/>
                <a:gridCol w="550800"/>
                <a:gridCol w="541080"/>
                <a:gridCol w="520920"/>
                <a:gridCol w="49680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Бағалау</a:t>
            </a:r>
            <a:br>
              <a:rPr sz="5400"/>
            </a:b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Венн диаграмма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3"/>
          <p:cNvSpPr/>
          <p:nvPr/>
        </p:nvSpPr>
        <p:spPr>
          <a:xfrm>
            <a:off x="928800" y="1714680"/>
            <a:ext cx="435744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143240" y="1714680"/>
            <a:ext cx="428652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1689120" y="2109960"/>
            <a:ext cx="271152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2"/>
          <a:stretch/>
        </p:blipFill>
        <p:spPr>
          <a:xfrm>
            <a:off x="5284800" y="2182680"/>
            <a:ext cx="20606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800" spc="-1" strike="noStrike">
                <a:solidFill>
                  <a:srgbClr val="000000"/>
                </a:solidFill>
                <a:latin typeface="Palatino Linotype"/>
              </a:rPr>
              <a:t>Кері байланы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дім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гім келеді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kk-KZ" sz="5400" spc="-1" strike="noStrike">
                <a:solidFill>
                  <a:srgbClr val="000000"/>
                </a:solidFill>
                <a:latin typeface="Palatino Linotype"/>
              </a:rPr>
              <a:t>Бағалау:</a:t>
            </a: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br>
              <a:rPr sz="5400"/>
            </a:b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Критерий бойынша оқушылардың өзін-өзі бағалау қорытындысына  талдау, қорытынды бағ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Табиғи қоршаған 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мақс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Оқушыларға табиғи қоршаған орта туралы түсінік беру, сұрақ-жауап арқылы  сыни ойлау дағдысын арттыру, өзара ынтымақтастық орна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Күтілетін нәти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Табиғи қоршаған орта туралы  білім ал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лімді өз беттерімен меңгер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өздік қоры арт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рін-бірі тыңдауға үйрен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ыни ойлай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Құралдар: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 АКТ, интерактивті тақта, слайд, флипчарт, ғаламтор мәліметте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әдісі: 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лум таксономиясы,АКТ, әңгімелесу, диалог, сұрақ-жауа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28760" y="1143000"/>
          <a:ext cx="8143920" cy="5280120"/>
        </p:xfrm>
        <a:graphic>
          <a:graphicData uri="http://schemas.openxmlformats.org/drawingml/2006/table">
            <a:tbl>
              <a:tblPr/>
              <a:tblGrid>
                <a:gridCol w="4071960"/>
                <a:gridCol w="1582560"/>
                <a:gridCol w="24894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апсырмалар мен сұрақ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Ұпай 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шының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шілік ортасы дегеніміз 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і ағзалар жер бетінде қалай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Неліктен жер шарында өсімдіктер мен жануарлар әркелкі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Өсімдіктер мен жануарлардың қандай түрлері жергілікті өлкеде кездеседі? Олардың тіршілігі туралы қызықты әңгімелерді есіңе түсіріп ,айтып беріңд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лықпен жұмы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өзтізбек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(10-13 жауап 10 ұпа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Венн диаграмма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алпы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494000" y="-208080"/>
            <a:ext cx="73389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900" spc="-1" strike="noStrike">
                <a:solidFill>
                  <a:srgbClr val="000000"/>
                </a:solidFill>
                <a:latin typeface="Palatino Linotype"/>
              </a:rPr>
              <a:t>Бағалау критерийлер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35-45 ұпай «5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24-34 ұпай «4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13-23 ұпай «3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0-12 ұпай «2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000" spc="-1" strike="noStrike">
                <a:solidFill>
                  <a:srgbClr val="000000"/>
                </a:solidFill>
                <a:latin typeface="Palatino Linotype"/>
              </a:rPr>
              <a:t>Үйге тапсырм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§53 оқуға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абиғат көрінісі бейнеленген сурет салып кел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Сабақтың  бары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Ұйымдастыру бөлім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Оқушыларды топқа бөлу тренинг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Жануарлардың аттары қағазға жазылып, оқушылар суырады, сол жануардың дауысын  дыбыстау арқылы өз топтарын таба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Топ ережелерін еске түсі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Әр топта топ басшысын, хатшысын, репортер, тәлімгер сайлау. (Оқушылар өзара келісіп, сайлай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Бағалау критерийлерін ұсы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Білім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Тіршілік ортасы дегеніміз н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үсі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357280"/>
            <a:ext cx="892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ірі ағзалар жер бетінде қалай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Неліктен жер шарында өсімдіктер мен жануарлар әркелкі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Қолда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6002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Palatino Linotype"/>
              </a:rPr>
              <a:t>Өсімдіктер мен жануарлардың қандай түрлері жергілікті өлкеде кездеседі? Олардың тіршілігі туралы қызықты әңгімелерді есіңе түсіріп, айтып берің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алда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920" y="1600200"/>
            <a:ext cx="860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Оқулықпен жұм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(Оқушылар мәтінмен танысып шығады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лайдтар көрсету арқылы  жануарлар мен өсімдіктердің қоршаған ортаға  бейімделуін көрс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уретті көре отырып өздері қорытындылап отыр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Адаптация терминіне өздері анықтама жасап, мағынасын ашады, дәптерге жаз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im7-tub-kz.yandex.net/i?id=347907964-02-72&amp;n=17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2-tub-kz.yandex.net/i?id=547085673-03-72&amp;n=17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3:49Z</dcterms:created>
  <dc:creator>User</dc:creator>
  <dc:description/>
  <dc:language>en-US</dc:language>
  <cp:lastModifiedBy>User</cp:lastModifiedBy>
  <dcterms:modified xsi:type="dcterms:W3CDTF">2012-05-10T08:59:00Z</dcterms:modified>
  <cp:revision>7</cp:revision>
  <dc:subject/>
  <dc:title>Жаратылыстану  5 сынып</dc:title>
</cp:coreProperties>
</file>