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jpeg" ContentType="image/jpeg"/>
  <Override PartName="/ppt/media/image25.png" ContentType="image/png"/>
  <Override PartName="/ppt/media/image6.jpeg" ContentType="image/jpeg"/>
  <Override PartName="/ppt/media/image18.png" ContentType="image/png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0.jpeg" ContentType="image/jpeg"/>
  <Override PartName="/ppt/media/image22.jpeg" ContentType="image/jpeg"/>
  <Override PartName="/ppt/media/image26.png" ContentType="image/pn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796D-486E-4886-B48D-A2BFC37BF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A085-FD47-4EC2-9155-807159E9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CA70-7315-4721-8AE6-528BD484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92A9-E58C-475F-876B-648B280D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DF2A-04BC-4118-B9CE-30BD5D33D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D3AF-AA44-4DD4-851E-FF9678FF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D7AE-BB11-4F35-9236-A1E21067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1C60-55B0-4F11-8518-902993B2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AD5C-A54C-46AC-8A17-3C981171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79AC-7469-4AA4-ACA9-D640A8C1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D49E-964B-4129-9F9A-901481E6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E88B-59B1-4F91-920F-130696E6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3C33-08FA-4B05-BC94-81A7E75B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53B9-C444-4ADE-ABF5-152674A3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7C8D-0F99-4436-ADF6-7C5DBA81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826B-6F6D-48C9-90D8-09AB9961D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569B-2675-44DC-9341-B84FBAEA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3E62-467E-4A0C-97AD-7203D5CD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4925-7CCB-4DFE-B9E5-43C5C390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0B91-BF37-4BEB-A02D-C8725D33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B2EA-82D6-4A33-B5ED-67994355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C00B-25A1-45A1-8E2D-65B2FAD0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6E98-B539-4B60-8016-386550EF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0D32-F36E-4DE8-9078-065A67F4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7584-CAC5-4EAD-A3DB-BC3D9EDEB515}" type="slidenum">
              <a:rPr b="0" lang="kk-K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F405-E631-42E5-B79C-68EE50BE75C7}" type="slidenum">
              <a:rPr b="0" lang="kk-K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eec94"/>
                </a:solidFill>
                <a:latin typeface="Times New Roman"/>
              </a:rPr>
              <a:t>Сабақтың тақырыбы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9900"/>
                </a:solidFill>
                <a:latin typeface="Times New Roman"/>
              </a:rPr>
              <a:t>Компьютердің  құрылғыс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Slim Desktop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662040" y="1488960"/>
            <a:ext cx="781848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Mini Tow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3132000" y="1484280"/>
            <a:ext cx="350532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Midi Tow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3348000" y="1628640"/>
            <a:ext cx="3319560" cy="522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Big Tow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1727280" y="1197000"/>
            <a:ext cx="4932360" cy="54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File Serv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059280" y="2019240"/>
            <a:ext cx="3038400" cy="48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роцессо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2627280" y="1413000"/>
            <a:ext cx="456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ff00"/>
                </a:solidFill>
                <a:latin typeface="Times New Roman"/>
              </a:rPr>
              <a:t>Int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ff00"/>
                </a:solidFill>
                <a:latin typeface="Times New Roman"/>
              </a:rPr>
              <a:t>Celeron, Intel Core 2 Duo  Intel Core 2 Quad,</a:t>
            </a:r>
            <a:r>
              <a:rPr b="0" lang="kk-KZ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468360" y="3143160"/>
            <a:ext cx="378756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AMD Athlon, AMD Athlon 64 X2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678040" y="1576440"/>
            <a:ext cx="378792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eec94"/>
                </a:solidFill>
                <a:latin typeface="Times New Roman"/>
              </a:rPr>
              <a:t>Random Access Memory, (RAM)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87280" y="25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99ff"/>
                </a:solidFill>
                <a:latin typeface="Times New Roman"/>
              </a:rPr>
              <a:t>Жедел жа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1332000" y="3789360"/>
            <a:ext cx="6494400" cy="15271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7"/>
          <p:cNvSpPr/>
          <p:nvPr/>
        </p:nvSpPr>
        <p:spPr>
          <a:xfrm>
            <a:off x="4500720" y="5300640"/>
            <a:ext cx="28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DDR SDR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619280" y="2997360"/>
            <a:ext cx="6494400" cy="16272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3708360" y="4862520"/>
            <a:ext cx="31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DDR2 SDR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20040" y="1557360"/>
            <a:ext cx="848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800" spc="-1" strike="noStrike">
                <a:solidFill>
                  <a:srgbClr val="feec94"/>
                </a:solidFill>
                <a:latin typeface="Times New Roman"/>
              </a:rPr>
              <a:t>Random Access Memory, (RAM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Жедел жад екіге бөлінеді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45720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ff00"/>
                </a:solidFill>
                <a:latin typeface="Times New Roman"/>
              </a:rPr>
              <a:t>ТЖҚ (ПЗУ):</a:t>
            </a: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 Тұрақты жадтайтын құрылғ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Ақпаратты тұрақты сақтауға арналған жа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Компьютер өшіргенде ТЖҚ- дағы ақпарат бұзылмай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Мұнда сақталған командаларды тек оқуға болады, бірақ жаңа ақпарат жазуға болмай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0" y="2923920"/>
            <a:ext cx="45720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ff00"/>
                </a:solidFill>
                <a:latin typeface="Times New Roman"/>
              </a:rPr>
              <a:t>ЖЖҚ (ОЗУ): </a:t>
            </a: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Жедел жадтайтын құрылғ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Ақпарпатты уақытша сақтауға арналған жа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Компьютерді өшіргенде ЖЖҚ- дағы ақпарат бұзыла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Мұнда жазылған командалар, ақпарат жазуға бола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4"/>
          <p:cNvSpPr/>
          <p:nvPr/>
        </p:nvSpPr>
        <p:spPr>
          <a:xfrm flipH="1">
            <a:off x="1834920" y="1413000"/>
            <a:ext cx="936360" cy="143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6300720" y="1413000"/>
            <a:ext cx="10810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eec94"/>
                </a:solidFill>
                <a:latin typeface="Times New Roman"/>
              </a:rPr>
              <a:t>Үй жұмысын тексеру.</a:t>
            </a:r>
            <a:br>
              <a:rPr sz="4800"/>
            </a:b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6000" spc="-1" strike="noStrike">
                <a:solidFill>
                  <a:srgbClr val="003366"/>
                </a:solidFill>
                <a:latin typeface="Times New Roman"/>
              </a:rPr>
              <a:t>ТЕС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Монито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6000" y="33300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ff00"/>
                </a:solidFill>
                <a:latin typeface="Times New Roman"/>
              </a:rPr>
              <a:t>ЭСТ монитор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ff00"/>
                </a:solidFill>
                <a:latin typeface="Times New Roman"/>
              </a:rPr>
              <a:t>Алғаш рет 1982 жылы жасалды (электронды-сәулелік түтікше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032360" cy="45356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5003640" y="2168280"/>
            <a:ext cx="331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k-KZ" sz="2800" spc="-1" strike="noStrike">
                <a:solidFill>
                  <a:srgbClr val="00ff00"/>
                </a:solidFill>
                <a:latin typeface="Times New Roman"/>
              </a:rPr>
              <a:t>17-дюймды монитор, салмағы 10 килограм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Монитор Ж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557360"/>
            <a:ext cx="4888080" cy="5300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5"/>
          <p:cNvSpPr/>
          <p:nvPr/>
        </p:nvSpPr>
        <p:spPr>
          <a:xfrm>
            <a:off x="5292720" y="1946880"/>
            <a:ext cx="385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Олардың ерекшелігі  жұмыс үстелінде аз орын алады, энергияны үнімдейді, адам ағзасына зиян келтірмейдіондай мониторд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Монитордың құрылы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ернетақт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8229600" cy="3797280"/>
          </a:xfrm>
          <a:prstGeom prst="rect">
            <a:avLst/>
          </a:prstGeom>
          <a:ln w="0">
            <a:noFill/>
          </a:ln>
        </p:spPr>
      </p:pic>
      <p:sp>
        <p:nvSpPr>
          <p:cNvPr id="175" name="Line 6"/>
          <p:cNvSpPr/>
          <p:nvPr/>
        </p:nvSpPr>
        <p:spPr>
          <a:xfrm flipH="1" flipV="1">
            <a:off x="1402920" y="1699920"/>
            <a:ext cx="86508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7"/>
          <p:cNvSpPr/>
          <p:nvPr/>
        </p:nvSpPr>
        <p:spPr>
          <a:xfrm flipV="1">
            <a:off x="7164360" y="1557360"/>
            <a:ext cx="0" cy="22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8"/>
          <p:cNvSpPr/>
          <p:nvPr/>
        </p:nvSpPr>
        <p:spPr>
          <a:xfrm flipH="1">
            <a:off x="2124000" y="4221000"/>
            <a:ext cx="115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6084720" y="4653000"/>
            <a:ext cx="35892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2"/>
          <a:stretch/>
        </p:blipFill>
        <p:spPr>
          <a:xfrm>
            <a:off x="0" y="692280"/>
            <a:ext cx="2195640" cy="938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"/>
          <p:cNvPicPr/>
          <p:nvPr/>
        </p:nvPicPr>
        <p:blipFill>
          <a:blip r:embed="rId3"/>
          <a:stretch/>
        </p:blipFill>
        <p:spPr>
          <a:xfrm>
            <a:off x="395280" y="5950080"/>
            <a:ext cx="3024360" cy="907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"/>
          <p:cNvPicPr/>
          <p:nvPr/>
        </p:nvPicPr>
        <p:blipFill>
          <a:blip r:embed="rId4"/>
          <a:stretch/>
        </p:blipFill>
        <p:spPr>
          <a:xfrm>
            <a:off x="6516720" y="5805360"/>
            <a:ext cx="2627280" cy="1052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"/>
          <p:cNvPicPr/>
          <p:nvPr/>
        </p:nvPicPr>
        <p:blipFill>
          <a:blip r:embed="rId5"/>
          <a:stretch/>
        </p:blipFill>
        <p:spPr>
          <a:xfrm>
            <a:off x="6227640" y="260280"/>
            <a:ext cx="29163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Тышқа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ff00"/>
                </a:solidFill>
                <a:latin typeface="Times New Roman"/>
              </a:rPr>
              <a:t>сымсыз(жалғанбаған) тышқанның түрі.Оптикалық түрі.Ең бірінші тышқан Стенфорд Зерттеу Институтында пайда болған.1981 жыл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9" descr=""/>
          <p:cNvPicPr/>
          <p:nvPr/>
        </p:nvPicPr>
        <p:blipFill>
          <a:blip r:embed="rId1"/>
          <a:stretch/>
        </p:blipFill>
        <p:spPr>
          <a:xfrm>
            <a:off x="0" y="2649600"/>
            <a:ext cx="4859280" cy="42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Тышқандарды  шығаратын компаниялар фирмалар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А4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Tech, AV Tech ,Apple, BLUETAKE, BTC 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Belkin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, BenQ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 COLORSit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Cellink, Cherry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Codegen, Comep, Delux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 Dialog, Espada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,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h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Microsof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ринте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038480" cy="38876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Матрицалық принтер.Ең алғашқы принтерлердің бірі болып санала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4932360" y="2987640"/>
            <a:ext cx="39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Ең қарапайымы болып табылады.Жұмыс кезінде принтердің қағаз бойы жылжып келе жатқан бастиегіндегі инелері шығып, бояйтын таспа арқылы қағаз бетінде із қалдырады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Сыртқы жад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867280" y="1599840"/>
            <a:ext cx="327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Винчестер болып саналады.Қатқыл диск металдан жасалған екі жақ беті магниттен. 1-5 дөңгелек табақтан.тұра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0" y="1287360"/>
            <a:ext cx="5761080" cy="557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Сыртқы жа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8" name="Picture 7" descr=""/>
          <p:cNvPicPr/>
          <p:nvPr/>
        </p:nvPicPr>
        <p:blipFill>
          <a:blip r:embed="rId1"/>
          <a:stretch/>
        </p:blipFill>
        <p:spPr>
          <a:xfrm>
            <a:off x="2700360" y="2060640"/>
            <a:ext cx="3855960" cy="3409920"/>
          </a:xfrm>
          <a:prstGeom prst="rect">
            <a:avLst/>
          </a:prstGeom>
          <a:ln w="0">
            <a:noFill/>
          </a:ln>
        </p:spPr>
      </p:pic>
      <p:sp>
        <p:nvSpPr>
          <p:cNvPr id="199" name="Line 8"/>
          <p:cNvSpPr/>
          <p:nvPr/>
        </p:nvSpPr>
        <p:spPr>
          <a:xfrm flipH="1">
            <a:off x="1547640" y="508464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11"/>
          <p:cNvSpPr/>
          <p:nvPr/>
        </p:nvSpPr>
        <p:spPr>
          <a:xfrm>
            <a:off x="4788000" y="515772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12"/>
          <p:cNvSpPr/>
          <p:nvPr/>
        </p:nvSpPr>
        <p:spPr>
          <a:xfrm>
            <a:off x="6372360" y="508464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13"/>
          <p:cNvSpPr/>
          <p:nvPr/>
        </p:nvSpPr>
        <p:spPr>
          <a:xfrm flipV="1">
            <a:off x="4356000" y="1773360"/>
            <a:ext cx="266400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14" descr=""/>
          <p:cNvPicPr/>
          <p:nvPr/>
        </p:nvPicPr>
        <p:blipFill>
          <a:blip r:embed="rId2"/>
          <a:stretch/>
        </p:blipFill>
        <p:spPr>
          <a:xfrm>
            <a:off x="0" y="4365720"/>
            <a:ext cx="1835280" cy="1008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5" descr=""/>
          <p:cNvPicPr/>
          <p:nvPr/>
        </p:nvPicPr>
        <p:blipFill>
          <a:blip r:embed="rId3"/>
          <a:stretch/>
        </p:blipFill>
        <p:spPr>
          <a:xfrm>
            <a:off x="3635280" y="5950080"/>
            <a:ext cx="1768680" cy="907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6" descr=""/>
          <p:cNvPicPr/>
          <p:nvPr/>
        </p:nvPicPr>
        <p:blipFill>
          <a:blip r:embed="rId4"/>
          <a:stretch/>
        </p:blipFill>
        <p:spPr>
          <a:xfrm>
            <a:off x="6732720" y="3933720"/>
            <a:ext cx="2411280" cy="1295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7" descr=""/>
          <p:cNvPicPr/>
          <p:nvPr/>
        </p:nvPicPr>
        <p:blipFill>
          <a:blip r:embed="rId5"/>
          <a:stretch/>
        </p:blipFill>
        <p:spPr>
          <a:xfrm>
            <a:off x="6588000" y="620640"/>
            <a:ext cx="16560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Винчестердің магниттік бетінің құрылымы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8" name="Picture 4" descr="Сек"/>
          <p:cNvPicPr/>
          <p:nvPr/>
        </p:nvPicPr>
        <p:blipFill>
          <a:blip r:embed="rId1"/>
          <a:stretch/>
        </p:blipFill>
        <p:spPr>
          <a:xfrm>
            <a:off x="0" y="1727280"/>
            <a:ext cx="9144000" cy="5130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2484360" y="5516640"/>
            <a:ext cx="1744920" cy="615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3"/>
          <a:stretch/>
        </p:blipFill>
        <p:spPr>
          <a:xfrm>
            <a:off x="5435640" y="3789360"/>
            <a:ext cx="1584360" cy="5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Бірінші электронды есептеуіш машина қай елде? және қай жылы пайда болған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Ұлыбританияда-да 1945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АҚШ- та 1946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) Германия- да 1846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2. «Марк-1» машинасы қандай элементтерден жасал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Механикалық элементтерде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Электронды лампаларда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Релелік және механикалық элементтерде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3.Бұрыңғы Кеңестер Одағында бірінші ЭЕМ- дер қай жылдары жасал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1965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1960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) 1959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Компакт-дискіле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D-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Компакт-дискілеріне басқа жаңа ақпарттар жазуға немесе  ақпараттарды қайта жазуға болмайды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8320" y="2133360"/>
            <a:ext cx="40384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D-R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Дискілеріне ақпаратты жазуға, қайта бола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Лазерлік дискінің де екі жақ беті болады.Оның бір бетіне жазулар мен суреттер салынған –бұл жұмыс істемейді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4"/>
          <p:cNvSpPr/>
          <p:nvPr/>
        </p:nvSpPr>
        <p:spPr>
          <a:xfrm flipH="1">
            <a:off x="1979280" y="1341360"/>
            <a:ext cx="86364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5867280" y="1268280"/>
            <a:ext cx="79236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637000"/>
            <a:ext cx="9468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Сабақ аяқталды, сау болыңыздар балалар!!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4. Қазіргі кезде дербес компьютерлер қай буынға жата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Үшінші буынғ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Төртінші буынғ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) Бесінші буынғ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5. Блез Паскаль қай елдің математигі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Герм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АҚШ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Франц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6. 1761 жылы есептеулер жүргізуге арналған « логарифм » сызғышын кім жасап шығар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Близ Паскал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Исаак Ньюто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Д. Робертсо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540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66"/>
                </a:solidFill>
                <a:latin typeface="Times New Roman"/>
              </a:rPr>
              <a:t>Компьютердің басты құрылғыла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66"/>
                </a:solidFill>
                <a:latin typeface="Times New Roman"/>
              </a:rPr>
              <a:t>Жүйелік бл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038400" cy="48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9900"/>
                </a:solidFill>
                <a:latin typeface="Times New Roman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3132000" y="333360"/>
            <a:ext cx="5688000" cy="62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ернетақт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835344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Жүйелік блоктың түрлері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635280" y="15573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DESKT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1258920" y="3068640"/>
            <a:ext cx="6724440" cy="312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3:33:28Z</dcterms:created>
  <dc:creator>Askar</dc:creator>
  <dc:description/>
  <dc:language>en-US</dc:language>
  <cp:lastModifiedBy>Nurken</cp:lastModifiedBy>
  <dcterms:modified xsi:type="dcterms:W3CDTF">2012-10-14T07:35:21Z</dcterms:modified>
  <cp:revision>3</cp:revision>
  <dc:subject/>
  <dc:title>Сабақтың тақырыб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a0000000000010250500207f7000400038000</vt:lpwstr>
  </property>
</Properties>
</file>