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4.jpeg" ContentType="image/jpeg"/>
  <Override PartName="/ppt/media/image25.png" ContentType="image/png"/>
  <Override PartName="/ppt/media/image6.jpeg" ContentType="image/jpeg"/>
  <Override PartName="/ppt/media/image18.png" ContentType="image/png"/>
  <Override PartName="/ppt/media/image7.jpeg" ContentType="image/jpeg"/>
  <Override PartName="/ppt/media/image28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2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6.png" ContentType="image/png"/>
  <Override PartName="/ppt/media/image17.png" ContentType="image/png"/>
  <Override PartName="/ppt/media/image19.png" ContentType="image/png"/>
  <Override PartName="/ppt/media/image20.jpeg" ContentType="image/jpeg"/>
  <Override PartName="/ppt/media/image22.jpeg" ContentType="image/jpeg"/>
  <Override PartName="/ppt/media/image26.png" ContentType="image/png"/>
  <Override PartName="/ppt/media/image2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EAF7-E515-4FD5-971B-10AE63C09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D178-5A16-470B-BD2A-E955B1DA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ADE3-9FE0-45BE-952C-8EAA3BEA2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C5BE-1C8E-4389-956E-FFD19F1D3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0DEC-8AE4-4E18-8413-B7A0A46F3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E8A3B-8165-4F12-BBF7-9772D5BB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985A-A697-4E64-B201-8E5E67DB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60B0-5E94-4C22-86D9-832F45A6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ACA8-9337-47A8-A985-B904AE01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CBC6-7A93-4193-A9F2-ABF98461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886B-6436-4B03-9869-198F70DF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E331-2B0F-4725-8D5C-87333DD5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B9FB-4D6A-43C0-90CF-3F7DF50C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F9629-0270-4563-8A74-21E9664C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07B8-B3D0-4FB8-8D11-2D4E4AD2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D255-424E-4801-ADDE-37CA8006D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AE26-173F-475C-95DD-FE23579CA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EBF9-1071-4AE6-82C0-104D4C95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4587-8C27-4358-A1A3-138EDCA8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579B-3CE9-48C3-82AB-13330CC3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8D22-617B-43F9-A2E3-DEF3AF17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7F14-16CD-4761-BF3D-F59CEE8B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91F1-FD45-4DF9-8203-72A3E266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5208-1D3B-41C1-8C44-BEB86239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59AB-9097-418F-B669-C46BF808BBF0}" type="slidenum">
              <a:rPr b="0" lang="kk-K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D061-E224-4F25-9DC5-9FF6F248CFA0}" type="slidenum">
              <a:rPr b="0" lang="kk-K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5400" spc="-1" strike="noStrike">
                <a:solidFill>
                  <a:srgbClr val="feec94"/>
                </a:solidFill>
                <a:latin typeface="Times New Roman"/>
              </a:rPr>
              <a:t>Сабақтың тақырыбы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9900"/>
                </a:solidFill>
                <a:latin typeface="Times New Roman"/>
              </a:rPr>
              <a:t>Компьютердің  құрылғыс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eec94"/>
                </a:solidFill>
                <a:latin typeface="Times New Roman"/>
              </a:rPr>
              <a:t>Slim Desktop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662040" y="1488960"/>
            <a:ext cx="781848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eec94"/>
                </a:solidFill>
                <a:latin typeface="Times New Roman"/>
              </a:rPr>
              <a:t>Mini Tow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3132000" y="1484280"/>
            <a:ext cx="350532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eec94"/>
                </a:solidFill>
                <a:latin typeface="Times New Roman"/>
              </a:rPr>
              <a:t>Midi Tow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3348000" y="1628640"/>
            <a:ext cx="3319560" cy="522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eec94"/>
                </a:solidFill>
                <a:latin typeface="Times New Roman"/>
              </a:rPr>
              <a:t>Big Tow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1727280" y="1197000"/>
            <a:ext cx="4932360" cy="54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eec94"/>
                </a:solidFill>
                <a:latin typeface="Times New Roman"/>
              </a:rPr>
              <a:t>File Serv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3059280" y="2019240"/>
            <a:ext cx="3038400" cy="483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Процессор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2627280" y="1413000"/>
            <a:ext cx="4562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ff00"/>
                </a:solidFill>
                <a:latin typeface="Times New Roman"/>
              </a:rPr>
              <a:t>Int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ff00"/>
                </a:solidFill>
                <a:latin typeface="Times New Roman"/>
              </a:rPr>
              <a:t>Celeron, Intel Core 2 Duo  Intel Core 2 Quad,</a:t>
            </a:r>
            <a:r>
              <a:rPr b="0" lang="kk-KZ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1"/>
          <a:stretch/>
        </p:blipFill>
        <p:spPr>
          <a:xfrm>
            <a:off x="468360" y="3143160"/>
            <a:ext cx="378756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AMD Athlon, AMD Athlon 64 X2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678040" y="1576440"/>
            <a:ext cx="378792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feec94"/>
                </a:solidFill>
                <a:latin typeface="Times New Roman"/>
              </a:rPr>
              <a:t>Random Access Memory, (RAM)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87280" y="25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99ff"/>
                </a:solidFill>
                <a:latin typeface="Times New Roman"/>
              </a:rPr>
              <a:t>Жедел жад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1332000" y="3789360"/>
            <a:ext cx="6494400" cy="15271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7"/>
          <p:cNvSpPr/>
          <p:nvPr/>
        </p:nvSpPr>
        <p:spPr>
          <a:xfrm>
            <a:off x="4500720" y="5300640"/>
            <a:ext cx="288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DDR SDRA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619280" y="2997360"/>
            <a:ext cx="6494400" cy="16272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3708360" y="4862520"/>
            <a:ext cx="311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DDR2 SDRA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20040" y="1557360"/>
            <a:ext cx="848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800" spc="-1" strike="noStrike">
                <a:solidFill>
                  <a:srgbClr val="feec94"/>
                </a:solidFill>
                <a:latin typeface="Times New Roman"/>
              </a:rPr>
              <a:t>Random Access Memory, (RAM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Жедел жад екіге бөлінеді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2923920"/>
            <a:ext cx="45720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ff00"/>
                </a:solidFill>
                <a:latin typeface="Times New Roman"/>
              </a:rPr>
              <a:t>ТЖҚ (ПЗУ):</a:t>
            </a: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 Тұрақты жадтайтын құрылғ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Ақпаратты тұрақты сақтауға арналған жа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Компьютер өшіргенде ТЖҚ- дағы ақпарат бұзылмай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Мұнда сақталған командаларды тек оқуға болады, бірақ жаңа ақпарат жазуға болмай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0" y="2923920"/>
            <a:ext cx="45720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ff00"/>
                </a:solidFill>
                <a:latin typeface="Times New Roman"/>
              </a:rPr>
              <a:t>ЖЖҚ (ОЗУ): </a:t>
            </a: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Жедел жадтайтын құрылғ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Ақпарпатты уақытша сақтауға арналған жа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Компьютерді өшіргенде ЖЖҚ- дағы ақпарат бұзыла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Мұнда жазылған командалар, ақпарат жазуға бола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4"/>
          <p:cNvSpPr/>
          <p:nvPr/>
        </p:nvSpPr>
        <p:spPr>
          <a:xfrm flipH="1">
            <a:off x="1834920" y="1413000"/>
            <a:ext cx="936360" cy="143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6300720" y="1413000"/>
            <a:ext cx="108108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eec94"/>
                </a:solidFill>
                <a:latin typeface="Times New Roman"/>
              </a:rPr>
              <a:t>Үй жұмысын тексеру.</a:t>
            </a:r>
            <a:br>
              <a:rPr sz="4800"/>
            </a:b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6000" spc="-1" strike="noStrike">
                <a:solidFill>
                  <a:srgbClr val="003366"/>
                </a:solidFill>
                <a:latin typeface="Times New Roman"/>
              </a:rPr>
              <a:t>ТЕСТ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Монитор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16000" y="33300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ff00"/>
                </a:solidFill>
                <a:latin typeface="Times New Roman"/>
              </a:rPr>
              <a:t>ЭСТ монитор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ff00"/>
                </a:solidFill>
                <a:latin typeface="Times New Roman"/>
              </a:rPr>
              <a:t>Алғаш рет 1982 жылы жасалды (электронды-сәулелік түтікше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032360" cy="45356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7"/>
          <p:cNvSpPr/>
          <p:nvPr/>
        </p:nvSpPr>
        <p:spPr>
          <a:xfrm>
            <a:off x="5003640" y="2168280"/>
            <a:ext cx="331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k-KZ" sz="2800" spc="-1" strike="noStrike">
                <a:solidFill>
                  <a:srgbClr val="00ff00"/>
                </a:solidFill>
                <a:latin typeface="Times New Roman"/>
              </a:rPr>
              <a:t>17-дюймды монитор, салмағы 10 килограм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Монитор ЖК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557360"/>
            <a:ext cx="4888080" cy="53006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5"/>
          <p:cNvSpPr/>
          <p:nvPr/>
        </p:nvSpPr>
        <p:spPr>
          <a:xfrm>
            <a:off x="5292720" y="1946880"/>
            <a:ext cx="3851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Олардың ерекшелігі  жұмыс үстелінде аз орын алады, энергияны үнімдейді, адам ағзасына зиян келтірмейдіондай мониторд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Монитордың құрылы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Пернетақт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1"/>
          <a:stretch/>
        </p:blipFill>
        <p:spPr>
          <a:xfrm>
            <a:off x="0" y="2060640"/>
            <a:ext cx="8229600" cy="3797280"/>
          </a:xfrm>
          <a:prstGeom prst="rect">
            <a:avLst/>
          </a:prstGeom>
          <a:ln w="0">
            <a:noFill/>
          </a:ln>
        </p:spPr>
      </p:pic>
      <p:sp>
        <p:nvSpPr>
          <p:cNvPr id="175" name="Line 6"/>
          <p:cNvSpPr/>
          <p:nvPr/>
        </p:nvSpPr>
        <p:spPr>
          <a:xfrm flipH="1" flipV="1">
            <a:off x="1402920" y="1699920"/>
            <a:ext cx="86508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Line 7"/>
          <p:cNvSpPr/>
          <p:nvPr/>
        </p:nvSpPr>
        <p:spPr>
          <a:xfrm flipV="1">
            <a:off x="7164360" y="1557360"/>
            <a:ext cx="0" cy="22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Line 8"/>
          <p:cNvSpPr/>
          <p:nvPr/>
        </p:nvSpPr>
        <p:spPr>
          <a:xfrm flipH="1">
            <a:off x="2124000" y="4221000"/>
            <a:ext cx="115272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Line 9"/>
          <p:cNvSpPr/>
          <p:nvPr/>
        </p:nvSpPr>
        <p:spPr>
          <a:xfrm>
            <a:off x="6084720" y="4653000"/>
            <a:ext cx="35892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11" descr=""/>
          <p:cNvPicPr/>
          <p:nvPr/>
        </p:nvPicPr>
        <p:blipFill>
          <a:blip r:embed="rId2"/>
          <a:stretch/>
        </p:blipFill>
        <p:spPr>
          <a:xfrm>
            <a:off x="0" y="692280"/>
            <a:ext cx="2195640" cy="938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"/>
          <p:cNvPicPr/>
          <p:nvPr/>
        </p:nvPicPr>
        <p:blipFill>
          <a:blip r:embed="rId3"/>
          <a:stretch/>
        </p:blipFill>
        <p:spPr>
          <a:xfrm>
            <a:off x="395280" y="5950080"/>
            <a:ext cx="3024360" cy="907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3" descr=""/>
          <p:cNvPicPr/>
          <p:nvPr/>
        </p:nvPicPr>
        <p:blipFill>
          <a:blip r:embed="rId4"/>
          <a:stretch/>
        </p:blipFill>
        <p:spPr>
          <a:xfrm>
            <a:off x="6516720" y="5805360"/>
            <a:ext cx="2627280" cy="1052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"/>
          <p:cNvPicPr/>
          <p:nvPr/>
        </p:nvPicPr>
        <p:blipFill>
          <a:blip r:embed="rId5"/>
          <a:stretch/>
        </p:blipFill>
        <p:spPr>
          <a:xfrm>
            <a:off x="6227640" y="260280"/>
            <a:ext cx="291636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Тышқан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ff00"/>
                </a:solidFill>
                <a:latin typeface="Times New Roman"/>
              </a:rPr>
              <a:t>сымсыз(жалғанбаған) тышқанның түрі.Оптикалық түрі.Ең бірінші тышқан Стенфорд Зерттеу Институтында пайда болған.1981 жыл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Picture 9" descr=""/>
          <p:cNvPicPr/>
          <p:nvPr/>
        </p:nvPicPr>
        <p:blipFill>
          <a:blip r:embed="rId1"/>
          <a:stretch/>
        </p:blipFill>
        <p:spPr>
          <a:xfrm>
            <a:off x="0" y="2649600"/>
            <a:ext cx="4859280" cy="42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eec94"/>
                </a:solidFill>
                <a:latin typeface="Times New Roman"/>
              </a:rPr>
              <a:t>Тышқандарды  шығаратын компаниялар фирмалар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А4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Tech, AV Tech ,Apple, BLUETAKE, BTC ,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Belkin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, BenQ,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 COLORSit,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Cellink, Cherry,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Codegen, Comep, Delux,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 Dialog, Espada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,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h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Microsof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Принтер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4038480" cy="388764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Матрицалық принтер.Ең алғашқы принтерлердің бірі болып санала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4932360" y="2987640"/>
            <a:ext cx="396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Ең қарапайымы болып табылады.Жұмыс кезінде принтердің қағаз бойы жылжып келе жатқан бастиегіндегі инелері шығып, бояйтын таспа арқылы қағаз бетінде із қалдырады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Сыртқы жад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867280" y="1599840"/>
            <a:ext cx="3276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Винчестер болып саналады.Қатқыл диск металдан жасалған екі жақ беті магниттен. 1-5 дөңгелек табақтан.тұрад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0" y="1287360"/>
            <a:ext cx="5761080" cy="557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Сыртқы жад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8" name="Picture 7" descr=""/>
          <p:cNvPicPr/>
          <p:nvPr/>
        </p:nvPicPr>
        <p:blipFill>
          <a:blip r:embed="rId1"/>
          <a:stretch/>
        </p:blipFill>
        <p:spPr>
          <a:xfrm>
            <a:off x="2700360" y="2060640"/>
            <a:ext cx="3855960" cy="3409920"/>
          </a:xfrm>
          <a:prstGeom prst="rect">
            <a:avLst/>
          </a:prstGeom>
          <a:ln w="0">
            <a:noFill/>
          </a:ln>
        </p:spPr>
      </p:pic>
      <p:sp>
        <p:nvSpPr>
          <p:cNvPr id="199" name="Line 8"/>
          <p:cNvSpPr/>
          <p:nvPr/>
        </p:nvSpPr>
        <p:spPr>
          <a:xfrm flipH="1">
            <a:off x="1547640" y="508464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Line 11"/>
          <p:cNvSpPr/>
          <p:nvPr/>
        </p:nvSpPr>
        <p:spPr>
          <a:xfrm>
            <a:off x="4788000" y="515772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Line 12"/>
          <p:cNvSpPr/>
          <p:nvPr/>
        </p:nvSpPr>
        <p:spPr>
          <a:xfrm>
            <a:off x="6372360" y="508464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Line 13"/>
          <p:cNvSpPr/>
          <p:nvPr/>
        </p:nvSpPr>
        <p:spPr>
          <a:xfrm flipV="1">
            <a:off x="4356000" y="1773360"/>
            <a:ext cx="266400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14" descr=""/>
          <p:cNvPicPr/>
          <p:nvPr/>
        </p:nvPicPr>
        <p:blipFill>
          <a:blip r:embed="rId2"/>
          <a:stretch/>
        </p:blipFill>
        <p:spPr>
          <a:xfrm>
            <a:off x="0" y="4365720"/>
            <a:ext cx="1835280" cy="1008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5" descr=""/>
          <p:cNvPicPr/>
          <p:nvPr/>
        </p:nvPicPr>
        <p:blipFill>
          <a:blip r:embed="rId3"/>
          <a:stretch/>
        </p:blipFill>
        <p:spPr>
          <a:xfrm>
            <a:off x="3635280" y="5950080"/>
            <a:ext cx="1768680" cy="907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6" descr=""/>
          <p:cNvPicPr/>
          <p:nvPr/>
        </p:nvPicPr>
        <p:blipFill>
          <a:blip r:embed="rId4"/>
          <a:stretch/>
        </p:blipFill>
        <p:spPr>
          <a:xfrm>
            <a:off x="6732720" y="3933720"/>
            <a:ext cx="2411280" cy="1295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7" descr=""/>
          <p:cNvPicPr/>
          <p:nvPr/>
        </p:nvPicPr>
        <p:blipFill>
          <a:blip r:embed="rId5"/>
          <a:stretch/>
        </p:blipFill>
        <p:spPr>
          <a:xfrm>
            <a:off x="6588000" y="620640"/>
            <a:ext cx="16560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eec94"/>
                </a:solidFill>
                <a:latin typeface="Times New Roman"/>
              </a:rPr>
              <a:t>Винчестердің магниттік бетінің құрылымы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8" name="Picture 4" descr="Сек"/>
          <p:cNvPicPr/>
          <p:nvPr/>
        </p:nvPicPr>
        <p:blipFill>
          <a:blip r:embed="rId1"/>
          <a:stretch/>
        </p:blipFill>
        <p:spPr>
          <a:xfrm>
            <a:off x="0" y="1727280"/>
            <a:ext cx="9144000" cy="51307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"/>
          <p:cNvPicPr/>
          <p:nvPr/>
        </p:nvPicPr>
        <p:blipFill>
          <a:blip r:embed="rId2"/>
          <a:stretch/>
        </p:blipFill>
        <p:spPr>
          <a:xfrm>
            <a:off x="2484360" y="5516640"/>
            <a:ext cx="1744920" cy="615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"/>
          <p:cNvPicPr/>
          <p:nvPr/>
        </p:nvPicPr>
        <p:blipFill>
          <a:blip r:embed="rId3"/>
          <a:stretch/>
        </p:blipFill>
        <p:spPr>
          <a:xfrm>
            <a:off x="5435640" y="3789360"/>
            <a:ext cx="1584360" cy="5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Бірінші электронды есептеуіш машина қай елде? және қай жылы пайда болған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Ұлыбританияда-да 1945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) АҚШ- та 1946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) Германия- да 1846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2. «Марк-1» машинасы қандай элементтерден жасалды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Механикалық элементтерде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) Электронды лампаларда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</a:t>
            </a:r>
            <a:r>
              <a:rPr b="1" lang="kk-K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 Релелік және механикалық элементтерде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3.Бұрыңғы Кеңестер Одағында бірінші ЭЕМ- дер қай жылдары жасалды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1965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</a:t>
            </a:r>
            <a:r>
              <a:rPr b="1" lang="kk-K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 1960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) 1959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Компакт-дискілер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D-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Компакт-дискілеріне басқа жаңа ақпарттар жазуға немесе  ақпараттарды қайта жазуға болмайды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8320" y="2133360"/>
            <a:ext cx="403848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D-RW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Дискілеріне ақпаратты жазуға, қайта болад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Лазерлік дискінің де екі жақ беті болады.Оның бір бетіне жазулар мен суреттер салынған –бұл жұмыс істемейді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Line 4"/>
          <p:cNvSpPr/>
          <p:nvPr/>
        </p:nvSpPr>
        <p:spPr>
          <a:xfrm flipH="1">
            <a:off x="1979280" y="1341360"/>
            <a:ext cx="86364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ine 5"/>
          <p:cNvSpPr/>
          <p:nvPr/>
        </p:nvSpPr>
        <p:spPr>
          <a:xfrm>
            <a:off x="5867280" y="1268280"/>
            <a:ext cx="792360" cy="10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2637000"/>
            <a:ext cx="9468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eec94"/>
                </a:solidFill>
                <a:latin typeface="Times New Roman"/>
              </a:rPr>
              <a:t>Сабақ аяқталды, сау болыңыздар балалар!!!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4. Қазіргі кезде дербес компьютерлер қай буынға жатады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Үшінші буынғ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</a:t>
            </a:r>
            <a:r>
              <a:rPr b="1" lang="kk-K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 Төртінші буынғ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) Бесінші буынғ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5. Блез Паскаль қай елдің математигі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Герма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) АҚШ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</a:t>
            </a:r>
            <a:r>
              <a:rPr b="1" lang="kk-K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 Франц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6. 1761 жылы есептеулер жүргізуге арналған « логарифм » сызғышын кім жасап шығарды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Близ Паскал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) Исаак Ньюто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</a:t>
            </a:r>
            <a:r>
              <a:rPr b="1" lang="kk-K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 Д. Робертсо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540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66"/>
                </a:solidFill>
                <a:latin typeface="Times New Roman"/>
              </a:rPr>
              <a:t>Компьютердің басты құрылғылар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66"/>
                </a:solidFill>
                <a:latin typeface="Times New Roman"/>
              </a:rPr>
              <a:t>Жүйелік бло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038400" cy="48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9900"/>
                </a:solidFill>
                <a:latin typeface="Times New Roman"/>
              </a:rPr>
              <a:t>Монито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3132000" y="333360"/>
            <a:ext cx="5688000" cy="620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Пернетақт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8353440" cy="40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Жүйелік блоктың түрлері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3635280" y="155736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DESKT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1258920" y="3068640"/>
            <a:ext cx="6724440" cy="3124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3:33:28Z</dcterms:created>
  <dc:creator>Askar</dc:creator>
  <dc:description/>
  <dc:language>en-US</dc:language>
  <cp:lastModifiedBy>Nurken</cp:lastModifiedBy>
  <dcterms:modified xsi:type="dcterms:W3CDTF">2012-10-14T07:35:21Z</dcterms:modified>
  <cp:revision>3</cp:revision>
  <dc:subject/>
  <dc:title>Сабақтың тақырыб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0a0000000000010250500207f7000400038000</vt:lpwstr>
  </property>
</Properties>
</file>