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0F2-6DBD-4CDA-A35C-0B486B0D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78B1-287C-4866-A04E-03175A4D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B8C-D0C8-40AD-B39E-A2AEC884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416-3975-4FBC-8F03-AEAD8F1B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4E6A-E3DF-4F72-B152-A823A5F0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3A7B-AE99-462E-AD6C-33E45833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A0D1-8C1A-4128-AA33-D7224050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38A9-30D2-4B4F-8A48-1F17F265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DC47-5A73-4C1A-A208-DC418B8D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FB33-03A1-4A0B-B1F7-C0B875EF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569B-903E-4456-87FA-70AD6791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4009-9FD2-4CA8-A079-D49338D2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1A35-BF9A-43AC-BFAF-919A3736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B02B-6414-40C0-9D32-F9687B1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8554-2810-49ED-9C61-6D165F2E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48F4-70DC-405F-923D-8743F7E5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0688-9E29-487E-AF0B-FB80E9E8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5C1-56DC-4BD6-9D53-7D014F33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A9FD-D9F0-4668-912B-54D63D6F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D20-98D6-4D38-B43D-8931B9F5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76A-34C1-4848-BC87-62EDC9D8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415-5737-4EC8-8901-198130E8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E92-A3DE-4D1A-A988-F3DFA925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F2F-2E7A-4676-A9F7-212B697A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F67B-5FF1-4BB2-9459-3323565AE996}" type="slidenum"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5D5D-A82B-4E92-8D4C-25873A3DA8FE}" type="slidenum">
              <a:rPr b="0" lang="kk-K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Сабақтың тақырыб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00"/>
                </a:solidFill>
                <a:latin typeface="Times New Roman"/>
              </a:rPr>
              <a:t>Компьютердің  құрылғы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Slim Desktop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62040" y="1488960"/>
            <a:ext cx="7818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n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5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d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31956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Big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27280" y="1197000"/>
            <a:ext cx="4932360" cy="54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File Ser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59280" y="2019240"/>
            <a:ext cx="3038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оцесс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627280" y="1413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Celeron, Intel Core 2 Duo  Intel Core 2 Quad,</a:t>
            </a:r>
            <a:r>
              <a:rPr b="0" lang="kk-KZ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8360" y="3143160"/>
            <a:ext cx="37875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AMD Athlon, AMD Athlon 64 X2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78040" y="1576440"/>
            <a:ext cx="37879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99ff"/>
                </a:solidFill>
                <a:latin typeface="Times New Roman"/>
              </a:rPr>
              <a:t>Жедел ж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94400" cy="1527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500720" y="53006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49440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708360" y="48625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2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" y="1557360"/>
            <a:ext cx="84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едел жад екіге бөлінед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ТЖҚ (ПЗУ):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 Тұрақты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атты тұрақты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 өшіргенде ТЖҚ- дағы ақпарат бұзы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сақталған командаларды тек оқуға болады, бірақ жаңа ақпарат жазуға бо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ЖЖҚ (ОЗУ): 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Жедел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патты уақытша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ді өшіргенде ЖЖҚ- дағы ақпарат бұзы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жазылған командалар, ақпарат жазуға бо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H="1">
            <a:off x="1834920" y="1413000"/>
            <a:ext cx="936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300720" y="1413000"/>
            <a:ext cx="10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eec94"/>
                </a:solidFill>
                <a:latin typeface="Times New Roman"/>
              </a:rPr>
              <a:t>Үй жұмысын тексеру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3366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6000" y="33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ЭСТ мони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Алғаш рет 1982 жылы жасалды (электронды-сәулелік түтікш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3640" y="216828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17-дюймды монитор, салмағы 10 килограм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 Ж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888080" cy="53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5292720" y="194688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лардың ерекшелігі  жұмыс үстелінде аз орын алады, энергияны үнімдейді, адам ағзасына зиян келтірмейдіондай монитор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дың құрыл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 flipH="1" flipV="1">
            <a:off x="1402920" y="1699920"/>
            <a:ext cx="8650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7164360" y="155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124000" y="4221000"/>
            <a:ext cx="115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6084720" y="4653000"/>
            <a:ext cx="3589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0" y="692280"/>
            <a:ext cx="219564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3"/>
          <a:stretch/>
        </p:blipFill>
        <p:spPr>
          <a:xfrm>
            <a:off x="395280" y="5950080"/>
            <a:ext cx="3024360" cy="90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6516720" y="5805360"/>
            <a:ext cx="26272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91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Тышқ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сымсыз(жалғанбаған) тышқанның түрі.Оптикалық түрі.Ең бірінші тышқан Стенфорд Зерттеу Институтында пайда болған.1981 жы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0" y="2649600"/>
            <a:ext cx="485928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Тышқандарды  шығаратын компаниялар фирмала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А4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ech, AV Tech ,Apple, BLUETAKE, BTC 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Belkin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, BenQ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COLORSit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ellink, Cherry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odegen, Comep, Delux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Dialog, Espada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h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icroso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ин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атрицалық принтер.Ең алғашқы принтерлердің бірі болып сана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932360" y="2987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ң қарапайымы болып табылады.Жұмыс кезінде принтердің қағаз бойы жылжып келе жатқан бастиегіндегі инелері шығып, бояйтын таспа арқылы қағаз бетінде із қалдырад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Винчестер болып саналады.Қатқыл диск металдан жасалған екі жақ беті магниттен. 1-5 дөңгелек табақтан.тұр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1287360"/>
            <a:ext cx="5761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55960" cy="3409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1547640" y="508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788000" y="5157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372360" y="508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4356000" y="1773360"/>
            <a:ext cx="266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2"/>
          <a:stretch/>
        </p:blipFill>
        <p:spPr>
          <a:xfrm>
            <a:off x="0" y="4365720"/>
            <a:ext cx="18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3635280" y="5950080"/>
            <a:ext cx="17686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41128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Винчестердің магниттік бетінің құрылым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4" descr="Сек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744920" cy="61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1584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Бірінші электронды есептеуіш машина қай елде? және қай жылы пайда болғ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Ұлыбританияда-да 194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- та 19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Германия- да 18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2. «Марк-1» машинасы қандай элементтерден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Электронды лампалард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Релелік және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3.Бұрыңғы Кеңестер Одағында бірінші ЭЕМ- дер қай жылдары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196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1960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1959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Компакт-дискіл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омпакт-дискілеріне басқа жаңа ақпарттар жазуға немесе  ақпараттарды қайта жазуға болмайд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искілеріне ақпаратты жазуға, қайта бо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Лазерлік дискінің де екі жақ беті болады.Оның бір бетіне жазулар мен суреттер салынған –бұл жұмыс істем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979280" y="134136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867280" y="1268280"/>
            <a:ext cx="792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46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Сабақ аяқталды, сау болыңыздар балалар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4. Қазіргі кезде дербес компьютерлер қай буынға жата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Үш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Төрт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Бес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5. Блез Паскаль қай елдің математигі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Герм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Фр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6. 1761 жылы есептеулер жүргізуге арналған « логарифм » сызғышын кім жасап шығар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Близ Паска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Исаак Ньют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Д. Роберт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Компьютердің басты құрылғы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Жүйелік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38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9900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688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353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үйелік блоктың түрлер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35280" y="1557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3:28Z</dcterms:created>
  <dc:creator>Askar</dc:creator>
  <dc:description/>
  <dc:language>en-US</dc:language>
  <cp:lastModifiedBy>Nurken</cp:lastModifiedBy>
  <dcterms:modified xsi:type="dcterms:W3CDTF">2012-10-14T07:35:21Z</dcterms:modified>
  <cp:revision>3</cp:revision>
  <dc:subject/>
  <dc:title>Сабақтың тақыры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50500207f7000400038000</vt:lpwstr>
  </property>
</Properties>
</file>