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4.jpeg" ContentType="image/jpeg"/>
  <Override PartName="/ppt/media/image25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0.jpeg" ContentType="image/jpeg"/>
  <Override PartName="/ppt/media/image22.jpeg" ContentType="image/jpeg"/>
  <Override PartName="/ppt/media/image26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57E9-3982-4FD3-9F85-AD7DBC856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72F-3CBF-4F09-B902-7B738509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6732-80B9-41D2-9859-CEE6CB79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A45A-A9CC-481A-B3D9-2509A72C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556D-1AD8-4B0C-A197-925B23FD4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AA7F-3C90-47E6-A4E3-8A290892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C2A8-E3B9-4033-BF83-6A23675C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81BF9-10AC-4AEE-A918-5D485B41E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77C4-090E-4048-A36C-83E93688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B2C7-1D96-4E33-B5E9-9ADFF75C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724E-C454-4289-9D27-391DB056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296-CDDB-42EC-AF6D-AA92E984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D4D9-F761-47B8-950C-E6C3589F9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BD0C-02F8-4838-9763-100B2D6F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D5CF-996D-486B-B48D-A228CFB3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8FC2E-E1DD-402B-99C6-826E3AD35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53DA-5B1E-4CA5-A686-2AA203D5D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9C2-FB3A-4F1D-A571-684ACD63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653-B77D-4368-A546-390C868C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C2A6-068B-4C3E-85A7-378016D90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C4B8-C9C7-4F1E-B65D-984A2C94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78F-C893-4643-9EB2-91932D71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41E2-6C49-4B74-B45E-81BFEC2A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78B-2B95-40BA-94A9-3D26C9E9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86F4-4275-4BB6-894A-BF31C47C462F}" type="slidenum">
              <a:rPr b="0" lang="kk-K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0D47-3E42-4578-868A-BEB801752C4A}" type="slidenum">
              <a:rPr b="0" lang="kk-K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eec94"/>
                </a:solidFill>
                <a:latin typeface="Times New Roman"/>
              </a:rPr>
              <a:t>Сабақтың тақырыбы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00"/>
                </a:solidFill>
                <a:latin typeface="Times New Roman"/>
              </a:rPr>
              <a:t>Компьютердің  құрылғыс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Slim Desktop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662040" y="1488960"/>
            <a:ext cx="78184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n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3132000" y="1484280"/>
            <a:ext cx="35053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Midi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3348000" y="1628640"/>
            <a:ext cx="3319560" cy="522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Big T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1727280" y="1197000"/>
            <a:ext cx="4932360" cy="54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feec94"/>
                </a:solidFill>
                <a:latin typeface="Times New Roman"/>
              </a:rPr>
              <a:t>File Serv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59280" y="2019240"/>
            <a:ext cx="3038400" cy="48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оцесс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2627280" y="1413000"/>
            <a:ext cx="4562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Int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Celeron, Intel Core 2 Duo  Intel Core 2 Quad,</a:t>
            </a:r>
            <a:r>
              <a:rPr b="0" lang="kk-KZ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468360" y="3143160"/>
            <a:ext cx="378756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AMD Athlon, AMD Athlon 64 X2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678040" y="1576440"/>
            <a:ext cx="378792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87280" y="25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99ff"/>
                </a:solidFill>
                <a:latin typeface="Times New Roman"/>
              </a:rPr>
              <a:t>Жедел жа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6494400" cy="15271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4500720" y="5300640"/>
            <a:ext cx="28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19280" y="2997360"/>
            <a:ext cx="6494400" cy="1627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3708360" y="4862520"/>
            <a:ext cx="311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Times New Roman"/>
              </a:rPr>
              <a:t>DDR2 SD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20040" y="1557360"/>
            <a:ext cx="848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feec94"/>
                </a:solidFill>
                <a:latin typeface="Times New Roman"/>
              </a:rPr>
              <a:t>Random Access Memory, (RAM)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едел жад екіге бөлінед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ТЖҚ (ПЗУ):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 Тұрақты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атты тұрақты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 өшіргенде ТЖҚ- дағы ақпарат бұзы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сақталған командаларды тек оқуға болады, бірақ жаңа ақпарат жазуға болмай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0" y="2923920"/>
            <a:ext cx="45720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ff00"/>
                </a:solidFill>
                <a:latin typeface="Times New Roman"/>
              </a:rPr>
              <a:t>ЖЖҚ (ОЗУ): </a:t>
            </a: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Жедел жадтайтын құрылғ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Ақпарпатты уақытша сақтауға арналған жа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Компьютерді өшіргенде ЖЖҚ- дағы ақпарат бұзы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ұнда жазылған командалар, ақпарат жазуға бо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H="1">
            <a:off x="1834920" y="1413000"/>
            <a:ext cx="936360" cy="143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6300720" y="1413000"/>
            <a:ext cx="10810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eec94"/>
                </a:solidFill>
                <a:latin typeface="Times New Roman"/>
              </a:rPr>
              <a:t>Үй жұмысын тексеру.</a:t>
            </a:r>
            <a:br>
              <a:rPr sz="4800"/>
            </a:b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3366"/>
                </a:solidFill>
                <a:latin typeface="Times New Roman"/>
              </a:rPr>
              <a:t>ТЕС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75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6000" y="333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ЭСТ монито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Алғаш рет 1982 жылы жасалды (электронды-сәулелік түтікше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032360" cy="4535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5003640" y="2168280"/>
            <a:ext cx="331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kk-KZ" sz="2800" spc="-1" strike="noStrike">
                <a:solidFill>
                  <a:srgbClr val="00ff00"/>
                </a:solidFill>
                <a:latin typeface="Times New Roman"/>
              </a:rPr>
              <a:t>17-дюймды монитор, салмағы 10 килограм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 Ж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4888080" cy="5300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5292720" y="1946880"/>
            <a:ext cx="3851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Олардың ерекшелігі  жұмыс үстелінде аз орын алады, энергияны үнімдейді, адам ағзасына зиян келтірмейдіондай мониторды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Монитордың құрылым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0" y="2060640"/>
            <a:ext cx="8229600" cy="3797280"/>
          </a:xfrm>
          <a:prstGeom prst="rect">
            <a:avLst/>
          </a:prstGeom>
          <a:ln w="0">
            <a:noFill/>
          </a:ln>
        </p:spPr>
      </p:pic>
      <p:sp>
        <p:nvSpPr>
          <p:cNvPr id="175" name="Line 6"/>
          <p:cNvSpPr/>
          <p:nvPr/>
        </p:nvSpPr>
        <p:spPr>
          <a:xfrm flipH="1" flipV="1">
            <a:off x="1402920" y="1699920"/>
            <a:ext cx="865080" cy="136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 flipV="1">
            <a:off x="7164360" y="1557360"/>
            <a:ext cx="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 flipH="1">
            <a:off x="2124000" y="4221000"/>
            <a:ext cx="115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>
            <a:off x="6084720" y="4653000"/>
            <a:ext cx="358920" cy="158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11" descr=""/>
          <p:cNvPicPr/>
          <p:nvPr/>
        </p:nvPicPr>
        <p:blipFill>
          <a:blip r:embed="rId2"/>
          <a:stretch/>
        </p:blipFill>
        <p:spPr>
          <a:xfrm>
            <a:off x="0" y="692280"/>
            <a:ext cx="2195640" cy="938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"/>
          <p:cNvPicPr/>
          <p:nvPr/>
        </p:nvPicPr>
        <p:blipFill>
          <a:blip r:embed="rId3"/>
          <a:stretch/>
        </p:blipFill>
        <p:spPr>
          <a:xfrm>
            <a:off x="395280" y="5950080"/>
            <a:ext cx="3024360" cy="907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3" descr=""/>
          <p:cNvPicPr/>
          <p:nvPr/>
        </p:nvPicPr>
        <p:blipFill>
          <a:blip r:embed="rId4"/>
          <a:stretch/>
        </p:blipFill>
        <p:spPr>
          <a:xfrm>
            <a:off x="6516720" y="5805360"/>
            <a:ext cx="2627280" cy="1052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4" descr=""/>
          <p:cNvPicPr/>
          <p:nvPr/>
        </p:nvPicPr>
        <p:blipFill>
          <a:blip r:embed="rId5"/>
          <a:stretch/>
        </p:blipFill>
        <p:spPr>
          <a:xfrm>
            <a:off x="6227640" y="260280"/>
            <a:ext cx="29163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Тышқ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ff00"/>
                </a:solidFill>
                <a:latin typeface="Times New Roman"/>
              </a:rPr>
              <a:t>сымсыз(жалғанбаған) тышқанның түрі.Оптикалық түрі.Ең бірінші тышқан Стенфорд Зерттеу Институтында пайда болған.1981 жы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9" descr=""/>
          <p:cNvPicPr/>
          <p:nvPr/>
        </p:nvPicPr>
        <p:blipFill>
          <a:blip r:embed="rId1"/>
          <a:stretch/>
        </p:blipFill>
        <p:spPr>
          <a:xfrm>
            <a:off x="0" y="2649600"/>
            <a:ext cx="4859280" cy="42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Тышқандарды  шығаратын компаниялар фирмалар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А4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Tech, AV Tech ,Apple, BLUETAKE, BTC 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Belkin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, BenQ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COLORSit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ellink, Cherry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Codegen, Comep, Delux,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 Dialog, Espada</a:t>
            </a:r>
            <a:r>
              <a:rPr b="0" lang="kk-KZ" sz="40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h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Microsof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ринт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38876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ff00"/>
                </a:solidFill>
                <a:latin typeface="Times New Roman"/>
              </a:rPr>
              <a:t>Матрицалық принтер.Ең алғашқы принтерлердің бірі болып санала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4932360" y="298764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Times New Roman"/>
              </a:rPr>
              <a:t>Ең қарапайымы болып табылады.Жұмыс кезінде принтердің қағаз бойы жылжып келе жатқан бастиегіндегі инелері шығып, бояйтын таспа арқылы қағаз бетінде із қалдырады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67280" y="1599840"/>
            <a:ext cx="327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Винчестер болып саналады.Қатқыл диск металдан жасалған екі жақ беті магниттен. 1-5 дөңгелек табақтан.тұр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1287360"/>
            <a:ext cx="5761080" cy="557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Сыртқы жад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3855960" cy="3409920"/>
          </a:xfrm>
          <a:prstGeom prst="rect">
            <a:avLst/>
          </a:prstGeom>
          <a:ln w="0">
            <a:noFill/>
          </a:ln>
        </p:spPr>
      </p:pic>
      <p:sp>
        <p:nvSpPr>
          <p:cNvPr id="199" name="Line 8"/>
          <p:cNvSpPr/>
          <p:nvPr/>
        </p:nvSpPr>
        <p:spPr>
          <a:xfrm flipH="1">
            <a:off x="1547640" y="5084640"/>
            <a:ext cx="1440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4788000" y="5157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6372360" y="5084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13"/>
          <p:cNvSpPr/>
          <p:nvPr/>
        </p:nvSpPr>
        <p:spPr>
          <a:xfrm flipV="1">
            <a:off x="4356000" y="1773360"/>
            <a:ext cx="266400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14" descr=""/>
          <p:cNvPicPr/>
          <p:nvPr/>
        </p:nvPicPr>
        <p:blipFill>
          <a:blip r:embed="rId2"/>
          <a:stretch/>
        </p:blipFill>
        <p:spPr>
          <a:xfrm>
            <a:off x="0" y="4365720"/>
            <a:ext cx="1835280" cy="100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"/>
          <p:cNvPicPr/>
          <p:nvPr/>
        </p:nvPicPr>
        <p:blipFill>
          <a:blip r:embed="rId3"/>
          <a:stretch/>
        </p:blipFill>
        <p:spPr>
          <a:xfrm>
            <a:off x="3635280" y="5950080"/>
            <a:ext cx="1768680" cy="907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6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2411280" cy="1295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7" descr=""/>
          <p:cNvPicPr/>
          <p:nvPr/>
        </p:nvPicPr>
        <p:blipFill>
          <a:blip r:embed="rId5"/>
          <a:stretch/>
        </p:blipFill>
        <p:spPr>
          <a:xfrm>
            <a:off x="6588000" y="620640"/>
            <a:ext cx="165600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Винчестердің магниттік бетінің құрылымы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8" name="Picture 4" descr="Сек"/>
          <p:cNvPicPr/>
          <p:nvPr/>
        </p:nvPicPr>
        <p:blipFill>
          <a:blip r:embed="rId1"/>
          <a:stretch/>
        </p:blipFill>
        <p:spPr>
          <a:xfrm>
            <a:off x="0" y="1727280"/>
            <a:ext cx="9144000" cy="5130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2484360" y="5516640"/>
            <a:ext cx="1744920" cy="615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1584360" cy="5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Бірінші электронды есептеуіш машина қай елде? және қай жылы пайда болған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Ұлыбританияда-да 194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- та 19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Германия- да 1846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2. «Марк-1» машинасы қандай элементтерден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Электронды лампаларда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Релелік және механикалық элементтерде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3.Бұрыңғы Кеңестер Одағында бірінші ЭЕМ- дер қай жылдары жасал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1965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1960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1959 жыл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Компакт-дискілер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Компакт-дискілеріне басқа жаңа ақпарттар жазуға немесе  ақпараттарды қайта жазуға болмайды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832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-R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Дискілеріне ақпаратты жазуға, қайта бола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imes New Roman"/>
              </a:rPr>
              <a:t>Лазерлік дискінің де екі жақ беті болады.Оның бір бетіне жазулар мен суреттер салынған –бұл жұмыс істемейді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Line 4"/>
          <p:cNvSpPr/>
          <p:nvPr/>
        </p:nvSpPr>
        <p:spPr>
          <a:xfrm flipH="1">
            <a:off x="1979280" y="1341360"/>
            <a:ext cx="86364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5867280" y="1268280"/>
            <a:ext cx="792360" cy="10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637000"/>
            <a:ext cx="9468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eec94"/>
                </a:solidFill>
                <a:latin typeface="Times New Roman"/>
              </a:rPr>
              <a:t>Сабақ аяқталды, сау болыңыздар балалар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4. Қазіргі кезде дербес компьютерлер қай буынға жата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Үш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Төрт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) Бесінші буынғ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5. Блез Паскаль қай елдің математигі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Герма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АҚШ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Франц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9900"/>
                </a:solidFill>
                <a:latin typeface="Times New Roman"/>
              </a:rPr>
              <a:t>6. 1761 жылы есептеулер жүргізуге арналған « логарифм » сызғышын кім жасап шығарды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А) Близ Паска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В) Исаак Ньют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С</a:t>
            </a:r>
            <a:r>
              <a:rPr b="1" lang="kk-KZ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 Д. Робертсон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54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Компьютердің басты құрылғыла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66"/>
                </a:solidFill>
                <a:latin typeface="Times New Roman"/>
              </a:rPr>
              <a:t>Жүйелік бл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038400" cy="48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9900"/>
                </a:solidFill>
                <a:latin typeface="Times New Roman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3132000" y="333360"/>
            <a:ext cx="5688000" cy="62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Пернетақ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3534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eec94"/>
                </a:solidFill>
                <a:latin typeface="Times New Roman"/>
              </a:rPr>
              <a:t>Жүйелік блоктың түрлері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635280" y="1557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Times New Roman"/>
              </a:rPr>
              <a:t>DESKTO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1258920" y="3068640"/>
            <a:ext cx="67244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3:33:28Z</dcterms:created>
  <dc:creator>Askar</dc:creator>
  <dc:description/>
  <dc:language>en-US</dc:language>
  <cp:lastModifiedBy>Nurken</cp:lastModifiedBy>
  <dcterms:modified xsi:type="dcterms:W3CDTF">2012-10-14T07:35:21Z</dcterms:modified>
  <cp:revision>3</cp:revision>
  <dc:subject/>
  <dc:title>Сабақтың тақырыб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50500207f7000400038000</vt:lpwstr>
  </property>
</Properties>
</file>