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ГОРИТМДЕУ ЖӘНЕ ПРОГРАММАЛА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5953-41CF-431C-9930-170031A3D7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ГОРИТМДЕУ ЖӘНЕ ПРОГРАММАЛА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ADB-2E0A-482F-8D95-A10D4233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63F-550F-4AE1-B9AD-B08985BB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2D9-2182-49B5-A049-DC8FBB21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DBE-FCC4-4DE6-9FDA-C33A99B2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2F7EE-FD05-4F32-9DD6-9BE1E800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71CE4-87A4-4525-A001-EFD42955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67F8C-8D60-41E5-9DA5-A34F9645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E3526-029E-4C88-9706-F902A058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6752F-7421-429F-8FC0-9F77B407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D4BAD-1CD5-4B92-94CE-5EA9B0B9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B8DB9-5013-49FB-B13F-C7647446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1AD-75FA-4F26-924D-67BDF980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8D6B2-42C8-4C1D-8E49-DCBE2D6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B296C-BAFA-49A2-A79D-888BDEE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FC497-C99C-4B5F-B770-9CCD813F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A2BB2-D7E4-40F1-9EC1-4A8B30CD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FBE45-65B5-4F22-9EAB-D4271F62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38D-93DB-48E0-9251-24D089FF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BA0-A29C-4F55-8E53-6DD9F9A6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F22-5B00-401E-A5E3-592DCD13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AFA-7174-4CAD-980D-215165FB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CD0-E701-43BE-9AA3-5D685D45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BA5-0CA9-4753-B8A8-B38DA8B5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F31-9FED-41F8-ABF9-4A5758EE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A16B-E206-4411-A28E-B575A05C28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6EE7-C1E6-45C6-922E-F90059E8D1A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Қызыл таң” жалпы орта мектебі мемлекеттік мекемесі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Информатика пәнінен қайталау сабағы</a:t>
            </a: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cc00"/>
                </a:solidFill>
                <a:latin typeface="Arial"/>
              </a:rPr>
              <a:t>Сабақтың тақырыб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АПЛГОРИТМД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ЖӘ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ПРОГРАММ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6600"/>
                </a:solidFill>
                <a:latin typeface="Arial"/>
              </a:rPr>
              <a:t>Сабақты жүргізетін Информатмка пәні мұғалімі: - </a:t>
            </a:r>
            <a:r>
              <a:rPr b="1" i="1" lang="kk-KZ" sz="2000" spc="-1" strike="noStrike" u="sng">
                <a:solidFill>
                  <a:srgbClr val="660066"/>
                </a:solidFill>
                <a:uFillTx/>
                <a:latin typeface="Arial"/>
              </a:rPr>
              <a:t>ӘСІЛБЕК Әмірх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Мамыр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3961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539640" y="98100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Программаны орындауға қосып, экранда үй кескінін көремі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6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Arial"/>
              </a:rPr>
              <a:t>Назар қойып, тыңдағандарыңыз үшін рахмет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7168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c000"/>
                </a:solidFill>
                <a:latin typeface="Arial"/>
              </a:rPr>
              <a:t>Сабақ бітті,сау болыңыздар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Arial"/>
              </a:rPr>
              <a:t>Сәлеметсіздер ме, оқушылар!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Бүгінгі сабағымыздың мақс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 бөліміне қайт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Орындаушының белгіленген мақсатқа жетуіне бағытталған түсінікті де дәл ұйғарым </a:t>
            </a:r>
            <a:r>
              <a:rPr b="1" lang="kk-KZ" sz="2400" spc="-1" strike="noStrike" u="sng">
                <a:solidFill>
                  <a:srgbClr val="660066"/>
                </a:solidFill>
                <a:uFillTx/>
                <a:latin typeface="Arial"/>
              </a:rPr>
              <a:t>алгоритм</a:t>
            </a: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 деп атал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дік алдын ала жазбаларды құрастыру процесі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алгоритмдеу 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деп аталад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 негізінде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программа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 түзілед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Алгоритм мынадай қасиеттерге 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006600"/>
                </a:solidFill>
                <a:latin typeface="Arial"/>
              </a:rPr>
              <a:t>дискреттігі, анықтығы, массалығы және нәтижеліліг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660066"/>
                </a:solidFill>
                <a:latin typeface="Arial"/>
              </a:rPr>
              <a:t>Алгоритмдердің жасалуының негізгі үш тү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660066"/>
                </a:solidFill>
                <a:latin typeface="Arial"/>
              </a:rPr>
              <a:t>сызықты, тармақталған, циклдік (қайталан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Алгоритмдер көрсетімінің әдісте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ff33cc"/>
                </a:solidFill>
                <a:latin typeface="Arial"/>
              </a:rPr>
              <a:t>табиғи тіл, графикалық тіл, алгоритмдік тіл және программалау тіл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5627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00"/>
                </a:solidFill>
                <a:latin typeface="Arial"/>
              </a:rPr>
              <a:t>Алгоритмдер көрсетімінің блок-схема түрі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соң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есептеуіш әрек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деректерді енгізу, деректерді шыға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шартты тексеру әрекетт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циклд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көмекші алгоритмді шақыру</a:t>
            </a:r>
            <a:r>
              <a:rPr b="0" lang="kk-KZ" sz="1600" spc="-1" strike="noStrike">
                <a:solidFill>
                  <a:srgbClr val="006600"/>
                </a:solidFill>
                <a:latin typeface="Arial"/>
              </a:rPr>
              <a:t>                     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900000" y="2205000"/>
            <a:ext cx="1439640" cy="4176000"/>
            <a:chOff x="900000" y="2205000"/>
            <a:chExt cx="1439640" cy="4176000"/>
          </a:xfrm>
        </p:grpSpPr>
        <p:sp>
          <p:nvSpPr>
            <p:cNvPr id="138" name="Oval 4"/>
            <p:cNvSpPr/>
            <p:nvPr/>
          </p:nvSpPr>
          <p:spPr>
            <a:xfrm>
              <a:off x="900000" y="22050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971280" y="3398400"/>
              <a:ext cx="1295640" cy="424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900000" y="3994200"/>
              <a:ext cx="1368360" cy="341640"/>
            </a:xfrm>
            <a:prstGeom prst="parallelogram">
              <a:avLst>
                <a:gd name="adj" fmla="val 100132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0"/>
            <p:cNvSpPr/>
            <p:nvPr/>
          </p:nvSpPr>
          <p:spPr>
            <a:xfrm>
              <a:off x="900000" y="28008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"/>
            <p:cNvSpPr/>
            <p:nvPr/>
          </p:nvSpPr>
          <p:spPr>
            <a:xfrm>
              <a:off x="1042920" y="4505400"/>
              <a:ext cx="1224000" cy="4266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"/>
            <p:cNvSpPr/>
            <p:nvPr/>
          </p:nvSpPr>
          <p:spPr>
            <a:xfrm>
              <a:off x="971280" y="5187960"/>
              <a:ext cx="1297080" cy="426600"/>
            </a:xfrm>
            <a:prstGeom prst="flowChartPreparat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20"/>
            <p:cNvGrpSpPr/>
            <p:nvPr/>
          </p:nvGrpSpPr>
          <p:grpSpPr>
            <a:xfrm>
              <a:off x="971280" y="5954760"/>
              <a:ext cx="1295280" cy="426240"/>
              <a:chOff x="971280" y="5954760"/>
              <a:chExt cx="1295280" cy="426240"/>
            </a:xfrm>
          </p:grpSpPr>
          <p:sp>
            <p:nvSpPr>
              <p:cNvPr id="145" name="AutoShape 13"/>
              <p:cNvSpPr/>
              <p:nvPr/>
            </p:nvSpPr>
            <p:spPr>
              <a:xfrm>
                <a:off x="971280" y="5954760"/>
                <a:ext cx="1295280" cy="426240"/>
              </a:xfrm>
              <a:prstGeom prst="flowChartPredefinedProcess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14"/>
              <p:cNvSpPr/>
              <p:nvPr/>
            </p:nvSpPr>
            <p:spPr>
              <a:xfrm>
                <a:off x="21153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15"/>
              <p:cNvSpPr/>
              <p:nvPr/>
            </p:nvSpPr>
            <p:spPr>
              <a:xfrm>
                <a:off x="112392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6"/>
              <p:cNvSpPr/>
              <p:nvPr/>
            </p:nvSpPr>
            <p:spPr>
              <a:xfrm>
                <a:off x="97128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7"/>
              <p:cNvSpPr/>
              <p:nvPr/>
            </p:nvSpPr>
            <p:spPr>
              <a:xfrm>
                <a:off x="22665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8"/>
              <p:cNvSpPr/>
              <p:nvPr/>
            </p:nvSpPr>
            <p:spPr>
              <a:xfrm>
                <a:off x="971280" y="59547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19"/>
              <p:cNvSpPr/>
              <p:nvPr/>
            </p:nvSpPr>
            <p:spPr>
              <a:xfrm>
                <a:off x="971280" y="63810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10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алгоритм тілінде көрсету мыса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алг</a:t>
            </a: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үйдің суретін сал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ба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-(300,2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100,100) – (200,5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200,50) – (300,1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– (200,5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50,17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шеңбер (200,75),20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00,75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соң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4788000" y="1413000"/>
            <a:ext cx="43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0                    100                     200            275   30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643280" y="2060640"/>
            <a:ext cx="57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8317080" y="58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9"/>
          <p:cNvSpPr/>
          <p:nvPr/>
        </p:nvSpPr>
        <p:spPr>
          <a:xfrm>
            <a:off x="6156360" y="17002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73"/>
          <p:cNvSpPr/>
          <p:nvPr/>
        </p:nvSpPr>
        <p:spPr>
          <a:xfrm>
            <a:off x="5148360" y="170028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4"/>
          <p:cNvSpPr/>
          <p:nvPr/>
        </p:nvSpPr>
        <p:spPr>
          <a:xfrm>
            <a:off x="5148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5"/>
          <p:cNvSpPr/>
          <p:nvPr/>
        </p:nvSpPr>
        <p:spPr>
          <a:xfrm>
            <a:off x="5148360" y="249228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76"/>
          <p:cNvSpPr/>
          <p:nvPr/>
        </p:nvSpPr>
        <p:spPr>
          <a:xfrm>
            <a:off x="5148360" y="29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77"/>
          <p:cNvSpPr/>
          <p:nvPr/>
        </p:nvSpPr>
        <p:spPr>
          <a:xfrm>
            <a:off x="5148360" y="47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78"/>
          <p:cNvSpPr/>
          <p:nvPr/>
        </p:nvSpPr>
        <p:spPr>
          <a:xfrm>
            <a:off x="5148360" y="5805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9"/>
          <p:cNvSpPr/>
          <p:nvPr/>
        </p:nvSpPr>
        <p:spPr>
          <a:xfrm>
            <a:off x="745164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0"/>
          <p:cNvSpPr/>
          <p:nvPr/>
        </p:nvSpPr>
        <p:spPr>
          <a:xfrm>
            <a:off x="831708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1"/>
          <p:cNvSpPr/>
          <p:nvPr/>
        </p:nvSpPr>
        <p:spPr>
          <a:xfrm>
            <a:off x="5148360" y="364500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82"/>
          <p:cNvSpPr/>
          <p:nvPr/>
        </p:nvSpPr>
        <p:spPr>
          <a:xfrm>
            <a:off x="874872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 flipH="1">
            <a:off x="6156360" y="2492280"/>
            <a:ext cx="12952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85"/>
          <p:cNvSpPr/>
          <p:nvPr/>
        </p:nvSpPr>
        <p:spPr>
          <a:xfrm>
            <a:off x="7451640" y="2492280"/>
            <a:ext cx="12970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94"/>
          <p:cNvGrpSpPr/>
          <p:nvPr/>
        </p:nvGrpSpPr>
        <p:grpSpPr>
          <a:xfrm>
            <a:off x="6156360" y="3645000"/>
            <a:ext cx="2592360" cy="2160360"/>
            <a:chOff x="6156360" y="3645000"/>
            <a:chExt cx="2592360" cy="2160360"/>
          </a:xfrm>
        </p:grpSpPr>
        <p:sp>
          <p:nvSpPr>
            <p:cNvPr id="171" name="Line 86"/>
            <p:cNvSpPr/>
            <p:nvPr/>
          </p:nvSpPr>
          <p:spPr>
            <a:xfrm>
              <a:off x="615636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87"/>
            <p:cNvSpPr/>
            <p:nvPr/>
          </p:nvSpPr>
          <p:spPr>
            <a:xfrm>
              <a:off x="874872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88"/>
            <p:cNvSpPr/>
            <p:nvPr/>
          </p:nvSpPr>
          <p:spPr>
            <a:xfrm>
              <a:off x="6156360" y="580536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89"/>
            <p:cNvSpPr/>
            <p:nvPr/>
          </p:nvSpPr>
          <p:spPr>
            <a:xfrm>
              <a:off x="6156360" y="364500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Rectangle 90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91"/>
          <p:cNvSpPr/>
          <p:nvPr/>
        </p:nvSpPr>
        <p:spPr>
          <a:xfrm>
            <a:off x="7207200" y="27525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5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7"/>
          <p:cNvSpPr/>
          <p:nvPr/>
        </p:nvSpPr>
        <p:spPr>
          <a:xfrm>
            <a:off x="7210440" y="2762280"/>
            <a:ext cx="5047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7500"/>
                            </p:stCondLst>
                            <p:childTnLst>
                              <p:par>
                                <p:cTn id="25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1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1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1000"/>
                            </p:stCondLst>
                            <p:childTnLst>
                              <p:par>
                                <p:cTn id="27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Basic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 прорграммалау тілінде көрсету үшін мынадай графикалық операторлар қаж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16000" y="2492280"/>
          <a:ext cx="6840720" cy="3460680"/>
        </p:xfrm>
        <a:graphic>
          <a:graphicData uri="http://schemas.openxmlformats.org/drawingml/2006/table">
            <a:tbl>
              <a:tblPr/>
              <a:tblGrid>
                <a:gridCol w="1482840"/>
                <a:gridCol w="2477880"/>
                <a:gridCol w="288000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е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іші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Қызметі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Графикалық режимге ө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X.Y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Нүкте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Кесінді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оялған 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 (X.Y).R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Шеңберд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 (X.Y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ұйықталған фирураның боял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Экранның тазар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02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Графикалық операторларда пайдаланылатын түстер нөмірлер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00000" y="2133720"/>
          <a:ext cx="7272360" cy="3535200"/>
        </p:xfrm>
        <a:graphic>
          <a:graphicData uri="http://schemas.openxmlformats.org/drawingml/2006/table">
            <a:tbl>
              <a:tblPr/>
              <a:tblGrid>
                <a:gridCol w="1817640"/>
                <a:gridCol w="1819440"/>
                <a:gridCol w="1817640"/>
                <a:gridCol w="18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 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шық 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с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лат түст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пан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ғыл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я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 күре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ң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Үй салу алгоритмін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 Basic </a:t>
            </a: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программасында көрсетемі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CREE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200) – (300,100), 5,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100) – (200,50), 5: LINE (200,50) – (300,100),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200,150) – (275,200), 12, B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IRCLE (200,75),20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INT (200,75)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ND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65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200"/>
                            </p:stCondLst>
                            <p:childTnLst>
                              <p:par>
                                <p:cTn id="3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850"/>
                            </p:stCondLst>
                            <p:childTnLst>
                              <p:par>
                                <p:cTn id="3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7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900"/>
                            </p:stCondLst>
                            <p:childTnLst>
                              <p:par>
                                <p:cTn id="3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875"/>
                            </p:stCondLst>
                            <p:childTnLst>
                              <p:par>
                                <p:cTn id="3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7417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Осы программан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 Basic 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редакторының мәтіндер терезесінде теремі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840720" cy="374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5:22:19Z</dcterms:created>
  <dc:creator>AMIRKHAN</dc:creator>
  <dc:description/>
  <dc:language>en-US</dc:language>
  <cp:lastModifiedBy>Majitov Nurken</cp:lastModifiedBy>
  <dcterms:modified xsi:type="dcterms:W3CDTF">2012-01-15T10:54:34Z</dcterms:modified>
  <cp:revision>22</cp:revision>
  <dc:subject/>
  <dc:title>“Ќызыл таѕ” жалпы орта мектебі мемлекеттік мекемесі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90000000000010250500207f7000400038000</vt:lpwstr>
  </property>
</Properties>
</file>