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image8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A725-3871-4C51-BFAA-52EF52A85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570D-7698-4138-BC53-C80C4F3B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30A2-CC58-4951-B91D-2C00AC620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E343-3BC3-42F6-903B-1B567F662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66C2E-A6B9-436F-B2D5-1A59B8F0C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5A9EA-6FF7-4925-A581-7EF46C2C4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523FE-F308-4F64-95B6-95C9D4477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CFF50-6BFC-4D4B-B36A-A7234E4E7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E389B-A587-4C85-ADAE-1DB8BE6A2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EC1E8-CFC7-422B-96C3-1E7622D84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2700D-CE4E-4734-8D06-5E4CC968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345D-6EA7-4545-BFE7-D9EC7FDB6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BDA93-CBB2-4D9B-B7CE-F3C89F5A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0F1F7-5DFB-4609-9EB9-26CFB1F6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E10A6-8CF1-4AE3-A474-91661D4B6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FB94E-F2AC-4857-AF5C-7D5929DC5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E0B7B-231B-4E16-B7A0-1AAD66A6A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32AA-6855-4DCF-BD77-63CFDC45A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2947-4EC5-4F7E-8F5E-3FC47E731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CD45-D70E-4F67-A8DC-17ACF7521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FB79-02BB-4084-A94C-189B68EC9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4313-CE84-4381-82EF-181C6515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198E-F91B-4C5C-9FBF-AEE96133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628D-60AD-4B52-8DA5-50356DFBD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CDBF4-DEA6-4FEF-A10E-E70A84B3026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D7034-D22B-4149-9374-E51DFB3BF1D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824040" y="203040"/>
            <a:ext cx="7642080" cy="68436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aa8456"/>
                </a:solidFill>
                <a:latin typeface="Verdana"/>
              </a:rPr>
              <a:t> </a:t>
            </a:r>
            <a:r>
              <a:rPr b="1" i="1" lang="kk-KZ" sz="4000" spc="-1" strike="noStrike">
                <a:solidFill>
                  <a:srgbClr val="ffff66"/>
                </a:solidFill>
                <a:latin typeface="Verdana"/>
              </a:rPr>
              <a:t>Ауызша сұрақтар: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793160"/>
            <a:ext cx="9144000" cy="28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3399"/>
                </a:solidFill>
                <a:latin typeface="Verdana"/>
              </a:rPr>
              <a:t>Қандай программамен жұмыс жасап жатырмыз?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3399"/>
                </a:solidFill>
                <a:latin typeface="Verdana"/>
              </a:rPr>
              <a:t>Программа қандай түрде ашылады?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3399"/>
                </a:solidFill>
                <a:latin typeface="Verdana"/>
              </a:rPr>
              <a:t>Қандай салаларда қолданылады?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heel spokes="1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1760" y="223920"/>
            <a:ext cx="8458200" cy="17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 u="sng">
                <a:solidFill>
                  <a:srgbClr val="ff9900"/>
                </a:solidFill>
                <a:uFillTx/>
                <a:latin typeface="Freestyle Script"/>
              </a:rPr>
              <a:t>Жаңа онжылдық-жаңа экономикалық өрлеу-Қазақстанның жаңа мүмкіндіктері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3827160"/>
            <a:ext cx="8229600" cy="22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3399"/>
                </a:solidFill>
                <a:latin typeface="Verdana"/>
              </a:rPr>
              <a:t>“</a:t>
            </a:r>
            <a:r>
              <a:rPr b="1" lang="kk-KZ" sz="3200" spc="-1" strike="noStrike">
                <a:solidFill>
                  <a:srgbClr val="003399"/>
                </a:solidFill>
                <a:latin typeface="Verdana"/>
              </a:rPr>
              <a:t>Менің басты мақсатым-еліміздің алдағы онжылдықтағы экономикалық өрлеуін қамтамасыз етіп, жаңа мүмкіндіктерге жол ашу. Бүгінгі жолдауым осыған арналған”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106800" y="2190600"/>
            <a:ext cx="1454040" cy="152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01600" y="0"/>
            <a:ext cx="8613720" cy="10620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ff9900"/>
                </a:solidFill>
                <a:latin typeface="Verdana"/>
              </a:rPr>
              <a:t>Адам – елдің басты байлығ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292400"/>
            <a:ext cx="8699400" cy="7570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 </a:t>
            </a: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Білім беру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2236680"/>
            <a:ext cx="8626320" cy="7574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 </a:t>
            </a: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Денсаулық сақтау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3224160"/>
            <a:ext cx="8740800" cy="9748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 </a:t>
            </a: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Өмір сапасын жақсарту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  </a:t>
            </a: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және әлеуметтік қорғау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4356000"/>
            <a:ext cx="8724960" cy="9748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 </a:t>
            </a: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Ардагерлерге қамқорлық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5502240"/>
            <a:ext cx="8710560" cy="1149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Тұрғын үй-коммуналдық сектор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саласындағы саясат</a:t>
            </a:r>
            <a:r>
              <a:rPr b="1" i="1" lang="ru-RU" sz="3600" spc="-1" strike="noStrike">
                <a:solidFill>
                  <a:srgbClr val="ffff66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heel spokes="1"/>
    <p:sndAc>
      <p:stSnd>
        <p:snd r:embed="rId1" name="chimes.wav"/>
      </p:stSnd>
    </p:sndAc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70000" y="0"/>
            <a:ext cx="4287600" cy="3348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ffff00"/>
                </a:solidFill>
                <a:latin typeface="Verdana"/>
              </a:rPr>
              <a:t>Тест сұрақтары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-146" b="0"/>
          <a:stretch/>
        </p:blipFill>
        <p:spPr>
          <a:xfrm>
            <a:off x="909720" y="468360"/>
            <a:ext cx="7581960" cy="6389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  <p:sndAc>
      <p:stSnd>
        <p:snd r:embed="rId2" name="chimes.wav"/>
      </p:stSnd>
    </p:sndAc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36400" y="2603520"/>
            <a:ext cx="3991320" cy="237816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  <a:effectLst>
            <a:outerShdw dist="107932" dir="13500000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cc3300"/>
                </a:solidFill>
                <a:latin typeface="Verdana"/>
              </a:rPr>
              <a:t>Оқулықтан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Verdana"/>
              </a:rPr>
              <a:t>1</a:t>
            </a:r>
            <a:r>
              <a:rPr b="1" lang="en-US" sz="1800" spc="-1" strike="noStrike">
                <a:solidFill>
                  <a:srgbClr val="cc3300"/>
                </a:solidFill>
                <a:latin typeface="Verdana"/>
              </a:rPr>
              <a:t>49</a:t>
            </a:r>
            <a:r>
              <a:rPr b="1" lang="kk-KZ" sz="1800" spc="-1" strike="noStrike">
                <a:solidFill>
                  <a:srgbClr val="cc3300"/>
                </a:solidFill>
                <a:latin typeface="Verdana"/>
              </a:rPr>
              <a:t>-1</a:t>
            </a:r>
            <a:r>
              <a:rPr b="1" lang="en-US" sz="1800" spc="-1" strike="noStrike">
                <a:solidFill>
                  <a:srgbClr val="cc3300"/>
                </a:solidFill>
                <a:latin typeface="Verdana"/>
              </a:rPr>
              <a:t>53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830840" y="2432160"/>
            <a:ext cx="3932280" cy="22604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  <a:effectLst>
            <a:outerShdw dist="107932" dir="13500000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cc3300"/>
                </a:solidFill>
                <a:latin typeface="Verdana"/>
              </a:rPr>
              <a:t>Дәптерге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Verdana"/>
              </a:rPr>
              <a:t>Суреттің мәтінге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Verdana"/>
              </a:rPr>
              <a:t>орналасуы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190600" y="4826160"/>
            <a:ext cx="4554720" cy="178272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  <a:effectLst>
            <a:outerShdw dist="107932" dir="13500000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Verdana"/>
              </a:rPr>
              <a:t>Microsoft Word</a:t>
            </a:r>
            <a:r>
              <a:rPr b="1" lang="kk-KZ" sz="1800" spc="-1" strike="noStrike">
                <a:solidFill>
                  <a:srgbClr val="cc33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Verdana"/>
              </a:rPr>
              <a:t>программасы бойынш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1" lang="kk-KZ" sz="1800" spc="-1" strike="noStrike">
                <a:solidFill>
                  <a:srgbClr val="cc3300"/>
                </a:solidFill>
                <a:latin typeface="Verdana"/>
              </a:rPr>
              <a:t>өткенді қайталау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70200" y="309600"/>
            <a:ext cx="5921280" cy="175572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  <a:effectLst>
            <a:outerShdw dist="107932" dir="13500000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cc3300"/>
                </a:solidFill>
                <a:latin typeface="Verdana"/>
              </a:rPr>
              <a:t>Үйге тапсырма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heel spokes="1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90520" y="2495520"/>
            <a:ext cx="8574120" cy="24764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000" spc="-1" strike="noStrike">
                <a:solidFill>
                  <a:srgbClr val="ffff00"/>
                </a:solidFill>
                <a:latin typeface="Verdana"/>
              </a:rPr>
              <a:t>Құжатқа сурет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kk-KZ" sz="6000" spc="-1" strike="noStrike">
                <a:solidFill>
                  <a:srgbClr val="ffff00"/>
                </a:solidFill>
                <a:latin typeface="Verdana"/>
              </a:rPr>
              <a:t>кірістіру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24040" y="681120"/>
            <a:ext cx="7642080" cy="6840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aa8456"/>
                </a:solidFill>
                <a:latin typeface="Verdana"/>
              </a:rPr>
              <a:t> </a:t>
            </a:r>
            <a:r>
              <a:rPr b="1" lang="kk-KZ" sz="4000" spc="-1" strike="noStrike">
                <a:solidFill>
                  <a:srgbClr val="aa8456"/>
                </a:solidFill>
                <a:latin typeface="Verdana"/>
              </a:rPr>
              <a:t>Сабақтың тақырыбы: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heel spokes="1"/>
    <p:sndAc>
      <p:stSnd>
        <p:snd r:embed="rId2" name="chimes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6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6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04920" y="246240"/>
            <a:ext cx="8574120" cy="922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cc6600"/>
                </a:solidFill>
                <a:latin typeface="Verdana"/>
              </a:rPr>
              <a:t>Мақсаты: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4600" y="2381400"/>
            <a:ext cx="8574120" cy="3085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Verdana"/>
              </a:rPr>
              <a:t>Word</a:t>
            </a:r>
            <a:r>
              <a:rPr b="1" lang="kk-KZ" sz="4800" spc="-1" strike="noStrike">
                <a:solidFill>
                  <a:srgbClr val="ffff00"/>
                </a:solidFill>
                <a:latin typeface="Verdana"/>
              </a:rPr>
              <a:t> мәтіндік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kk-KZ" sz="4800" spc="-1" strike="noStrike">
                <a:solidFill>
                  <a:srgbClr val="ffff00"/>
                </a:solidFill>
                <a:latin typeface="Verdana"/>
              </a:rPr>
              <a:t>редакторының 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ff00"/>
                </a:solidFill>
                <a:latin typeface="Verdana"/>
              </a:rPr>
              <a:t>мүмкіндіктерін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kk-KZ" sz="4800" spc="-1" strike="noStrike">
                <a:solidFill>
                  <a:srgbClr val="ffff00"/>
                </a:solidFill>
                <a:latin typeface="Verdana"/>
              </a:rPr>
              <a:t>іс жүзінде  қолдану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heel spokes="1"/>
    <p:sndAc>
      <p:stSnd>
        <p:snd r:embed="rId3" name="chimes.wav"/>
      </p:stSnd>
    </p:sndAc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6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6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6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6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6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6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6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65280" y="203040"/>
            <a:ext cx="7800840" cy="7146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aa8456"/>
                </a:solidFill>
                <a:latin typeface="Verdana"/>
              </a:rPr>
              <a:t> </a:t>
            </a:r>
            <a:r>
              <a:rPr b="1" i="1" lang="kk-KZ" sz="2800" spc="-1" strike="noStrike">
                <a:solidFill>
                  <a:srgbClr val="aa8456"/>
                </a:solidFill>
                <a:latin typeface="Verdana"/>
              </a:rPr>
              <a:t>Міндеттері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7800" y="3081240"/>
            <a:ext cx="8518680" cy="1214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00"/>
                </a:solidFill>
                <a:latin typeface="Verdana"/>
              </a:rPr>
              <a:t>Бұрынғы білімімізді толықтыру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8000" y="1596960"/>
            <a:ext cx="8429400" cy="13892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Word </a:t>
            </a:r>
            <a:r>
              <a:rPr b="1" lang="kk-KZ" sz="2800" spc="-1" strike="noStrike">
                <a:solidFill>
                  <a:srgbClr val="ffff00"/>
                </a:solidFill>
                <a:latin typeface="Verdana"/>
              </a:rPr>
              <a:t>редакторы бойынша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ff00"/>
                </a:solidFill>
                <a:latin typeface="Verdana"/>
              </a:rPr>
              <a:t>өткен материалдарды еске түсіру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7920" y="4429080"/>
            <a:ext cx="8559720" cy="13017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00"/>
                </a:solidFill>
                <a:latin typeface="Verdana"/>
              </a:rPr>
              <a:t>Теориялық білімімізді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00"/>
                </a:solidFill>
                <a:latin typeface="Verdana"/>
              </a:rPr>
              <a:t>іс жүзінде қолдана білу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heel spokes="1"/>
    <p:sndAc>
      <p:stSnd>
        <p:snd r:embed="rId4" name="chimes.wav"/>
      </p:stSnd>
    </p:sndAc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6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6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6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6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6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6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6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6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00"/>
                </a:solidFill>
                <a:latin typeface="Verdana"/>
              </a:rPr>
              <a:t>Үй тапсырмасы бойынша сұрақ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ord </a:t>
            </a:r>
            <a:r>
              <a:rPr b="0" lang="kk-KZ" sz="3200" spc="-1" strike="noStrike">
                <a:solidFill>
                  <a:srgbClr val="eaeaea"/>
                </a:solidFill>
                <a:latin typeface="Verdana"/>
              </a:rPr>
              <a:t>мәтіндік редакторының қандай мүмкіндіктерін білеміз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wheel spokes="1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8208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00"/>
                </a:solidFill>
                <a:latin typeface="Verdana"/>
              </a:rPr>
              <a:t>Құжатқа сурет кірістіру әдісі: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rcRect l="0" t="0" r="16" b="-24"/>
          <a:stretch/>
        </p:blipFill>
        <p:spPr>
          <a:xfrm>
            <a:off x="0" y="915840"/>
            <a:ext cx="9144000" cy="5942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  <p:sndAc>
      <p:stSnd>
        <p:snd r:embed="rId3" name="chimes.wav"/>
      </p:stSnd>
    </p:sndAc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6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6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6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6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8208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00"/>
                </a:solidFill>
                <a:latin typeface="Verdana"/>
              </a:rPr>
              <a:t>Суреттің орналасуы: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rcRect l="0" t="0" r="-8" b="0"/>
          <a:stretch/>
        </p:blipFill>
        <p:spPr>
          <a:xfrm>
            <a:off x="900000" y="858960"/>
            <a:ext cx="7507440" cy="59990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  <p:sndAc>
      <p:stSnd>
        <p:snd r:embed="rId3" name="chimes.wav"/>
      </p:stSnd>
    </p:sndAc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6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6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6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6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1120" y="1434960"/>
            <a:ext cx="4827600" cy="8874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aa8456"/>
                </a:solidFill>
                <a:latin typeface="Verdana"/>
              </a:rPr>
              <a:t>Вставка</a:t>
            </a:r>
            <a:r>
              <a:rPr b="1" lang="kk-KZ" sz="3200" spc="-1" strike="noStrike">
                <a:solidFill>
                  <a:srgbClr val="ffff00"/>
                </a:solidFill>
                <a:latin typeface="Verdana"/>
              </a:rPr>
              <a:t> - кірістіру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66720" y="2668680"/>
            <a:ext cx="5219640" cy="8586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aa8456"/>
                </a:solidFill>
                <a:latin typeface="Verdana"/>
              </a:rPr>
              <a:t>Рисунок</a:t>
            </a:r>
            <a:r>
              <a:rPr b="1" lang="kk-KZ" sz="3200" spc="-1" strike="noStrike">
                <a:solidFill>
                  <a:srgbClr val="ffff00"/>
                </a:solidFill>
                <a:latin typeface="Verdana"/>
              </a:rPr>
              <a:t> - сурет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2320" y="258840"/>
            <a:ext cx="7672680" cy="8874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cc"/>
                </a:solidFill>
                <a:latin typeface="Verdana"/>
              </a:rPr>
              <a:t>Түсіндірме сөздік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60240" y="3855960"/>
            <a:ext cx="5713560" cy="9018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aa8456"/>
                </a:solidFill>
                <a:latin typeface="Verdana"/>
              </a:rPr>
              <a:t>Картинки</a:t>
            </a:r>
            <a:r>
              <a:rPr b="1" lang="kk-KZ" sz="3200" spc="-1" strike="noStrike">
                <a:solidFill>
                  <a:srgbClr val="ffff00"/>
                </a:solidFill>
                <a:latin typeface="Verdana"/>
              </a:rPr>
              <a:t> - сурет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17480" y="5133960"/>
            <a:ext cx="6307200" cy="9446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aa8456"/>
                </a:solidFill>
                <a:latin typeface="Verdana"/>
              </a:rPr>
              <a:t>Положение</a:t>
            </a:r>
            <a:r>
              <a:rPr b="1" lang="kk-KZ" sz="3200" spc="-1" strike="noStrike">
                <a:solidFill>
                  <a:srgbClr val="ffff00"/>
                </a:solidFill>
                <a:latin typeface="Verdana"/>
              </a:rPr>
              <a:t> - орналасуы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heel spokes="1"/>
    <p:sndAc>
      <p:stSnd>
        <p:snd r:embed="rId1" name="chimes.wav"/>
      </p:stSnd>
    </p:sndAc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8487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800" spc="-1" strike="noStrike">
                <a:solidFill>
                  <a:srgbClr val="ffff00"/>
                </a:solidFill>
                <a:latin typeface="Brush Script MT"/>
              </a:rPr>
              <a:t>Қазақстан Республикасының президенті Н.Ә.Назарбаевтың Қазақстан халқына </a:t>
            </a:r>
            <a:br>
              <a:rPr sz="3800"/>
            </a:br>
            <a:r>
              <a:rPr b="0" i="1" lang="kk-KZ" sz="5100" spc="-1" strike="noStrike" u="sng">
                <a:solidFill>
                  <a:srgbClr val="ff9900"/>
                </a:solidFill>
                <a:uFillTx/>
                <a:latin typeface="Brush Script MT"/>
              </a:rPr>
              <a:t>жолдауы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057400" y="2666880"/>
            <a:ext cx="5943600" cy="38005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  <p:sndAc>
      <p:stSnd>
        <p:snd r:embed="rId2" name="chimes.wav"/>
      </p:stSnd>
    </p:sndAc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50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-1)"/>
                                      </p:to>
                                    </p:set>
                                    <p:set>
                                      <p:cBhvr>
                                        <p:cTn id="170" dur="50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-1)"/>
                                      </p:to>
                                    </p:set>
                                    <p:set>
                                      <p:cBhvr>
                                        <p:cTn id="171" dur="50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03:43:38Z</dcterms:created>
  <dc:creator>Кульзия</dc:creator>
  <dc:description/>
  <dc:language>en-US</dc:language>
  <cp:lastModifiedBy>User</cp:lastModifiedBy>
  <dcterms:modified xsi:type="dcterms:W3CDTF">2009-05-16T13:08:47Z</dcterms:modified>
  <cp:revision>321</cp:revision>
  <dc:subject/>
  <dc:title>конкур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4030000000000010250500207f7000400038000</vt:lpwstr>
  </property>
</Properties>
</file>