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517-29D5-4467-928B-68C52D81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163-B0ED-4A43-913D-4D71948C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9B9-1BDE-4E66-A616-952492FB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ABE-7783-4717-AE13-8182AF59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BE9D-ECBB-418B-ABE9-9A68BF63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7017-F8C3-4D39-895D-95138EC1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46AA-F3BB-4C8A-B7D7-49A5254A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0967-DCF2-4878-8AB4-61D092B9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462E-9A5E-482E-BC4E-BF48CA34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139A-07AE-4384-9CC2-F83F32DC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BD4F-018F-4944-9A79-2D3EB5BD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502-2C38-41CE-AD17-C7EF2A9A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2D89-91C2-40B5-91B4-41B864B7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DE8A-8D7F-4029-AD6B-7CF27E7F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FF91-45F9-4268-AC6E-25F0CDC9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5826-3346-4E77-BBC9-845D11E0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F569-229B-4FB0-AFB1-AC6AC94F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4B8-613B-4344-9D00-AA630361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876-12CE-4C96-9CEF-EB316C97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718-2D50-4D03-995E-E25651A5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0F6-E0DD-439A-B695-2536B8DA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ED8-0821-433E-9825-4CC20C3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86E-07AD-450A-A16A-A7B6223F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85B-DF67-467D-A477-50B2274E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B12B-6C7F-4242-955A-BC6CA02F538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4162-E5CC-48FB-B697-146DCDA5D7C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4040" y="203040"/>
            <a:ext cx="7642080" cy="6843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4000" spc="-1" strike="noStrike">
                <a:solidFill>
                  <a:srgbClr val="ffff66"/>
                </a:solidFill>
                <a:latin typeface="Verdana"/>
              </a:rPr>
              <a:t>Ауызша сұрақтар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93160"/>
            <a:ext cx="91440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программамен жұмыс жасап жатырмыз?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Программа қандай түрде аш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Қандай салаларда қолданылады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1760" y="223920"/>
            <a:ext cx="8458200" cy="17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 u="sng">
                <a:solidFill>
                  <a:srgbClr val="ff9900"/>
                </a:solidFill>
                <a:uFillTx/>
                <a:latin typeface="Freestyle Script"/>
              </a:rPr>
              <a:t>Жаңа онжылдық-жаңа экономикалық өрлеу-Қазақстанның жаңа мүмкіндіктері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27160"/>
            <a:ext cx="82296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“</a:t>
            </a:r>
            <a:r>
              <a:rPr b="1" lang="kk-KZ" sz="3200" spc="-1" strike="noStrike">
                <a:solidFill>
                  <a:srgbClr val="003399"/>
                </a:solidFill>
                <a:latin typeface="Verdana"/>
              </a:rPr>
              <a:t>Менің басты мақсатым-еліміздің алдағы онжылдықтағы экономикалық өрлеуін қамтамасыз етіп, жаңа мүмкіндіктерге жол ашу. Бүгінгі жолдауым осыған арналған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106800" y="2190600"/>
            <a:ext cx="14540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01600" y="0"/>
            <a:ext cx="8613720" cy="1062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9900"/>
                </a:solidFill>
                <a:latin typeface="Verdana"/>
              </a:rPr>
              <a:t>Адам – елдің басты байлығ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92400"/>
            <a:ext cx="8699400" cy="757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Білім бер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236680"/>
            <a:ext cx="8626320" cy="757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Денсаулық сақт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24160"/>
            <a:ext cx="874080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Өмір сапасын жақсарт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және әлеуметтік қорға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356000"/>
            <a:ext cx="8724960" cy="9748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Ардагерлерге қамқорлық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502240"/>
            <a:ext cx="8710560" cy="1149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Тұрғын үй-коммуналдық сектор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66"/>
                </a:solidFill>
                <a:latin typeface="Verdana"/>
              </a:rPr>
              <a:t>саласындағы саясат</a:t>
            </a:r>
            <a:r>
              <a:rPr b="1" i="1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70000" y="0"/>
            <a:ext cx="4287600" cy="334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00"/>
                </a:solidFill>
                <a:latin typeface="Verdana"/>
              </a:rPr>
              <a:t>Тест сұрақтары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-146" b="0"/>
          <a:stretch/>
        </p:blipFill>
        <p:spPr>
          <a:xfrm>
            <a:off x="909720" y="468360"/>
            <a:ext cx="7581960" cy="638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6400" y="2603520"/>
            <a:ext cx="3991320" cy="23781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Оқулықта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49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-1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5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30840" y="2432160"/>
            <a:ext cx="3932280" cy="22604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Verdana"/>
              </a:rPr>
              <a:t>Дәптерг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Суреттің мәтінг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орналасу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0600" y="4826160"/>
            <a:ext cx="4554720" cy="1782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Microsoft Word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программасы бойынш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Verdana"/>
              </a:rPr>
              <a:t>өткенді қайтала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70200" y="309600"/>
            <a:ext cx="5921280" cy="175572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Verdana"/>
              </a:rPr>
              <a:t>Үйге тапсырм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90520" y="2495520"/>
            <a:ext cx="8574120" cy="247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Құжатқа сурет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6000" spc="-1" strike="noStrike">
                <a:solidFill>
                  <a:srgbClr val="ffff00"/>
                </a:solidFill>
                <a:latin typeface="Verdana"/>
              </a:rPr>
              <a:t>кірістіру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4040" y="681120"/>
            <a:ext cx="7642080" cy="684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lang="kk-KZ" sz="4000" spc="-1" strike="noStrike">
                <a:solidFill>
                  <a:srgbClr val="aa8456"/>
                </a:solidFill>
                <a:latin typeface="Verdana"/>
              </a:rPr>
              <a:t>Сабақтың тақырыб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46240"/>
            <a:ext cx="857412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6600"/>
                </a:solidFill>
                <a:latin typeface="Verdana"/>
              </a:rPr>
              <a:t>Мақсат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2381400"/>
            <a:ext cx="8574120" cy="308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Verdana"/>
              </a:rPr>
              <a:t>Word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мәтіндік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редакторының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мүмкіндіктерін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kk-KZ" sz="4800" spc="-1" strike="noStrike">
                <a:solidFill>
                  <a:srgbClr val="ffff00"/>
                </a:solidFill>
                <a:latin typeface="Verdana"/>
              </a:rPr>
              <a:t>іс жүзінде  қолдану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5280" y="203040"/>
            <a:ext cx="7800840" cy="714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aa8456"/>
                </a:solidFill>
                <a:latin typeface="Verdana"/>
              </a:rPr>
              <a:t>Міндеттері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800" y="3081240"/>
            <a:ext cx="8518680" cy="121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Бұрынғы білімімізді толықты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" y="1596960"/>
            <a:ext cx="8429400" cy="1389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Word </a:t>
            </a: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редакторы бойынш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00"/>
                </a:solidFill>
                <a:latin typeface="Verdana"/>
              </a:rPr>
              <a:t>өткен материалдарды еске түсір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7920" y="4429080"/>
            <a:ext cx="8559720" cy="13017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Теориялық білімімізді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іс жүзінде қолдана біл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4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6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6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Үй тапсырмасы бойынша сұрақ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d 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мәтіндік редакторының қандай мүмкіндіктерін білеміз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Құжатқа сурет кірістіру әдісі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16" b="-24"/>
          <a:stretch/>
        </p:blipFill>
        <p:spPr>
          <a:xfrm>
            <a:off x="0" y="915840"/>
            <a:ext cx="9144000" cy="594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6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82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Verdana"/>
              </a:rPr>
              <a:t>Суреттің орналасу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0" t="0" r="-8" b="0"/>
          <a:stretch/>
        </p:blipFill>
        <p:spPr>
          <a:xfrm>
            <a:off x="900000" y="858960"/>
            <a:ext cx="7507440" cy="5999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1120" y="1434960"/>
            <a:ext cx="482760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Вставка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кірістір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720" y="2668680"/>
            <a:ext cx="5219640" cy="8586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Рисунок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2320" y="258840"/>
            <a:ext cx="7672680" cy="8874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cc"/>
                </a:solidFill>
                <a:latin typeface="Verdana"/>
              </a:rPr>
              <a:t>Түсіндірме сөзді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0240" y="3855960"/>
            <a:ext cx="5713560" cy="901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Картинки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суре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7480" y="5133960"/>
            <a:ext cx="6307200" cy="9446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666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aa8456"/>
                </a:solidFill>
                <a:latin typeface="Verdana"/>
              </a:rPr>
              <a:t>Положение</a:t>
            </a:r>
            <a:r>
              <a:rPr b="1" lang="kk-KZ" sz="3200" spc="-1" strike="noStrike">
                <a:solidFill>
                  <a:srgbClr val="ffff00"/>
                </a:solidFill>
                <a:latin typeface="Verdana"/>
              </a:rPr>
              <a:t> - орналасу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800" spc="-1" strike="noStrike">
                <a:solidFill>
                  <a:srgbClr val="ffff00"/>
                </a:solidFill>
                <a:latin typeface="Brush Script MT"/>
              </a:rPr>
              <a:t>Қазақстан Республикасының президенті Н.Ә.Назарбаевтың Қазақстан халқына </a:t>
            </a:r>
            <a:br>
              <a:rPr sz="3800"/>
            </a:br>
            <a:r>
              <a:rPr b="0" i="1" lang="kk-KZ" sz="5100" spc="-1" strike="noStrike" u="sng">
                <a:solidFill>
                  <a:srgbClr val="ff9900"/>
                </a:solidFill>
                <a:uFillTx/>
                <a:latin typeface="Brush Script MT"/>
              </a:rPr>
              <a:t>жолдауы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94360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3:43:38Z</dcterms:created>
  <dc:creator>Кульзия</dc:creator>
  <dc:description/>
  <dc:language>en-US</dc:language>
  <cp:lastModifiedBy>User</cp:lastModifiedBy>
  <dcterms:modified xsi:type="dcterms:W3CDTF">2009-05-16T13:08:47Z</dcterms:modified>
  <cp:revision>321</cp:revision>
  <dc:subject/>
  <dc:title>конкур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030000000000010250500207f7000400038000</vt:lpwstr>
  </property>
</Properties>
</file>