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64C8-3E64-45D1-8B4F-7EC47E4B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7072-007C-451F-9DA6-3AF44F99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752-7DB8-476E-BEBE-00EF0731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909B-F2B6-4B83-B12C-FF2033AA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D1FA-1D98-4959-B85C-4204651B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6F0A-9829-4142-92E5-F20686EF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C758-3089-4C7A-BB22-455FCF35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02B1-2588-460E-9E75-DDB9AFD7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5680-E4FD-4B0F-A1F7-EA181EE7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329F-C264-4E94-A0D7-761E2EBC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FDED-8B1E-4443-8615-C0A79DE7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762F-A15C-4028-BA9E-1DF0BF1F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4E42-3C8C-441B-819D-21CBDD0A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0ABB-4BD5-4435-B113-51CF2C29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9BA8-5574-4B7A-850B-23D1F4A2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CAB9-DA22-4079-A71C-11761C32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5377-D37C-4AA7-96BA-B4F2F23E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DFB-45F9-4B9E-9702-F83518BB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F0A-AD3B-4F56-8DF3-E3CA0F28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7DBC-2831-45DD-8986-13718940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5594-E969-4DDB-AB29-5CC64F44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BFD1-0065-4258-B738-58C7FE67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07D-8C96-4A7C-B021-C1120C0C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33C5-30CE-4E73-9B1C-007D31BB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8036-8448-47FA-8840-9CB5EDC90DF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AE07-F0A8-4580-9294-2E382E7205B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24040" y="203040"/>
            <a:ext cx="7642080" cy="6843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i="1" lang="kk-KZ" sz="4000" spc="-1" strike="noStrike">
                <a:solidFill>
                  <a:srgbClr val="ffff66"/>
                </a:solidFill>
                <a:latin typeface="Verdana"/>
              </a:rPr>
              <a:t>Ауызша сұрақтар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793160"/>
            <a:ext cx="91440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Қандай программамен жұмыс жасап жатырмыз?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Программа қандай түрде ашылады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Қандай салаларда қолданылады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1760" y="223920"/>
            <a:ext cx="8458200" cy="17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 u="sng">
                <a:solidFill>
                  <a:srgbClr val="ff9900"/>
                </a:solidFill>
                <a:uFillTx/>
                <a:latin typeface="Freestyle Script"/>
              </a:rPr>
              <a:t>Жаңа онжылдық-жаңа экономикалық өрлеу-Қазақстанның жаңа мүмкіндіктері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27160"/>
            <a:ext cx="82296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“</a:t>
            </a: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Менің басты мақсатым-еліміздің алдағы онжылдықтағы экономикалық өрлеуін қамтамасыз етіп, жаңа мүмкіндіктерге жол ашу. Бүгінгі жолдауым осыған арналған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106800" y="2190600"/>
            <a:ext cx="145404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01600" y="0"/>
            <a:ext cx="8613720" cy="1062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9900"/>
                </a:solidFill>
                <a:latin typeface="Verdana"/>
              </a:rPr>
              <a:t>Адам – елдің басты байлығ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292400"/>
            <a:ext cx="8699400" cy="7570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Білім бер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236680"/>
            <a:ext cx="8626320" cy="7574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Денсаулық сақта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224160"/>
            <a:ext cx="8740800" cy="974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Өмір сапасын жақсарт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және әлеуметтік қорға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356000"/>
            <a:ext cx="8724960" cy="974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Ардагерлерге қамқорлық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502240"/>
            <a:ext cx="8710560" cy="1149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Тұрғын үй-коммуналдық сектор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саласындағы саясат</a:t>
            </a:r>
            <a:r>
              <a:rPr b="1" i="1" lang="ru-RU" sz="36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0000" y="0"/>
            <a:ext cx="4287600" cy="3348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00"/>
                </a:solidFill>
                <a:latin typeface="Verdana"/>
              </a:rPr>
              <a:t>Тест сұрақтары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-146" b="0"/>
          <a:stretch/>
        </p:blipFill>
        <p:spPr>
          <a:xfrm>
            <a:off x="909720" y="468360"/>
            <a:ext cx="7581960" cy="638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6400" y="2603520"/>
            <a:ext cx="3991320" cy="23781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Verdana"/>
              </a:rPr>
              <a:t>Оқулықта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49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-1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5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30840" y="2432160"/>
            <a:ext cx="3932280" cy="22604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Verdana"/>
              </a:rPr>
              <a:t>Дәптерге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Суреттің мәтінге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орналасу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0600" y="4826160"/>
            <a:ext cx="4554720" cy="1782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Microsoft Word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программасы бойынш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өткенді қайтала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70200" y="309600"/>
            <a:ext cx="5921280" cy="1755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cc3300"/>
                </a:solidFill>
                <a:latin typeface="Verdana"/>
              </a:rPr>
              <a:t>Үйге тапсырм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90520" y="2495520"/>
            <a:ext cx="8574120" cy="2476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Құжатқа сурет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кірістіру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4040" y="681120"/>
            <a:ext cx="7642080" cy="684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lang="kk-KZ" sz="4000" spc="-1" strike="noStrike">
                <a:solidFill>
                  <a:srgbClr val="aa8456"/>
                </a:solidFill>
                <a:latin typeface="Verdana"/>
              </a:rPr>
              <a:t>Сабақтың тақырыб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6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246240"/>
            <a:ext cx="857412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6600"/>
                </a:solidFill>
                <a:latin typeface="Verdana"/>
              </a:rPr>
              <a:t>Мақсат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2381400"/>
            <a:ext cx="8574120" cy="308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Word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мәтіндік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редакторының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мүмкіндіктерін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іс жүзінде  қолдану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3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6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6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65280" y="203040"/>
            <a:ext cx="7800840" cy="7146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i="1" lang="kk-KZ" sz="2800" spc="-1" strike="noStrike">
                <a:solidFill>
                  <a:srgbClr val="aa8456"/>
                </a:solidFill>
                <a:latin typeface="Verdana"/>
              </a:rPr>
              <a:t>Міндеттері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7800" y="3081240"/>
            <a:ext cx="8518680" cy="1214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Бұрынғы білімімізді толықтыр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" y="1596960"/>
            <a:ext cx="8429400" cy="1389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Word </a:t>
            </a:r>
            <a:r>
              <a:rPr b="1" lang="kk-KZ" sz="2800" spc="-1" strike="noStrike">
                <a:solidFill>
                  <a:srgbClr val="ffff00"/>
                </a:solidFill>
                <a:latin typeface="Verdana"/>
              </a:rPr>
              <a:t>редакторы бойынша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00"/>
                </a:solidFill>
                <a:latin typeface="Verdana"/>
              </a:rPr>
              <a:t>өткен материалдарды еске түсір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7920" y="4429080"/>
            <a:ext cx="8559720" cy="1301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Теориялық білімімізді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іс жүзінде қолдана біл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4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6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6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Үй тапсырмасы бойынша сұрақ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d 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мәтіндік редакторының қандай мүмкіндіктерін білеміз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82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Құжатқа сурет кірістіру әдісі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0" r="16" b="-24"/>
          <a:stretch/>
        </p:blipFill>
        <p:spPr>
          <a:xfrm>
            <a:off x="0" y="915840"/>
            <a:ext cx="9144000" cy="594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6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82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Суреттің орналасу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rcRect l="0" t="0" r="-8" b="0"/>
          <a:stretch/>
        </p:blipFill>
        <p:spPr>
          <a:xfrm>
            <a:off x="900000" y="858960"/>
            <a:ext cx="7507440" cy="5999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6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1120" y="1434960"/>
            <a:ext cx="4827600" cy="887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Вставка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кірістір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720" y="2668680"/>
            <a:ext cx="5219640" cy="8586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Рисунок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сур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2320" y="258840"/>
            <a:ext cx="7672680" cy="887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cc"/>
                </a:solidFill>
                <a:latin typeface="Verdana"/>
              </a:rPr>
              <a:t>Түсіндірме сөзді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0240" y="3855960"/>
            <a:ext cx="5713560" cy="9018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Картинки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сур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7480" y="5133960"/>
            <a:ext cx="6307200" cy="9446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Положение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орналасу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800" spc="-1" strike="noStrike">
                <a:solidFill>
                  <a:srgbClr val="ffff00"/>
                </a:solidFill>
                <a:latin typeface="Brush Script MT"/>
              </a:rPr>
              <a:t>Қазақстан Республикасының президенті Н.Ә.Назарбаевтың Қазақстан халқына </a:t>
            </a:r>
            <a:br>
              <a:rPr sz="3800"/>
            </a:br>
            <a:r>
              <a:rPr b="0" i="1" lang="kk-KZ" sz="5100" spc="-1" strike="noStrike" u="sng">
                <a:solidFill>
                  <a:srgbClr val="ff9900"/>
                </a:solidFill>
                <a:uFillTx/>
                <a:latin typeface="Brush Script MT"/>
              </a:rPr>
              <a:t>жолдауы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943600" cy="3800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-1)"/>
                                      </p:to>
                                    </p:set>
                                    <p:set>
                                      <p:cBhvr>
                                        <p:cTn id="170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-1)"/>
                                      </p:to>
                                    </p:set>
                                    <p:set>
                                      <p:cBhvr>
                                        <p:cTn id="171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3:43:38Z</dcterms:created>
  <dc:creator>Кульзия</dc:creator>
  <dc:description/>
  <dc:language>en-US</dc:language>
  <cp:lastModifiedBy>User</cp:lastModifiedBy>
  <dcterms:modified xsi:type="dcterms:W3CDTF">2009-05-16T13:08:47Z</dcterms:modified>
  <cp:revision>321</cp:revision>
  <dc:subject/>
  <dc:title>конкур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4030000000000010250500207f7000400038000</vt:lpwstr>
  </property>
</Properties>
</file>