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50C-60AA-465E-BF18-54572E0A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F44-1A56-4B5F-8E3C-3F58FDE0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829-3CE1-4F90-8C6C-984B040B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A3B-5C38-4606-878F-FEDC87BD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4116-73F0-4E84-9316-3CD0F3F6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5683-52B2-4644-95B3-4D0340C3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7A61-B1AB-4722-8DC0-F5F6622B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FC14-4416-43A7-97F5-A07DF690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46D5-274A-4E06-B539-ECD80F80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DF49-6614-4162-B6D6-34483854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B820-4239-4179-BF3D-897F13A8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B88-E8C5-45B5-8098-4D8E353E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EE83-C179-4380-90A2-5E167141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237C-F1E6-456A-BA02-5875C159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D714-577D-4290-A219-121E508C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EA5D-71F1-4A48-9913-D43974EC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B2B5-213C-43B5-A509-23A97A31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ED7-B404-49A8-9F84-24690FCF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7CC-F85F-427C-8388-7B09ACFA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486-6662-47B0-884A-A59DFC77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188-A4E2-4DA6-9FC8-9BE31D11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915-B727-493E-8201-9F951C6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41D-1E72-444F-9468-AC706EE9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52B-163B-4181-AE8A-2B82C0AD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54D1-4FB2-4851-B316-12C9764B8DB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8681-37A3-47BF-9723-52CB597B37A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4040" y="203040"/>
            <a:ext cx="7642080" cy="6843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4000" spc="-1" strike="noStrike">
                <a:solidFill>
                  <a:srgbClr val="ffff66"/>
                </a:solidFill>
                <a:latin typeface="Verdana"/>
              </a:rPr>
              <a:t>Ауызша сұрақтар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93160"/>
            <a:ext cx="9144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программамен жұмыс жасап жатырмыз?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Программа қандай түрде аш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салаларда қолдан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223920"/>
            <a:ext cx="845820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 u="sng">
                <a:solidFill>
                  <a:srgbClr val="ff9900"/>
                </a:solidFill>
                <a:uFillTx/>
                <a:latin typeface="Freestyle Script"/>
              </a:rPr>
              <a:t>Жаңа онжылдық-жаңа экономикалық өрлеу-Қазақстанның жаңа мүмкіндіктері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271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“</a:t>
            </a: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Менің басты мақсатым-еліміздің алдағы онжылдықтағы экономикалық өрлеуін қамтамасыз етіп, жаңа мүмкіндіктерге жол ашу. Бүгінгі жолдауым осыған арналған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106800" y="2190600"/>
            <a:ext cx="14540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1600" y="0"/>
            <a:ext cx="8613720" cy="1062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9900"/>
                </a:solidFill>
                <a:latin typeface="Verdana"/>
              </a:rPr>
              <a:t>Адам – елдің басты байлығ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92400"/>
            <a:ext cx="8699400" cy="757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Білім бер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36680"/>
            <a:ext cx="8626320" cy="757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Денсаулық сақт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24160"/>
            <a:ext cx="874080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Өмір сапасын жақсарт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және әлеуметтік қорғ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356000"/>
            <a:ext cx="872496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Ардагерлерге қамқорлық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502240"/>
            <a:ext cx="8710560" cy="1149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Тұрғын үй-коммуналдық сектор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саласындағы саясат</a:t>
            </a:r>
            <a:r>
              <a:rPr b="1" i="1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0000" y="0"/>
            <a:ext cx="4287600" cy="334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00"/>
                </a:solidFill>
                <a:latin typeface="Verdana"/>
              </a:rPr>
              <a:t>Тест сұрақтары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-146" b="0"/>
          <a:stretch/>
        </p:blipFill>
        <p:spPr>
          <a:xfrm>
            <a:off x="909720" y="468360"/>
            <a:ext cx="7581960" cy="638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6400" y="2603520"/>
            <a:ext cx="3991320" cy="23781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Оқулықт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49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-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5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30840" y="2432160"/>
            <a:ext cx="3932280" cy="22604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Дәптерг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Суреттің мәтінг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орналасу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0600" y="4826160"/>
            <a:ext cx="4554720" cy="1782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Microsoft Word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программасы бойынш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өткенді қайтала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0200" y="309600"/>
            <a:ext cx="5921280" cy="1755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Verdana"/>
              </a:rPr>
              <a:t>Үйге тапсырм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0520" y="2495520"/>
            <a:ext cx="8574120" cy="247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Құжатқа сурет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кірістіру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4040" y="681120"/>
            <a:ext cx="7642080" cy="684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lang="kk-KZ" sz="4000" spc="-1" strike="noStrike">
                <a:solidFill>
                  <a:srgbClr val="aa8456"/>
                </a:solidFill>
                <a:latin typeface="Verdana"/>
              </a:rPr>
              <a:t>Сабақтың тақырыб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46240"/>
            <a:ext cx="857412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6600"/>
                </a:solidFill>
                <a:latin typeface="Verdana"/>
              </a:rPr>
              <a:t>Мақсат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2381400"/>
            <a:ext cx="8574120" cy="308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Word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мәтіндік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редакторының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мүмкіндіктерін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іс жүзінде  қолдану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5280" y="203040"/>
            <a:ext cx="7800840" cy="714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aa8456"/>
                </a:solidFill>
                <a:latin typeface="Verdana"/>
              </a:rPr>
              <a:t>Міндеттері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800" y="3081240"/>
            <a:ext cx="8518680" cy="121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Бұрынғы білімімізді толықты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" y="1596960"/>
            <a:ext cx="8429400" cy="1389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Word </a:t>
            </a: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редакторы бойынш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өткен материалдарды еске түсір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920" y="4429080"/>
            <a:ext cx="8559720" cy="1301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Теориялық білімімізді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іс жүзінде қолдана біл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4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6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Үй тапсырмасы бойынша сұрақ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 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мәтіндік редакторының қандай мүмкіндіктерін білеміз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Құжатқа сурет кірістіру әдісі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16" b="-24"/>
          <a:stretch/>
        </p:blipFill>
        <p:spPr>
          <a:xfrm>
            <a:off x="0" y="91584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6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Суреттің орналасу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0" t="0" r="-8" b="0"/>
          <a:stretch/>
        </p:blipFill>
        <p:spPr>
          <a:xfrm>
            <a:off x="900000" y="858960"/>
            <a:ext cx="7507440" cy="599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1120" y="1434960"/>
            <a:ext cx="482760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Вставка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кірісті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720" y="2668680"/>
            <a:ext cx="5219640" cy="858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Рисунок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320" y="258840"/>
            <a:ext cx="767268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cc"/>
                </a:solidFill>
                <a:latin typeface="Verdana"/>
              </a:rPr>
              <a:t>Түсіндірме сөзді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0240" y="3855960"/>
            <a:ext cx="5713560" cy="901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Картинки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7480" y="5133960"/>
            <a:ext cx="6307200" cy="944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Положение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орналасу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800" spc="-1" strike="noStrike">
                <a:solidFill>
                  <a:srgbClr val="ffff00"/>
                </a:solidFill>
                <a:latin typeface="Brush Script MT"/>
              </a:rPr>
              <a:t>Қазақстан Республикасының президенті Н.Ә.Назарбаевтың Қазақстан халқына </a:t>
            </a:r>
            <a:br>
              <a:rPr sz="3800"/>
            </a:br>
            <a:r>
              <a:rPr b="0" i="1" lang="kk-KZ" sz="5100" spc="-1" strike="noStrike" u="sng">
                <a:solidFill>
                  <a:srgbClr val="ff9900"/>
                </a:solidFill>
                <a:uFillTx/>
                <a:latin typeface="Brush Script MT"/>
              </a:rPr>
              <a:t>жолдауы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94360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3:43:38Z</dcterms:created>
  <dc:creator>Кульзия</dc:creator>
  <dc:description/>
  <dc:language>en-US</dc:language>
  <cp:lastModifiedBy>User</cp:lastModifiedBy>
  <dcterms:modified xsi:type="dcterms:W3CDTF">2009-05-16T13:08:47Z</dcterms:modified>
  <cp:revision>321</cp:revision>
  <dc:subject/>
  <dc:title>конкур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30000000000010250500207f7000400038000</vt:lpwstr>
  </property>
</Properties>
</file>