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0B0-70D7-46DC-9DE4-C0B19C3A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3BF-E495-4F09-9B0F-2C1ADD30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6AD-5623-4F71-8F9C-17790C1D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06E-A4A3-4EFD-AF85-84E69715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3F8D-8DC7-4FED-9954-FA2A20CF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AA8B-9F97-4FDE-B770-77F8F834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5D04-D30E-4F53-9A65-2F03FE58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9C92-C1FD-4699-AAD4-F7176EF0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B06C-B1BF-411B-AAD5-BA443674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5FD4-1839-4996-93CD-8D4ABA7D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DDF5-102B-45BA-BDDD-BFBEA44A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756-4663-481B-B0F9-416D41E2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8E6F-8E42-48F9-BD29-2B62D853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EF1A-0A35-4252-ABD4-C80AEF90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C301-50EE-444A-855B-F35386C7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32A1-56FA-443B-9CCC-44756A44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320B-F6B9-4BAD-984F-28DA0C37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DA7-9DD7-4191-99A1-BFAF2F2F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1A4-5051-440A-BE53-E9485338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3B4-9678-4649-84DA-3E669CB5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B81-C246-47D0-AE69-C83BE022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9AB-6C02-44C2-848B-2036E544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F28-5DE6-4FC9-A071-159C9E8C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964D-E216-4B08-A6F5-01A62D37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1AA6-5C5C-48E6-B1F7-2807EC14178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8BE8-FF54-4C4F-B737-49292BA068E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4040" y="203040"/>
            <a:ext cx="7642080" cy="6843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4000" spc="-1" strike="noStrike">
                <a:solidFill>
                  <a:srgbClr val="ffff66"/>
                </a:solidFill>
                <a:latin typeface="Verdana"/>
              </a:rPr>
              <a:t>Ауызша сұрақтар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93160"/>
            <a:ext cx="91440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программамен жұмыс жасап жатырмыз?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Программа қандай түрде аш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салаларда қолдан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223920"/>
            <a:ext cx="8458200" cy="17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 u="sng">
                <a:solidFill>
                  <a:srgbClr val="ff9900"/>
                </a:solidFill>
                <a:uFillTx/>
                <a:latin typeface="Freestyle Script"/>
              </a:rPr>
              <a:t>Жаңа онжылдық-жаңа экономикалық өрлеу-Қазақстанның жаңа мүмкіндіктері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2716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“</a:t>
            </a: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Менің басты мақсатым-еліміздің алдағы онжылдықтағы экономикалық өрлеуін қамтамасыз етіп, жаңа мүмкіндіктерге жол ашу. Бүгінгі жолдауым осыған арналған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106800" y="2190600"/>
            <a:ext cx="145404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01600" y="0"/>
            <a:ext cx="8613720" cy="1062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9900"/>
                </a:solidFill>
                <a:latin typeface="Verdana"/>
              </a:rPr>
              <a:t>Адам – елдің басты байлығ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292400"/>
            <a:ext cx="8699400" cy="7570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Білім бер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236680"/>
            <a:ext cx="8626320" cy="7574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Денсаулық сақт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24160"/>
            <a:ext cx="874080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Өмір сапасын жақсарт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және әлеуметтік қорғ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356000"/>
            <a:ext cx="872496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Ардагерлерге қамқорлық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502240"/>
            <a:ext cx="8710560" cy="1149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Тұрғын үй-коммуналдық сектор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саласындағы саясат</a:t>
            </a:r>
            <a:r>
              <a:rPr b="1" i="1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0000" y="0"/>
            <a:ext cx="4287600" cy="334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00"/>
                </a:solidFill>
                <a:latin typeface="Verdana"/>
              </a:rPr>
              <a:t>Тест сұрақтары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-146" b="0"/>
          <a:stretch/>
        </p:blipFill>
        <p:spPr>
          <a:xfrm>
            <a:off x="909720" y="468360"/>
            <a:ext cx="7581960" cy="638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6400" y="2603520"/>
            <a:ext cx="3991320" cy="23781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Оқулықта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49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-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5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30840" y="2432160"/>
            <a:ext cx="3932280" cy="22604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Дәптерге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Суреттің мәтінг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орналасу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0600" y="4826160"/>
            <a:ext cx="4554720" cy="1782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Microsoft Word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программасы бойынш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өткенді қайтала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70200" y="309600"/>
            <a:ext cx="5921280" cy="1755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Verdana"/>
              </a:rPr>
              <a:t>Үйге тапсырм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90520" y="2495520"/>
            <a:ext cx="8574120" cy="247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Құжатқа сурет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кірістіру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4040" y="681120"/>
            <a:ext cx="7642080" cy="684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lang="kk-KZ" sz="4000" spc="-1" strike="noStrike">
                <a:solidFill>
                  <a:srgbClr val="aa8456"/>
                </a:solidFill>
                <a:latin typeface="Verdana"/>
              </a:rPr>
              <a:t>Сабақтың тақырыб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46240"/>
            <a:ext cx="857412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6600"/>
                </a:solidFill>
                <a:latin typeface="Verdana"/>
              </a:rPr>
              <a:t>Мақсат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2381400"/>
            <a:ext cx="8574120" cy="308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Word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мәтіндік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редакторының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мүмкіндіктерін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іс жүзінде  қолдану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3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65280" y="203040"/>
            <a:ext cx="7800840" cy="714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aa8456"/>
                </a:solidFill>
                <a:latin typeface="Verdana"/>
              </a:rPr>
              <a:t>Міндеттері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800" y="3081240"/>
            <a:ext cx="8518680" cy="121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Бұрынғы білімімізді толықты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" y="1596960"/>
            <a:ext cx="8429400" cy="1389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Word </a:t>
            </a: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редакторы бойынш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өткен материалдарды еске түсір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920" y="4429080"/>
            <a:ext cx="8559720" cy="1301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Теориялық білімімізді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іс жүзінде қолдана біл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4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6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6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Үй тапсырмасы бойынша сұрақ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d 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мәтіндік редакторының қандай мүмкіндіктерін білеміз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Құжатқа сурет кірістіру әдісі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0" r="16" b="-24"/>
          <a:stretch/>
        </p:blipFill>
        <p:spPr>
          <a:xfrm>
            <a:off x="0" y="915840"/>
            <a:ext cx="9144000" cy="594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6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Суреттің орналасу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0" t="0" r="-8" b="0"/>
          <a:stretch/>
        </p:blipFill>
        <p:spPr>
          <a:xfrm>
            <a:off x="900000" y="858960"/>
            <a:ext cx="7507440" cy="5999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6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1120" y="1434960"/>
            <a:ext cx="482760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Вставка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кірісті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720" y="2668680"/>
            <a:ext cx="5219640" cy="858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Рисунок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2320" y="258840"/>
            <a:ext cx="767268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cc"/>
                </a:solidFill>
                <a:latin typeface="Verdana"/>
              </a:rPr>
              <a:t>Түсіндірме сөзді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0240" y="3855960"/>
            <a:ext cx="5713560" cy="901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Картинки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7480" y="5133960"/>
            <a:ext cx="6307200" cy="9446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Положение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орналасу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800" spc="-1" strike="noStrike">
                <a:solidFill>
                  <a:srgbClr val="ffff00"/>
                </a:solidFill>
                <a:latin typeface="Brush Script MT"/>
              </a:rPr>
              <a:t>Қазақстан Республикасының президенті Н.Ә.Назарбаевтың Қазақстан халқына </a:t>
            </a:r>
            <a:br>
              <a:rPr sz="3800"/>
            </a:br>
            <a:r>
              <a:rPr b="0" i="1" lang="kk-KZ" sz="5100" spc="-1" strike="noStrike" u="sng">
                <a:solidFill>
                  <a:srgbClr val="ff9900"/>
                </a:solidFill>
                <a:uFillTx/>
                <a:latin typeface="Brush Script MT"/>
              </a:rPr>
              <a:t>жолдауы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943600" cy="3800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3:43:38Z</dcterms:created>
  <dc:creator>Кульзия</dc:creator>
  <dc:description/>
  <dc:language>en-US</dc:language>
  <cp:lastModifiedBy>User</cp:lastModifiedBy>
  <dcterms:modified xsi:type="dcterms:W3CDTF">2009-05-16T13:08:47Z</dcterms:modified>
  <cp:revision>321</cp:revision>
  <dc:subject/>
  <dc:title>конкур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30000000000010250500207f7000400038000</vt:lpwstr>
  </property>
</Properties>
</file>