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1F1-307E-47B1-8B98-C8A04185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AFE-0E58-4E7D-B99C-6B9F3D8D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D1A-FA1E-4F39-9F1F-4C1E3A38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E05-E006-41D9-B5F3-4253CA36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1B45-099A-4991-8F91-2BEDF52A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5176-3E62-4612-8D9B-F0B54202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9CF7-3E99-4A82-A66A-6799C193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4132-2D35-476E-B6A4-95C519B8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9110-052A-4129-A8C1-62E426F3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7C3D-C44D-427A-8EDC-79075073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EED1-7066-4AB5-BEB1-6F90498B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C12-58E6-40C9-851B-DFE95606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23F4-57CF-43B8-964F-AFD2EEE8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5B83-428A-48E7-8989-8BE1690D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6BA5-69A7-46B5-821A-94ADCF87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5E71-0069-4D7A-BB1D-74977D47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7274-2521-41D7-BF9C-40426D0B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408-F907-43EE-A6CA-C14C9C3D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A46-9F6D-458C-BED0-F628846A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3EE-9402-4FE8-A8B1-B860F581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68E-C214-442F-AE29-413E075C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C76-2CBB-4686-9183-FEB0FB2B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A92-7A0C-46F0-9AA0-6DDB5918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CA1-F2F9-446B-86CA-7A91DA8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10DD-81CB-4C96-8494-10550332991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B376-B098-43B4-9D58-6F044205CD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оненттері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96-97 б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8064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7440" y="0"/>
            <a:ext cx="50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4400" spc="-1" strike="noStrike">
                <a:solidFill>
                  <a:srgbClr val="660066"/>
                </a:solidFill>
                <a:latin typeface="Comic Sans MS"/>
              </a:rPr>
              <a:t>Негізгі қасиетте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907920"/>
            <a:ext cx="0" cy="595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76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4800" y="6922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484280"/>
            <a:ext cx="180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232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84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ске қосылуын орн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2392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 өзгерту   (0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600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ет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6840720" cy="317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3589200"/>
            <a:ext cx="38163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43640" cy="40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99096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365720"/>
            <a:ext cx="482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уыстырғыштың іске қосылу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ауыстырғыштың ажыратылу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5000" cy="352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118040" cy="652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407664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алауша орнатылма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жалауша орнатыл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– белгісіз к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16360" cy="3467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082760" cy="532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4221000"/>
            <a:ext cx="34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 – кәдімгі тү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батырма секілді өзге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6870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ішінде(формада) орнатылған ауыстырғыштар мен жалаушалар арқылы мәтіннің (текстің) жазылу үлгілерін орнататын қосымша жаса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5596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63520"/>
            <a:ext cx="4680000" cy="560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   Times New Roman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ыз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Жас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Кө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341360"/>
            <a:ext cx="3816360" cy="289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c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л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Check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ур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xtB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а Әә Бб Вв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11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003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5011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41708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1125360"/>
            <a:ext cx="6400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53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3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4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95640" y="0"/>
            <a:ext cx="55450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Text1_GotFoc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1.Value = Checked Then Text1.FontBold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Bold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2.Value = Checked Then Text1.FontItalic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Italic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Үйге тапсыр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6-97 бет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83272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756720" y="1197000"/>
            <a:ext cx="64620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197000"/>
            <a:ext cx="93636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5080" y="40464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320" y="333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2852280"/>
            <a:ext cx="21592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73360"/>
            <a:ext cx="237636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Ауыстырып қосқ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528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26920" y="429264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әліметтер топтамасы ішінен тек бір вариантын ғана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9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852640"/>
            <a:ext cx="1224000" cy="1081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 Жалауш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144144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482436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4365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птамалар ішінен бір немесе бірнеше вариант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4:46Z</dcterms:created>
  <dc:creator>Камила</dc:creator>
  <dc:description/>
  <dc:language>en-US</dc:language>
  <cp:lastModifiedBy>Камила</cp:lastModifiedBy>
  <dcterms:modified xsi:type="dcterms:W3CDTF">2010-12-31T17:26:29Z</dcterms:modified>
  <cp:revision>30</cp:revision>
  <dc:subject/>
  <dc:title>OptionButton Ауыстырып ќосќыш,  CheckBox Жалауша </dc:title>
</cp:coreProperties>
</file>