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6CB6-33AB-4B89-A35B-B1972722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402-6F8E-4939-AB69-783AA4CC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0B3-6252-4CD3-886E-8254C8FD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C61B-BC07-422D-A928-80D132C1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33C1-9427-4F3F-9693-1F1590A9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57D6-1774-489C-BCEA-B5F37420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6C8D-E09E-404F-824D-B646D0FE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B2A9-B755-47E5-A59D-606025B0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05DA-1682-4E04-912D-69B53112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788D-765B-4FFF-BE40-970E4BB9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7142-4FEF-47EB-A738-96682D2A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BD7-6047-4983-AF69-C6F3683A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BBC0-096C-446C-BABB-8540A21A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AF09-C0BD-4546-9291-EC5EE9AA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D828-0A10-4250-8895-65B06D31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C5AF-CC57-4E48-AA09-97C5A5B8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872D-F652-4C03-ACF0-7C3B40E6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105-921B-4573-A5D8-9C9FA9B9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69A-30DF-4229-A8AD-BAF6B9D0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5B14-A7EE-48B0-AB8A-FAE59C63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ADA-E991-42A0-B2F1-4FD12911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73BC-BAB5-4E0F-A8D9-77612E41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1186-3A17-47D2-A372-641BB2FA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B387-ACBF-471C-9C0F-A7E49565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ACF4-017A-4411-BE68-A139E2FADF6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11EF-CAE4-4AEB-B646-30F66C40EE6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988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onButton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мпоненттері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45082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96-97 б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349200"/>
            <a:ext cx="806436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47440" y="0"/>
            <a:ext cx="506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k-KZ" sz="4400" spc="-1" strike="noStrike">
                <a:solidFill>
                  <a:srgbClr val="660066"/>
                </a:solidFill>
                <a:latin typeface="Comic Sans MS"/>
              </a:rPr>
              <a:t>Негізгі қасиетте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907920"/>
            <a:ext cx="0" cy="595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60720" y="76500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14800" y="6922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1484280"/>
            <a:ext cx="18003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aption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c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re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1484280"/>
            <a:ext cx="2232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aption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c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re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842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Іске қосылуын орн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02392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үрін өзгерту   (0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6002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рет қ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6840720" cy="3170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771640" y="3589200"/>
            <a:ext cx="381636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43640" cy="4024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003640" y="333360"/>
            <a:ext cx="3990960" cy="6048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4365720"/>
            <a:ext cx="4826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уыстырғыштың іске қосылу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н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Fals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ауыстырғыштың ажыратылу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75000" cy="3527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4118040" cy="6524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11280" y="4076640"/>
            <a:ext cx="36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алауша орнатылмаған күй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– жалауша орнатылған күй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 – белгісіз кү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816360" cy="3467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4082760" cy="5327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68360" y="4221000"/>
            <a:ext cx="34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0 – кәдімгі тү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– батырма секілді өзгер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6870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ішінде(формада) орнатылған ауыстырғыштар мен жалаушалар арқылы мәтіннің (текстің) жазылу үлгілерін орнататын қосымша жаса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55964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79280" y="1163520"/>
            <a:ext cx="4680000" cy="5607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   Times New Roman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ыз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Жас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Кө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1341360"/>
            <a:ext cx="3816360" cy="2896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ck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лы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. Check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Кур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extBo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а Әә Бб Вв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072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2492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24000" y="32115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24000" y="40035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50115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77080" y="1700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7708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41708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76360" y="1125360"/>
            <a:ext cx="64008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onButton </a:t>
            </a:r>
            <a:r>
              <a:rPr b="0" lang="kk-KZ" sz="4400" spc="-1" strike="noStrike">
                <a:solidFill>
                  <a:srgbClr val="000099"/>
                </a:solidFill>
                <a:latin typeface="Comic Sans MS"/>
              </a:rPr>
              <a:t>Ауыстырып қосқыш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99"/>
                </a:solidFill>
                <a:latin typeface="Comic Sans MS"/>
              </a:rPr>
              <a:t>Жалауша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08000" y="0"/>
            <a:ext cx="532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2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3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4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95640" y="0"/>
            <a:ext cx="554508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Check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Set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Check2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Set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Text1_GotFocu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If Check1.Value = Checked Then Text1.FontBold = True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Else Text1.FontBold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If Check2.Value = Checked Then Text1.FontItalic = True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Else Text1.FontItalic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Үйге тапсыр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6-97 бетте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k-KZ" sz="3200" spc="-1" strike="noStrike">
                <a:solidFill>
                  <a:srgbClr val="000099"/>
                </a:solidFill>
                <a:latin typeface="Comic Sans MS"/>
              </a:rPr>
              <a:t>Ауыстырып қосқыш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k-KZ" sz="3200" spc="-1" strike="noStrike">
                <a:solidFill>
                  <a:srgbClr val="000099"/>
                </a:solidFill>
                <a:latin typeface="Comic Sans MS"/>
              </a:rPr>
              <a:t>Жалауша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5832720" cy="3808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756720" y="1197000"/>
            <a:ext cx="646200" cy="26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197000"/>
            <a:ext cx="936360" cy="18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5080" y="40464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320" y="33336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2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900000" y="2852280"/>
            <a:ext cx="215928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573360"/>
            <a:ext cx="237636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tionButton </a:t>
            </a: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Ауыстырып қосқы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5280" cy="2016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2521080" cy="1882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26920" y="4292640"/>
            <a:ext cx="749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әліметтер топтамасы ішінен тек бір вариантын ғана таңдауына мүмкіндік беред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19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9280" y="2852640"/>
            <a:ext cx="1224000" cy="1081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84072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 Жалауш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1441440" cy="1513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4824360" cy="1871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4365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оптамалар ішінен бір немесе бірнеше вариант таңдауына мүмкіндік беред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06436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8:54:46Z</dcterms:created>
  <dc:creator>Камила</dc:creator>
  <dc:description/>
  <dc:language>en-US</dc:language>
  <cp:lastModifiedBy>Камила</cp:lastModifiedBy>
  <dcterms:modified xsi:type="dcterms:W3CDTF">2010-12-31T17:26:29Z</dcterms:modified>
  <cp:revision>30</cp:revision>
  <dc:subject/>
  <dc:title>OptionButton Ауыстырып ќосќыш,  CheckBox Жалауша </dc:title>
</cp:coreProperties>
</file>