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C85-733E-42C7-9B5D-9A8BBDA8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5BE-8E7A-4AC4-98F2-358123D6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D67-03AF-499B-91A9-887BF019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156-62E9-41AD-B8D6-32589F00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FEFD-9694-4CAF-A42C-C1FB5E66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3992-5F8F-4631-8CED-96BD74CA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A594-A122-4ADC-BA06-709AEAA5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2E0B-FD82-4D25-A85D-1226601A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7EC8-E34E-40E7-ABA3-6CAD5CCD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D744-93CB-45CE-A4E3-9CC4A7D9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AFC3-D6E4-4C71-904F-9736C680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F3F-5F16-40B1-8C65-45AB2A3D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99E7-92A3-4130-B18E-C5B54E26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42E4-7B9C-4BCC-A459-D10EFAAA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36AB-79C0-47D0-A336-F6BFD718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C0BF-C7A1-48E6-A139-2EE1F8C6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ECB3-10AA-44CD-9AD1-1230ACF7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BD6-CCE9-4302-BC7B-53E2CE3A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406-9D0E-420D-B11A-4915CB51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51C-7ADF-48B8-9AF1-8755631A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3F0-D7E1-46BD-800A-02EFA76F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B1C-9D91-48B6-B6AA-ACD12F58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54D-2ABD-4C03-BE8E-332E3827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1C6-2796-4120-B39E-3444BA14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5414-3103-4F06-993A-D51AF06E4C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EA4C-0184-4EF7-B90F-E299611F21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оненттері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96-97 б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8064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7440" y="0"/>
            <a:ext cx="50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4400" spc="-1" strike="noStrike">
                <a:solidFill>
                  <a:srgbClr val="660066"/>
                </a:solidFill>
                <a:latin typeface="Comic Sans MS"/>
              </a:rPr>
              <a:t>Негізгі қасиетте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907920"/>
            <a:ext cx="0" cy="595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76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4800" y="6922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484280"/>
            <a:ext cx="180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232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84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ске қосылуын орн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2392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 өзгерту   (0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600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ет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6840720" cy="317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3589200"/>
            <a:ext cx="38163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43640" cy="40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99096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365720"/>
            <a:ext cx="482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уыстырғыштың іске қосылу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ауыстырғыштың ажыратылу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5000" cy="352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118040" cy="652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407664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алауша орнатылма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жалауша орнатыл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– белгісіз к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16360" cy="3467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082760" cy="532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4221000"/>
            <a:ext cx="34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 – кәдімгі тү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батырма секілді өзге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6870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ішінде(формада) орнатылған ауыстырғыштар мен жалаушалар арқылы мәтіннің (текстің) жазылу үлгілерін орнататын қосымша жаса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5596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63520"/>
            <a:ext cx="4680000" cy="560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   Times New Roman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ыз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Жас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Кө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341360"/>
            <a:ext cx="3816360" cy="289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c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л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Check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ур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xtB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а Әә Бб Вв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11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003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5011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41708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1125360"/>
            <a:ext cx="6400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53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3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4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95640" y="0"/>
            <a:ext cx="55450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Text1_GotFoc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1.Value = Checked Then Text1.FontBold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Bold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2.Value = Checked Then Text1.FontItalic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Italic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Үйге тапсыр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6-97 бет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83272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756720" y="1197000"/>
            <a:ext cx="64620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197000"/>
            <a:ext cx="93636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5080" y="40464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320" y="333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2852280"/>
            <a:ext cx="21592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73360"/>
            <a:ext cx="237636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Ауыстырып қосқ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528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26920" y="429264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әліметтер топтамасы ішінен тек бір вариантын ғана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9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852640"/>
            <a:ext cx="1224000" cy="1081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 Жалауш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144144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482436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4365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птамалар ішінен бір немесе бірнеше вариант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4:46Z</dcterms:created>
  <dc:creator>Камила</dc:creator>
  <dc:description/>
  <dc:language>en-US</dc:language>
  <cp:lastModifiedBy>Камила</cp:lastModifiedBy>
  <dcterms:modified xsi:type="dcterms:W3CDTF">2010-12-31T17:26:29Z</dcterms:modified>
  <cp:revision>30</cp:revision>
  <dc:subject/>
  <dc:title>OptionButton Ауыстырып ќосќыш,  CheckBox Жалауша </dc:title>
</cp:coreProperties>
</file>