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082-A084-4E6E-B3B1-FCACF21A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61E-DA55-475C-8657-86218E61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36E-0388-4DAA-A479-09480785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D13B-9616-4183-BC0B-C49A3DDF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A3CD-9200-4A13-97ED-8F35E676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9E97-8487-4350-891D-2ED5C1D4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6478-7079-4761-B75F-64A1837A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BA1E-E7A2-4815-8B2C-F127661E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9248-6564-4C41-8B7A-18190811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3A62-033A-4569-BF15-3426A6D6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312C-B666-4FE4-A5AD-8C2C9FEB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856-1D98-4364-B7C1-777C858A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2EA6-BC17-499A-96CB-0C1ECAE9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25EF-B5A3-403F-8BB6-C4F09A03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249E-0201-4F6E-AF2D-B7E071BE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18B6-F1AD-4BA5-A4A1-5FB8E823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9A76-AEF0-4DCE-AD5E-F1813095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1BA-CE3D-42F8-9136-688E4826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3544-20BF-435E-BBA8-A02CCF70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291-F8EF-42E8-9A11-B2DFBA45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4BD-AC82-4391-B79B-50BE1954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C743-1A04-4E8B-B35C-C606869A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52FF-C138-4C7B-B04B-CEBF9D2D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584-9B50-4D20-8F5B-6B8D84E6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DF93-93A4-4C23-B996-167608B1B1D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662A-B4E0-4441-8F4B-61B0CDCBCD8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988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onButton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мпоненттері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45082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96-97 б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349200"/>
            <a:ext cx="806436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47440" y="0"/>
            <a:ext cx="506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k-KZ" sz="4400" spc="-1" strike="noStrike">
                <a:solidFill>
                  <a:srgbClr val="660066"/>
                </a:solidFill>
                <a:latin typeface="Comic Sans MS"/>
              </a:rPr>
              <a:t>Негізгі қасиетте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907920"/>
            <a:ext cx="0" cy="595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60720" y="76500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14800" y="6922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1484280"/>
            <a:ext cx="18003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aption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c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re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1484280"/>
            <a:ext cx="2232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aption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c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re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842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Іске қосылуын орн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02392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үрін өзгерту   (0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6002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рет қ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6840720" cy="3170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771640" y="3589200"/>
            <a:ext cx="381636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43640" cy="4024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003640" y="333360"/>
            <a:ext cx="3990960" cy="6048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4365720"/>
            <a:ext cx="4826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уыстырғыштың іске қосылу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н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Fals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ауыстырғыштың ажыратылу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75000" cy="3527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4118040" cy="6524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11280" y="4076640"/>
            <a:ext cx="36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алауша орнатылмаған күй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– жалауша орнатылған күй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 – белгісіз кү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816360" cy="3467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4082760" cy="5327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68360" y="4221000"/>
            <a:ext cx="34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0 – кәдімгі тү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– батырма секілді өзгер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6870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ішінде(формада) орнатылған ауыстырғыштар мен жалаушалар арқылы мәтіннің (текстің) жазылу үлгілерін орнататын қосымша жаса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55964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79280" y="1163520"/>
            <a:ext cx="4680000" cy="5607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   Times New Roman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ыз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Жас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Кө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1341360"/>
            <a:ext cx="3816360" cy="2896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ck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лы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. Check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Кур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extBo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а Әә Бб Вв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072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2492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24000" y="32115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24000" y="40035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50115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77080" y="1700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7708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41708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76360" y="1125360"/>
            <a:ext cx="64008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onButton </a:t>
            </a:r>
            <a:r>
              <a:rPr b="0" lang="kk-KZ" sz="4400" spc="-1" strike="noStrike">
                <a:solidFill>
                  <a:srgbClr val="000099"/>
                </a:solidFill>
                <a:latin typeface="Comic Sans MS"/>
              </a:rPr>
              <a:t>Ауыстырып қосқыш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99"/>
                </a:solidFill>
                <a:latin typeface="Comic Sans MS"/>
              </a:rPr>
              <a:t>Жалауша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08000" y="0"/>
            <a:ext cx="532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2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3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4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95640" y="0"/>
            <a:ext cx="554508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Check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Set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Check2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Set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Text1_GotFocu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If Check1.Value = Checked Then Text1.FontBold = True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Else Text1.FontBold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If Check2.Value = Checked Then Text1.FontItalic = True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Else Text1.FontItalic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Үйге тапсыр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6-97 бетте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k-KZ" sz="3200" spc="-1" strike="noStrike">
                <a:solidFill>
                  <a:srgbClr val="000099"/>
                </a:solidFill>
                <a:latin typeface="Comic Sans MS"/>
              </a:rPr>
              <a:t>Ауыстырып қосқыш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k-KZ" sz="3200" spc="-1" strike="noStrike">
                <a:solidFill>
                  <a:srgbClr val="000099"/>
                </a:solidFill>
                <a:latin typeface="Comic Sans MS"/>
              </a:rPr>
              <a:t>Жалауша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5832720" cy="3808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756720" y="1197000"/>
            <a:ext cx="646200" cy="26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197000"/>
            <a:ext cx="936360" cy="18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5080" y="40464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320" y="33336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2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900000" y="2852280"/>
            <a:ext cx="215928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573360"/>
            <a:ext cx="237636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tionButton </a:t>
            </a: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Ауыстырып қосқы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5280" cy="2016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2521080" cy="1882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26920" y="4292640"/>
            <a:ext cx="749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әліметтер топтамасы ішінен тек бір вариантын ғана таңдауына мүмкіндік беред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19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9280" y="2852640"/>
            <a:ext cx="1224000" cy="1081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84072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 Жалауш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1441440" cy="1513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4824360" cy="1871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4365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оптамалар ішінен бір немесе бірнеше вариант таңдауына мүмкіндік беред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06436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8:54:46Z</dcterms:created>
  <dc:creator>Камила</dc:creator>
  <dc:description/>
  <dc:language>en-US</dc:language>
  <cp:lastModifiedBy>Камила</cp:lastModifiedBy>
  <dcterms:modified xsi:type="dcterms:W3CDTF">2010-12-31T17:26:29Z</dcterms:modified>
  <cp:revision>30</cp:revision>
  <dc:subject/>
  <dc:title>OptionButton Ауыстырып ќосќыш,  CheckBox Жалауша </dc:title>
</cp:coreProperties>
</file>