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59D-F6F4-4AA5-BB8F-C8947E78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2D8-4795-46A7-8021-FD0126E0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FA6-2632-4B39-8B8A-76773201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142-758F-4B3B-8936-C305E9B9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3AB-E70E-472E-80E5-E02C4A8F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1AC-BDE7-4B52-8F3E-82C6175F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0A4-DAAF-4234-839C-82C34BF1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AFF-71CE-46EA-AF82-E65857BA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1F6-2E32-488C-9CD1-EF015595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BE8-5C4B-439C-BC9A-67F08F33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18C-CD0D-4E7B-91E1-8CEEBB00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283-266B-49B7-B780-B4D6E5DA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D6EF-B2C8-4B62-9E6F-ED85B8CA8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76320"/>
            <a:ext cx="8305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аскаль-программалау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тілі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51814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6600"/>
                </a:solidFill>
                <a:latin typeface="Times New Roman"/>
              </a:rPr>
              <a:t>9-сыны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80880"/>
            <a:ext cx="8458200" cy="457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8600"/>
            <a:ext cx="8534520" cy="91440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ROGRAM  BASTAU: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143000"/>
            <a:ext cx="8534520" cy="914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057400"/>
            <a:ext cx="8534520" cy="83808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895480"/>
            <a:ext cx="8534520" cy="1067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1055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66"/>
                </a:solidFill>
                <a:latin typeface="Times New Roman"/>
              </a:rPr>
              <a:t>Паскаль тіліндегі программа құрылы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962520"/>
            <a:ext cx="8534520" cy="990360"/>
          </a:xfrm>
          <a:prstGeom prst="flowChartProcess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76320"/>
            <a:ext cx="8153640" cy="990360"/>
          </a:xfrm>
          <a:prstGeom prst="wedgeRoundRectCallout">
            <a:avLst>
              <a:gd name="adj1" fmla="val -42115"/>
              <a:gd name="adj2" fmla="val 168430"/>
              <a:gd name="adj3" fmla="val 16667"/>
            </a:avLst>
          </a:prstGeom>
          <a:solidFill>
            <a:srgbClr val="ccff99"/>
          </a:solidFill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ff0000"/>
                </a:solidFill>
                <a:latin typeface="Times New Roman"/>
              </a:rPr>
              <a:t>Операторлар бөлімінде орындалатын негізгі әрекеттер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981080"/>
            <a:ext cx="8763120" cy="46483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сан мәндері мен мәтін түріндегі сөз тіркестерін мән реті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абылдай алатын тұрақтылар (константалар), айнымалылар, т.б. Осы тәрізд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ұрылымдар, немесе солардың адрестер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циялар немесе амалда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ерілген және есептелген мәндерді меншікте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оларды өңдеу, салыстыру амалдарын орындай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әтиже алу (шығару)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аралық немесе қорытынды мәліметтерді экранғ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искіге немесе енгізу-шығару порттарына жаз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Цикл-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елгілі бір шарттар орындалған (кейде орындалмаған) жағдайда көрсетілг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омандалар жиыны бірнеше рет қайталанып атқарылады. Қайталау саны бүті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нмен беріледі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1522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4300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640" y="76320"/>
            <a:ext cx="87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Ү. Жаңа сабақты бекітуге арналған жаттығулар (есептер, сараманд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ұмыстар, зертханалық жұмыстар, тесттік бақылаул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838080"/>
            <a:ext cx="6476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9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"Ойлан, тап"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752480"/>
            <a:ext cx="8610480" cy="4648320"/>
          </a:xfrm>
          <a:prstGeom prst="foldedCorner">
            <a:avLst>
              <a:gd name="adj" fmla="val 12500"/>
            </a:avLst>
          </a:prstGeom>
          <a:solidFill>
            <a:srgbClr val="ccff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ғалым       ....          ...      қолайлы программалау тіл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  ...........,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......,                                     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Кез келген программаның алғашқы жолы        ............      сөзін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басталатын оның тақырыбынан тұрады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Одан кейін программаның ішкі объектілерінің      ...........             жазылады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20968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иклаус Вирт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276720"/>
            <a:ext cx="1295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ақыры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4724280"/>
            <a:ext cx="1523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525780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04920" y="3049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Кім жылдам?"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743200"/>
            <a:ext cx="6553440" cy="2057400"/>
          </a:xfrm>
          <a:custGeom>
            <a:avLst/>
            <a:gdLst>
              <a:gd name="textAreaLeft" fmla="*/ 0 w 6553440"/>
              <a:gd name="textAreaRight" fmla="*/ 6553800 w 655344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71600"/>
            <a:ext cx="350532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295280"/>
            <a:ext cx="350496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Цик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2590920"/>
            <a:ext cx="6553080" cy="2057400"/>
          </a:xfrm>
          <a:custGeom>
            <a:avLst/>
            <a:gdLst>
              <a:gd name="textAreaLeft" fmla="*/ 0 w 6553080"/>
              <a:gd name="textAreaRight" fmla="*/ 6553440 w 655308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Берілген және есептелген мәндерді меншікте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соларды өңдеу, салыстыру амалдар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орындайды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80880"/>
            <a:ext cx="2971800" cy="21337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Операциял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еме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мал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28600"/>
            <a:ext cx="3048120" cy="228600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72428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80060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14400" y="15228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Ү. Оқушылар еңбегін бағал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5238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ҮІ. Үй тапсырма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Паскаль - программалау тілі. Паскаль тіліндегі программа құрылымын жазып к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85800" y="838080"/>
            <a:ext cx="78487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р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дарғандарыңызғ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хме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920" y="228600"/>
            <a:ext cx="8534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қсат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160640"/>
            <a:ext cx="899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ілімділік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Паскаль-программалу тілі, және оның негізгі элементтері туралы айту, түсіндіру. Паскаль программасында жұмыс жасай білуге үйр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амытушылық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Тез ойлап, ұтымды жауап қайыра білуге, жүйелі, еркін сөйлеу дағдыларын дамыту, пәнге қызығушылығын артты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әрбиелік.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Оқушыларды компьютермен жұмыс жасата отырып, қауіпсіздік ережесін сақтауға,ұқыптылыққа,еңбексүйгіштікке, ізденімпаздыққа тәрбиелеу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80880"/>
            <a:ext cx="87631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ип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Жаңа білімді меңге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үр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әдіс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Түсіндіру, сұрақ-жау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көрнекіліг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Компьютер және оның құрылғылары, интерактивті тақта, тірек-сызба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Пән аралық байланыс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Физика, математика, ағылш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І.Ұйымдастыру кезеңі: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1.Сәлемдесу, түгелде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2. Оқушылардың құрал-жабдығын текс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3.Оқушылардың назарын сабаққа ауд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43000" y="228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ІІ. Оқушы білімін жан-жақты текс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50920" y="792000"/>
            <a:ext cx="4321080" cy="1570320"/>
          </a:xfrm>
          <a:prstGeom prst="rightArrow">
            <a:avLst>
              <a:gd name="adj1" fmla="val 50000"/>
              <a:gd name="adj2" fmla="val 6879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Алгоритмен программаның</a:t>
            </a:r>
            <a:r>
              <a:rPr b="1" i="1" lang="kk-KZ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анд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ұқсасты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мен айырмашылықтары ба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28600" y="2590920"/>
            <a:ext cx="4473720" cy="1295280"/>
          </a:xfrm>
          <a:prstGeom prst="rightArrow">
            <a:avLst>
              <a:gd name="adj1" fmla="val 50000"/>
              <a:gd name="adj2" fmla="val 86347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Сызықтық алгоритм дегеніміз н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914400"/>
            <a:ext cx="449568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Алгоритм-берілген есепт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шығару жолын реттелген амалд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тізбегі түріне келті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Программа-командалар тізбег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724280" y="251460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Әрекеттердің тізбек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орындалу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ипайттынтын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28600" y="4038480"/>
            <a:ext cx="4473720" cy="1295640"/>
          </a:xfrm>
          <a:prstGeom prst="rightArrow">
            <a:avLst>
              <a:gd name="adj1" fmla="val 50000"/>
              <a:gd name="adj2" fmla="val 8632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ұрама командалар құрылымдары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724280" y="403848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ызықтық, тармақталу, циклд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851120" y="5334120"/>
            <a:ext cx="4854600" cy="1295280"/>
          </a:xfrm>
          <a:prstGeom prst="rightArrow">
            <a:avLst>
              <a:gd name="adj1" fmla="val 50000"/>
              <a:gd name="adj2" fmla="val 93698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Компьютерде есеп шығару кезеңдері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А) берілген есепті математикал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үрде өрнекте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Ә) есеп шығарудың компьютерге ыңғайлы санд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әсілін анықт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Б) есеп шығару жолын алгоритм түрінде кескінде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В) есепті компьютерде шығару программасын құ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оның қатесін түз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Г) есепке керекті мәліметтер мен берілгендер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жинақта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Д) компьютерде есеп шыға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шыққан нәтиже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іс жүзінде қолд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228600"/>
            <a:ext cx="746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52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ІІІ. Жаңа түсінік б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8839080" cy="556272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ғалым Никлаус Вирт қолайлы программалау ті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Бұл тілдің стандарты кейінірек бекітілді, ол со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здерде кең таралғ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АЛГОЛ, ФОРТРАН, БЕЙСИК тілдеріне қараға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жетілдірілген, жұмыс істеуге ыңғайлы тіл бол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де жазылған программаның дұрыстығы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омпьютерде тексеру және жіберілген қатені түзету оңа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Қазіргі кезде Паскаль тілі кез келген күрде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есептерді шығара алатын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ң таралған стандартты оқу тіліне айнал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304920"/>
            <a:ext cx="8001000" cy="2361960"/>
          </a:xfrm>
          <a:prstGeom prst="downArrowCallout">
            <a:avLst>
              <a:gd name="adj1" fmla="val -78976"/>
              <a:gd name="adj2" fmla="val 84686"/>
              <a:gd name="adj3" fmla="val 16667"/>
              <a:gd name="adj4" fmla="val 66667"/>
            </a:avLst>
          </a:prstGeom>
          <a:solidFill>
            <a:srgbClr val="ffff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80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743200"/>
            <a:ext cx="7620120" cy="1295280"/>
          </a:xfrm>
          <a:custGeom>
            <a:avLst/>
            <a:gdLst>
              <a:gd name="textAreaLeft" fmla="*/ 0 w 7620120"/>
              <a:gd name="textAreaRight" fmla="*/ 7620480 w 762012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0000"/>
                </a:solidFill>
                <a:latin typeface="Times New Roman"/>
              </a:rPr>
              <a:t>тақыры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886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029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77120" y="5079960"/>
            <a:ext cx="2438280" cy="149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304920"/>
            <a:ext cx="8610480" cy="56386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з келген программаның алғашқы ж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сөзінен басталатын оны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ақырыбынан тұр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дан кейін программаның ішкі объектілеріні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</a:rPr>
              <a:t>Сипатталу бөлімі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 жазыла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304920"/>
            <a:ext cx="8686800" cy="63244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Программаның соңғы және негізгі бөлім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Times New Roman"/>
              </a:rPr>
              <a:t>операторлар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өлімі болып табылады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рындалатын іс-әрекеттер, командалар, 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өлімде орналасады. Ол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түйінді сөзін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асталып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end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сөзімен аяқталады.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ден</cp:lastModifiedBy>
  <dcterms:modified xsi:type="dcterms:W3CDTF">2011-09-24T05:11:47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3100207f6000400038000</vt:lpwstr>
  </property>
  <property fmtid="{D5CDD505-2E9C-101B-9397-08002B2CF9AE}" pid="3" name="Version">
    <vt:r8>1</vt:r8>
  </property>
</Properties>
</file>