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84E1-02B5-47FE-AACB-3E7F74D5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290B-EE27-4F1D-9377-35B4C202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AF13-63F6-4021-B98E-0D49684D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A13B-145E-4E66-A8B2-82EF09F6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6696-502B-4737-879B-E608F9EE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74BD-833E-4ECA-8055-E5ED7980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2D8-A674-4690-901B-20E36FA0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5A67-E42F-4BAA-B70C-4ED2BAB3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DD9-1808-4AAF-98EE-C7CBE09D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065D-2897-4585-AB03-772EEABB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69B6-2017-4B72-B2E6-DE25AEF0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448-93AA-418C-A0B4-47EDE324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B7F2-0C07-4F56-9842-DB31B9F6E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0880" y="76320"/>
            <a:ext cx="83059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аскаль-программалау 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тілі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518148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6600"/>
                </a:solidFill>
                <a:latin typeface="Times New Roman"/>
              </a:rPr>
              <a:t>9-сынып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80880"/>
            <a:ext cx="8458200" cy="457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28600"/>
            <a:ext cx="8534520" cy="914400"/>
          </a:xfrm>
          <a:prstGeom prst="rec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ROGRAM  BASTAU: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143000"/>
            <a:ext cx="8534520" cy="914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057400"/>
            <a:ext cx="8534520" cy="838080"/>
          </a:xfrm>
          <a:prstGeom prst="rect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895480"/>
            <a:ext cx="8534520" cy="1067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kk-KZ" sz="48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1055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66"/>
                </a:solidFill>
                <a:latin typeface="Times New Roman"/>
              </a:rPr>
              <a:t>Паскаль тіліндегі программа құрылы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3962520"/>
            <a:ext cx="8534520" cy="990360"/>
          </a:xfrm>
          <a:prstGeom prst="flowChartProcess">
            <a:avLst/>
          </a:pr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9480" y="76320"/>
            <a:ext cx="8153640" cy="990360"/>
          </a:xfrm>
          <a:prstGeom prst="wedgeRoundRectCallout">
            <a:avLst>
              <a:gd name="adj1" fmla="val -42115"/>
              <a:gd name="adj2" fmla="val 168430"/>
              <a:gd name="adj3" fmla="val 16667"/>
            </a:avLst>
          </a:prstGeom>
          <a:solidFill>
            <a:srgbClr val="ccff99"/>
          </a:solidFill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ff0000"/>
                </a:solidFill>
                <a:latin typeface="Times New Roman"/>
              </a:rPr>
              <a:t>Операторлар бөлімінде орындалатын негізгі әрекеттер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981080"/>
            <a:ext cx="8763120" cy="464832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0000"/>
                </a:solidFill>
                <a:latin typeface="Times New Roman"/>
              </a:rPr>
              <a:t>Деректер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сан мәндері мен мәтін түріндегі сөз тіркестерін мән реті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абылдай алатын тұрақтылар (константалар), айнымалылар, т.б. Осы тәрізд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құрылымдар, немесе солардың адрестер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Дерек енгізу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бастапқы деректерді пернетақтадан, дискіден нем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енгізу-шығару порттарынан енгізу арқыл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жүзеге асыры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Операциялар немесе амалдар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берілген және есептелген мәндерді меншікте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оларды өңдеу, салыстыру амалдарын орындай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Нәтиже алу (шығару)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– аралық немесе қорытынды мәліметтерді экранғ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дискіге немесе енгізу-шығару порттарына жаз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Цикл-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елгілі бір шарттар орындалған (кейде орындалмаған) жағдайда көрсетілг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омандалар жиыны бірнеше рет қайталанып атқарылады. Қайталау саны бүті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анмен беріледі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480" y="1522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243000"/>
            <a:ext cx="8686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640" y="76320"/>
            <a:ext cx="87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ІҮ. Жаңа сабақты бекітуге арналған жаттығулар (есептер, сараманд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жұмыстар, зертханалық жұмыстар, тесттік бақылаул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19320" y="838080"/>
            <a:ext cx="64767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9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"Ойлан, тап"</a:t>
            </a:r>
            <a:endParaRPr b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752480"/>
            <a:ext cx="8610480" cy="4648320"/>
          </a:xfrm>
          <a:prstGeom prst="foldedCorner">
            <a:avLst>
              <a:gd name="adj" fmla="val 12500"/>
            </a:avLst>
          </a:prstGeom>
          <a:solidFill>
            <a:srgbClr val="ccff99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Паскаль тілін 1968-1971 жылдары швейцариялы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ғалым       ....          ...      қолайлы программалау тіл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ретінде ұсынған болаты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Паскаль тіліндегі программа 3 бөліктен тұрады:  ...........,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kk-KZ" sz="2000" spc="-1" strike="noStrike">
                <a:solidFill>
                  <a:srgbClr val="0000ff"/>
                </a:solidFill>
                <a:latin typeface="Times New Roman"/>
              </a:rPr>
              <a:t>......,                                     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Кез келген программаның алғашқы жолы        ............      сөзін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басталатын оның тақырыбынан тұрады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Одан кейін программаның ішкі объектілерінің      ...........             жазылады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209680"/>
            <a:ext cx="1523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Никлаус Вирт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276720"/>
            <a:ext cx="12952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ақырып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657600"/>
            <a:ext cx="20574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3657600"/>
            <a:ext cx="20574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4724280"/>
            <a:ext cx="15238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525780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04920" y="30492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a50021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"Кім жылдам?"</a:t>
            </a:r>
            <a:endParaRPr b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a50021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743200"/>
            <a:ext cx="6553440" cy="2057400"/>
          </a:xfrm>
          <a:custGeom>
            <a:avLst/>
            <a:gdLst>
              <a:gd name="textAreaLeft" fmla="*/ 0 w 6553440"/>
              <a:gd name="textAreaRight" fmla="*/ 6553800 w 655344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астапқы деректерді пернетақтадан, дискіден нем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енгізу-шығару порттарынан енгізу арқыл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жүзеге асыры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371600"/>
            <a:ext cx="3505320" cy="129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Дерект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5029200"/>
            <a:ext cx="3886200" cy="13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Times New Roman"/>
              </a:rPr>
              <a:t>Дерек енгі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1295280"/>
            <a:ext cx="3504960" cy="129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әти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029200"/>
            <a:ext cx="3886200" cy="1371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Times New Roman"/>
              </a:rPr>
              <a:t>Цик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19320" y="2590920"/>
            <a:ext cx="6553080" cy="2057400"/>
          </a:xfrm>
          <a:custGeom>
            <a:avLst/>
            <a:gdLst>
              <a:gd name="textAreaLeft" fmla="*/ 0 w 6553080"/>
              <a:gd name="textAreaRight" fmla="*/ 6553440 w 655308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Берілген және есептелген мәндерді меншікте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соларды өңдеу, салыстыру амалдары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орындайды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380880"/>
            <a:ext cx="2971800" cy="21337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Операциял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еме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малд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228600"/>
            <a:ext cx="3048120" cy="228600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Дерек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724280"/>
            <a:ext cx="2971800" cy="19051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Нәти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800600"/>
            <a:ext cx="2971800" cy="1905120"/>
          </a:xfrm>
          <a:prstGeom prst="flowChartDocumen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Ци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14400" y="15228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Ү. Оқушылар еңбегін бағала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1523880"/>
            <a:ext cx="655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Times New Roman"/>
              </a:rPr>
              <a:t>ҮІ. Үй тапсырма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00"/>
                </a:solidFill>
                <a:latin typeface="Times New Roman"/>
              </a:rPr>
              <a:t>Паскаль - программалау тілі. Паскаль тіліндегі программа құрылымын жазып ке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685800" y="838080"/>
            <a:ext cx="784872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ар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ударғандарыңызғ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хме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04920" y="228600"/>
            <a:ext cx="8534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қсат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1160640"/>
            <a:ext cx="8991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Білімділік: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Паскаль-программалу тілі, және оның негізгі элементтері туралы айту, түсіндіру. Паскаль программасында жұмыс жасай білуге үйр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амытушылық: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Тез ойлап, ұтымды жауап қайыра білуге, жүйелі, еркін сөйлеу дағдыларын дамыту, пәнге қызығушылығын артты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 u="sng">
                <a:solidFill>
                  <a:srgbClr val="000000"/>
                </a:solidFill>
                <a:uFillTx/>
                <a:latin typeface="Times New Roman"/>
              </a:rPr>
              <a:t>Тәрбиелік. 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Оқушыларды компьютермен жұмыс жасата отырып, қауіпсіздік ережесін сақтауға,ұқыптылыққа,еңбексүйгіштікке, ізденімпаздыққа тәрбиелеу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380880"/>
            <a:ext cx="876312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тип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Жаңа білімді меңгер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түр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Аралас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әдіс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Түсіндіру, сұрақ-жау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көрнекілігі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Компьютер және оның құрылғылары, интерактивті тақта, тірек-сызбал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Пән аралық байланыс: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Физика, математика, ағылшы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бақтың бары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І.Ұйымдастыру кезеңі: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1.Сәлемдесу, түгелде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2. Оқушылардың құрал-жабдығын текс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3.Оқушылардың назарын сабаққа ауда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43000" y="2286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ІІ. Оқушы білімін жан-жақты текс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250920" y="792000"/>
            <a:ext cx="4321080" cy="1570320"/>
          </a:xfrm>
          <a:prstGeom prst="rightArrow">
            <a:avLst>
              <a:gd name="adj1" fmla="val 50000"/>
              <a:gd name="adj2" fmla="val 68793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Алгоритмен программаның</a:t>
            </a:r>
            <a:r>
              <a:rPr b="1" i="1" lang="kk-KZ" sz="1800" spc="-1" strike="noStrike">
                <a:solidFill>
                  <a:srgbClr val="000099"/>
                </a:solidFill>
                <a:latin typeface="Times New Roman"/>
                <a:ea typeface="Arial"/>
              </a:rPr>
              <a:t> </a:t>
            </a: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қанда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ұқсастықта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мен айырмашылықтары ба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28600" y="2590920"/>
            <a:ext cx="4473720" cy="1295280"/>
          </a:xfrm>
          <a:prstGeom prst="rightArrow">
            <a:avLst>
              <a:gd name="adj1" fmla="val 50000"/>
              <a:gd name="adj2" fmla="val 86347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Сызықтық алгоритм дегеніміз не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48320" y="914400"/>
            <a:ext cx="449568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Алгоритм-берілген есепті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шығару жолын реттелген амалда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тізбегі түріне келтір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Программа-командалар тізбег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724280" y="2514600"/>
            <a:ext cx="449604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Әрекеттердің тізбек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орындалуы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сипайттынтын алгорит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228600" y="4038480"/>
            <a:ext cx="4473720" cy="1295640"/>
          </a:xfrm>
          <a:prstGeom prst="rightArrow">
            <a:avLst>
              <a:gd name="adj1" fmla="val 50000"/>
              <a:gd name="adj2" fmla="val 86323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Құрама командалар құрылымдары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4724280" y="4038480"/>
            <a:ext cx="4496040" cy="12193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Сызықтық, тармақталу, циклд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851120" y="5334120"/>
            <a:ext cx="4854600" cy="1295280"/>
          </a:xfrm>
          <a:prstGeom prst="rightArrow">
            <a:avLst>
              <a:gd name="adj1" fmla="val 50000"/>
              <a:gd name="adj2" fmla="val 93698"/>
            </a:avLst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Компьютерде есеп шығару кезеңдері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14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152280" y="228600"/>
            <a:ext cx="8839440" cy="64008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А) берілген есепті математикалы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түрде өрнекте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Ә) есеп шығарудың компьютерге ыңғайлы санды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тәсілін анықта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Б) есеп шығару жолын алгоритм түрінде кескінде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В) есепті компьютерде шығару программасын құру жә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оның қатесін түз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Г) есепке керекті мәліметтер мен берілгендері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жинақта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Д) компьютерде есеп шығару жә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шыққан нәтиже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іс жүзінде қолд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14400" y="228600"/>
            <a:ext cx="746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522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ІІІ. Жаңа түсінік бе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38080"/>
            <a:ext cx="8839080" cy="556272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Паскаль тілін 1968-1971 жылдары швейцариялы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ғалым Никлаус Вирт қолайлы программалау тіл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ретінде ұсынған болаты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Бұл тілдің стандарты кейінірек бекітілді, ол со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ездерде кең таралға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АЛГОЛ, ФОРТРАН, БЕЙСИК тілдеріне қараған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жетілдірілген, жұмыс істеуге ыңғайлы тіл бол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Паскаль тілінде жазылған программаның дұрыстығы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омпьютерде тексеру және жіберілген қатені түзету оңа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Қазіргі кезде Паскаль тілі кез келген күрделі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есептерді шығара алатын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99"/>
                </a:solidFill>
                <a:latin typeface="Times New Roman"/>
              </a:rPr>
              <a:t>кең таралған стандартты оқу тіліне айнал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304920"/>
            <a:ext cx="8001000" cy="2361960"/>
          </a:xfrm>
          <a:prstGeom prst="downArrowCallout">
            <a:avLst>
              <a:gd name="adj1" fmla="val -78976"/>
              <a:gd name="adj2" fmla="val 84686"/>
              <a:gd name="adj3" fmla="val 16667"/>
              <a:gd name="adj4" fmla="val 66667"/>
            </a:avLst>
          </a:prstGeom>
          <a:solidFill>
            <a:srgbClr val="ffff99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380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ff"/>
                </a:solidFill>
                <a:latin typeface="Times New Roman"/>
              </a:rPr>
              <a:t>Паскаль тіліндегі программа 3 бөліктен тұра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743200"/>
            <a:ext cx="7620120" cy="1295280"/>
          </a:xfrm>
          <a:custGeom>
            <a:avLst/>
            <a:gdLst>
              <a:gd name="textAreaLeft" fmla="*/ 0 w 7620120"/>
              <a:gd name="textAreaRight" fmla="*/ 7620480 w 762012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0000"/>
                </a:solidFill>
                <a:latin typeface="Times New Roman"/>
              </a:rPr>
              <a:t>тақыры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3886200"/>
            <a:ext cx="7619760" cy="1295280"/>
          </a:xfrm>
          <a:custGeom>
            <a:avLst/>
            <a:gdLst>
              <a:gd name="textAreaLeft" fmla="*/ 0 w 7619760"/>
              <a:gd name="textAreaRight" fmla="*/ 7620120 w 761976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Сипаттау бөлім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5029200"/>
            <a:ext cx="7619760" cy="1295280"/>
          </a:xfrm>
          <a:custGeom>
            <a:avLst/>
            <a:gdLst>
              <a:gd name="textAreaLeft" fmla="*/ 0 w 7619760"/>
              <a:gd name="textAreaRight" fmla="*/ 7620120 w 7619760"/>
              <a:gd name="textAreaTop" fmla="*/ 167760 h 1295280"/>
              <a:gd name="textAreaBottom" fmla="*/ 1127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Операторлар бөлім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2000"/>
          </a:blip>
          <a:srcRect l="0" t="0" r="0" b="-13"/>
          <a:stretch/>
        </p:blipFill>
        <p:spPr>
          <a:xfrm>
            <a:off x="-152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477120" y="5079960"/>
            <a:ext cx="2438280" cy="1498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304920"/>
            <a:ext cx="8610480" cy="5638680"/>
          </a:xfrm>
          <a:prstGeom prst="flowChartDocument">
            <a:avLst/>
          </a:prstGeom>
          <a:solidFill>
            <a:srgbClr val="ccff99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ез келген программаның алғашқы ж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PROGRAM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сөзінен басталатын оны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тақырыбынан тұр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Одан кейін программаның ішкі объектілеріні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00"/>
                </a:solidFill>
                <a:latin typeface="Times New Roman"/>
              </a:rPr>
              <a:t>Сипатталу бөлімі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 жазыла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304920"/>
            <a:ext cx="8686800" cy="6324480"/>
          </a:xfrm>
          <a:prstGeom prst="flowChartDocument">
            <a:avLst/>
          </a:prstGeom>
          <a:solidFill>
            <a:srgbClr val="ccff99"/>
          </a:solidFill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Программаның соңғы және негізгі бөлім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f0000"/>
                </a:solidFill>
                <a:latin typeface="Times New Roman"/>
              </a:rPr>
              <a:t>операторлар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бөлімі болып табылады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Орындалатын іс-әрекеттер, командалар, о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бөлімде орналасады. Ол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begin</a:t>
            </a:r>
            <a:r>
              <a:rPr b="1" i="1" lang="kk-K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түйінді сөзін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басталып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end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сөзімен аяқталады.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лден</cp:lastModifiedBy>
  <dcterms:modified xsi:type="dcterms:W3CDTF">2011-09-24T05:11:47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020000000000010243100207f6000400038000</vt:lpwstr>
  </property>
  <property fmtid="{D5CDD505-2E9C-101B-9397-08002B2CF9AE}" pid="3" name="Version">
    <vt:r8>1</vt:r8>
  </property>
</Properties>
</file>