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109-E794-4024-B1C1-9ACFF767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24C-2263-4ADC-A246-1555DD1B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C36-52D0-4096-8090-4C2C22D4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44F-97A6-4692-9B49-3E70048A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D20-90B9-4E24-8282-635039F2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749-569C-4EB7-A094-B318CA05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22F-14F6-4DCA-B64C-4422B8F5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104-AE75-4F85-9FBF-D8046B82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9CA-B8BD-4D38-82FC-C6246CFA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A1E-B1E6-498E-858D-3E8B893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0F3-6F71-4B0B-B5A1-F9C889FC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4F8-EC61-43FE-837F-51833976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4A90-86F3-41BE-9C95-B78D4CFEC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76320"/>
            <a:ext cx="8305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аскаль-программалау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ілі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181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6600"/>
                </a:solidFill>
                <a:latin typeface="Times New Roman"/>
              </a:rPr>
              <a:t>9-сыны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458200" cy="457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8534520" cy="9144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GRAM  BASTAU: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53452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057400"/>
            <a:ext cx="8534520" cy="8380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8534520" cy="1067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105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66"/>
                </a:solidFill>
                <a:latin typeface="Times New Roman"/>
              </a:rPr>
              <a:t>Паскаль тіліндегі программа құрылы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534520" cy="990360"/>
          </a:xfrm>
          <a:prstGeom prst="flowChartProcess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76320"/>
            <a:ext cx="8153640" cy="990360"/>
          </a:xfrm>
          <a:prstGeom prst="wedgeRoundRectCallout">
            <a:avLst>
              <a:gd name="adj1" fmla="val -42115"/>
              <a:gd name="adj2" fmla="val 168430"/>
              <a:gd name="adj3" fmla="val 16667"/>
            </a:avLst>
          </a:prstGeom>
          <a:solidFill>
            <a:srgbClr val="ccff99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ff0000"/>
                </a:solidFill>
                <a:latin typeface="Times New Roman"/>
              </a:rPr>
              <a:t>Операторлар бөлімінде орындалатын негізгі әрекетте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981080"/>
            <a:ext cx="8763120" cy="46483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сан мәндері мен мәтін түріндегі сөз тіркестерін мән реті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былдай алатын тұрақтылар (константалар), айнымалылар, т.б. Осы тәріз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ұрылымдар, немесе солардың адрестер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циялар немесе амалда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ерілген және есептелген мәндерді меншікте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оларды өңдеу, салыстыру амалдарын орындай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әтиже алу (шығару)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аралық немесе қорытынды мәліметтерді экранғ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искіге немесе енгізу-шығару порттарына жаз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Цикл-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елгілі бір шарттар орындалған (кейде орындалмаған) жағдайда көрсетіл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андалар жиыны бірнеше рет қайталанып атқарылады. Қайталау саны бүті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мен беріледі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522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00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76320"/>
            <a:ext cx="87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Ү. Жаңа сабақты бекітуге арналған жаттығулар (есептер, сарама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ұмыстар, зертханалық жұмыстар, тесттік бақылау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8380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Ойлан, тап"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ғалым       ....          ...      қолайлы программалау 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  ...........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......,                                    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з келген программаның алғашқы жолы        ............      сөзін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сталатын оның тақырыбынан тұрад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Одан кейін программаның ішкі объектілерінің      ...........             жазылады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иклаус Вирт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2767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ақыры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72428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25780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0492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Кім жылдам?"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743200"/>
            <a:ext cx="6553440" cy="2057400"/>
          </a:xfrm>
          <a:custGeom>
            <a:avLst/>
            <a:gdLst>
              <a:gd name="textAreaLeft" fmla="*/ 0 w 6553440"/>
              <a:gd name="textAreaRight" fmla="*/ 6553800 w 65534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350532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35049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590920"/>
            <a:ext cx="6553080" cy="2057400"/>
          </a:xfrm>
          <a:custGeom>
            <a:avLst/>
            <a:gdLst>
              <a:gd name="textAreaLeft" fmla="*/ 0 w 6553080"/>
              <a:gd name="textAreaRight" fmla="*/ 6553440 w 65530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ерілген және есептелген мәндерді меншікт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оларды өңдеу, салыстыру амалда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рындайд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2971800" cy="21337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перация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еме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мал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28600"/>
            <a:ext cx="3048120" cy="228600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72428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0060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1522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Ү. Оқушылар еңбегін бағал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ҮІ. Үй тапсырм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Паскаль - программалау тілі. Паскаль тіліндегі программа құрылымын жазып к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838080"/>
            <a:ext cx="78487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р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дарғандарыңызғ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хм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853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сат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6064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ілімділік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Паскаль-программалу тілі, және оның негізгі элементтері туралы айту, түсіндіру. Паскаль программасында жұмыс жасай білуге үйр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мытушылық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ез ойлап, ұтымды жауап қайыра білуге, жүйелі, еркін сөйлеу дағдыларын дамыту, пәнге қызығушылығын арт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әрбиелік.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Оқушыларды компьютермен жұмыс жасата отырып, қауіпсіздік ережесін сақтауға,ұқыптылыққа,еңбексүйгіштікке, ізденімпаздыққа тәрбиелеу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ип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білімді меңге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үр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әдіс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үсіндіру, сұрақ-жау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көрнекіліг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ьютер және оның құрылғылары, интерактивті тақта, тірек-сызб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ән аралық байланыс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Физика, математика, ағылш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І.Ұйымдастыру кезеңі: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1.Сәлемдесу, түгелде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2. Оқушылардың құрал-жабдығын текс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3.Оқушылардың назарын сабаққа ауд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22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ІІ. Оқушы білімін жан-жақты 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0920" y="792000"/>
            <a:ext cx="4321080" cy="1570320"/>
          </a:xfrm>
          <a:prstGeom prst="rightArrow">
            <a:avLst>
              <a:gd name="adj1" fmla="val 50000"/>
              <a:gd name="adj2" fmla="val 6879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Алгоритмен программаның</a:t>
            </a:r>
            <a:r>
              <a:rPr b="1" i="1" lang="kk-KZ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анд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ұқсасты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мен айырмашылықтары ба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2590920"/>
            <a:ext cx="4473720" cy="1295280"/>
          </a:xfrm>
          <a:prstGeom prst="rightArrow">
            <a:avLst>
              <a:gd name="adj1" fmla="val 50000"/>
              <a:gd name="adj2" fmla="val 86347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Сызықтық алгоритм дегеніміз 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914400"/>
            <a:ext cx="449568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Алгоритм-берілген есепт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шығару жолын реттелген амал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тізбегі түріне келті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Программа-командалар тізбе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724280" y="251460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Әрекеттердің тізбек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орындалу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ипайттынтын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8600" y="4038480"/>
            <a:ext cx="4473720" cy="1295640"/>
          </a:xfrm>
          <a:prstGeom prst="rightArrow">
            <a:avLst>
              <a:gd name="adj1" fmla="val 50000"/>
              <a:gd name="adj2" fmla="val 8632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ұрама командалар құрылымдары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724280" y="403848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ызықтық, тармақталу, циклд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851120" y="5334120"/>
            <a:ext cx="4854600" cy="1295280"/>
          </a:xfrm>
          <a:prstGeom prst="rightArrow">
            <a:avLst>
              <a:gd name="adj1" fmla="val 50000"/>
              <a:gd name="adj2" fmla="val 93698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Компьютерде есеп шығару кезеңдері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А) берілген есепті математикал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үрде өрнекте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Ә) есеп шығарудың компьютерге ыңғайлы санд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әсілін ан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Б) есеп шығару жолын алгоритм түрінде кескінде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В) есепті компьютерде шығару программасын құ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оның қатесін тү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Г) есепке керекті мәліметтер мен берілгендер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жинақт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Д) компьютерде есеп шыға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шыққан нәтиже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іс жүзінде қолд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22860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ІІІ. Жаңа түсінік 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839080" cy="556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ғалым Никлаус Вирт қолайлы программалау ті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Бұл тілдің стандарты кейінірек бекітілді, ол с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здерде кең таралғ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АЛГОЛ, ФОРТРАН, БЕЙСИК тілдеріне қарағ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жетілдірілген, жұмыс істеуге ыңғайлы тіл бол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де жазылған программаның дұрыстығы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омпьютерде тексеру және жіберілген қатені түзету оң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Қазіргі кезде Паскаль тілі кез келген күрде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есептерді шығара алаты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ң таралған стандартты оқу тіліне айнал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8001000" cy="2361960"/>
          </a:xfrm>
          <a:prstGeom prst="downArrowCallout">
            <a:avLst>
              <a:gd name="adj1" fmla="val -78976"/>
              <a:gd name="adj2" fmla="val 84686"/>
              <a:gd name="adj3" fmla="val 16667"/>
              <a:gd name="adj4" fmla="val 66667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620120" cy="1295280"/>
          </a:xfrm>
          <a:custGeom>
            <a:avLst/>
            <a:gdLst>
              <a:gd name="textAreaLeft" fmla="*/ 0 w 7620120"/>
              <a:gd name="textAreaRight" fmla="*/ 7620480 w 762012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0000"/>
                </a:solidFill>
                <a:latin typeface="Times New Roman"/>
              </a:rPr>
              <a:t>тақыры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886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77120" y="507996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8610480" cy="56386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з келген программаның алғашқы ж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сөзінен басталатын оны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ақырыбынан тұ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дан кейін программаның ішкі объектілеріні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</a:rPr>
              <a:t>Сипатталу бөлімі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жазыла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04920"/>
            <a:ext cx="8686800" cy="63244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Программаның соңғы және негізгі бөлі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</a:rPr>
              <a:t>операторла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өлімі болып табылады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рындалатын іс-әрекеттер, командалар, 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өлімде орналасады. 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түйінді сөзін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асталып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end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сөзімен аяқталады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ден</cp:lastModifiedBy>
  <dcterms:modified xsi:type="dcterms:W3CDTF">2011-09-24T05:11:4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3100207f6000400038000</vt:lpwstr>
  </property>
  <property fmtid="{D5CDD505-2E9C-101B-9397-08002B2CF9AE}" pid="3" name="Version">
    <vt:r8>1</vt:r8>
  </property>
</Properties>
</file>