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221A-CA5B-4F60-B806-5FB8A26E9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BE1D-8358-4319-BB4B-4747F55D1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D8E5-A29C-483B-93E5-F37C1480C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6196-52EC-447A-B2F5-8727071B2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4FF4-A522-4965-A3CE-308E247D4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502A-D5E1-493D-89BD-53E7D1E6E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C9A4-08C6-4C80-8882-46FC55E42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F5FB-F9CF-4C74-9A09-8CF114254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7212-8120-45F4-AD8C-FB62A81EA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5ED0-C12C-431F-B014-C3705C988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52E8-955F-43F4-9954-7E8DE0896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CD85-1495-4F29-883D-91BEF923E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03CD5-1910-4A94-9841-6D5130B589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80880" y="76320"/>
            <a:ext cx="8305920" cy="495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Times New Roman"/>
              </a:rPr>
              <a:t>Паскаль-программалау 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Times New Roman"/>
              </a:rPr>
              <a:t>тілі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438280" y="5181480"/>
            <a:ext cx="5181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6600"/>
                </a:solidFill>
                <a:latin typeface="Times New Roman"/>
              </a:rPr>
              <a:t>9-сынып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80880" y="380880"/>
            <a:ext cx="8458200" cy="457200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228600"/>
            <a:ext cx="8534520" cy="914400"/>
          </a:xfrm>
          <a:prstGeom prst="rect">
            <a:avLst/>
          </a:prstGeom>
          <a:solidFill>
            <a:srgbClr val="cc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PROGRAM  BASTAU: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1143000"/>
            <a:ext cx="8534520" cy="9144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ff0000"/>
                </a:solidFill>
                <a:latin typeface="Times New Roman"/>
              </a:rPr>
              <a:t>СИПАТТАУ БӨЛІМ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2057400"/>
            <a:ext cx="8534520" cy="838080"/>
          </a:xfrm>
          <a:prstGeom prst="rect">
            <a:avLst/>
          </a:prstGeom>
          <a:solidFill>
            <a:srgbClr val="cc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5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i="1" lang="en-US" sz="5400" spc="-1" strike="noStrike">
                <a:solidFill>
                  <a:srgbClr val="ff0000"/>
                </a:solidFill>
                <a:latin typeface="Times New Roman"/>
              </a:rPr>
              <a:t>begi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2895480"/>
            <a:ext cx="8534520" cy="10670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kk-KZ" sz="4800" spc="-1" strike="noStrike">
                <a:solidFill>
                  <a:srgbClr val="ff0000"/>
                </a:solidFill>
                <a:latin typeface="Times New Roman"/>
              </a:rPr>
              <a:t>ОПЕРАТОРЛАР БӨЛІМ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90720" y="5105520"/>
            <a:ext cx="708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000066"/>
                </a:solidFill>
                <a:latin typeface="Times New Roman"/>
              </a:rPr>
              <a:t>Паскаль тіліндегі программа құрылы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880" y="3962520"/>
            <a:ext cx="8534520" cy="990360"/>
          </a:xfrm>
          <a:prstGeom prst="flowChartProcess">
            <a:avLst/>
          </a:prstGeom>
          <a:solidFill>
            <a:srgbClr val="cc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e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09480" y="76320"/>
            <a:ext cx="8153640" cy="990360"/>
          </a:xfrm>
          <a:prstGeom prst="wedgeRoundRectCallout">
            <a:avLst>
              <a:gd name="adj1" fmla="val -42115"/>
              <a:gd name="adj2" fmla="val 168430"/>
              <a:gd name="adj3" fmla="val 16667"/>
            </a:avLst>
          </a:prstGeom>
          <a:solidFill>
            <a:srgbClr val="ccff99"/>
          </a:solidFill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000" spc="-1" strike="noStrike">
                <a:solidFill>
                  <a:srgbClr val="ff0000"/>
                </a:solidFill>
                <a:latin typeface="Times New Roman"/>
              </a:rPr>
              <a:t>Операторлар бөлімінде орындалатын негізгі әрекеттер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280" y="1981080"/>
            <a:ext cx="8763120" cy="4648320"/>
          </a:xfrm>
          <a:prstGeom prst="roundRect">
            <a:avLst>
              <a:gd name="adj" fmla="val 16667"/>
            </a:avLst>
          </a:prstGeom>
          <a:solidFill>
            <a:srgbClr val="00ffcc"/>
          </a:solidFill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0000"/>
                </a:solidFill>
                <a:latin typeface="Times New Roman"/>
              </a:rPr>
              <a:t>Деректер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– сан мәндері мен мәтін түріндегі сөз тіркестерін мән ретін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қабылдай алатын тұрақтылар (константалар), айнымалылар, т.б. Осы тәрізд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құрылымдар, немесе солардың адрестері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Times New Roman"/>
              </a:rPr>
              <a:t>Дерек енгізу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– бастапқы деректерді пернетақтадан, дискіден неме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енгізу-шығару порттарынан енгізу арқылы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жүзеге асырыла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Times New Roman"/>
              </a:rPr>
              <a:t>Операциялар немесе амалдар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– берілген және есептелген мәндерді меншікте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соларды өңдеу, салыстыру амалдарын орындайд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Times New Roman"/>
              </a:rPr>
              <a:t>Нәтиже алу (шығару)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– аралық немесе қорытынды мәліметтерді экранғ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дискіге немесе енгізу-шығару порттарына жазу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Times New Roman"/>
              </a:rPr>
              <a:t>Цикл- 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белгілі бір шарттар орындалған (кейде орындалмаған) жағдайда көрсетілге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командалар жиыны бірнеше рет қайталанып атқарылады. Қайталау саны бүті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санмен беріледі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09480" y="152280"/>
            <a:ext cx="7925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243000"/>
            <a:ext cx="8686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79640" y="76320"/>
            <a:ext cx="872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0000"/>
                </a:solidFill>
                <a:latin typeface="Arial"/>
              </a:rPr>
              <a:t>ІҮ. Жаңа сабақты бекітуге арналған жаттығулар (есептер, сарамандық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0000"/>
                </a:solidFill>
                <a:latin typeface="Arial"/>
              </a:rPr>
              <a:t>жұмыстар, зертханалық жұмыстар, тесттік бақылаула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219320" y="838080"/>
            <a:ext cx="647676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969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"Ойлан, тап"</a:t>
            </a:r>
            <a:endParaRPr b="1" lang="en-US" sz="1800" spc="1" strike="noStrike">
              <a:ln w="9360">
                <a:solidFill>
                  <a:srgbClr val="3366ff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1752480"/>
            <a:ext cx="8610480" cy="4648320"/>
          </a:xfrm>
          <a:prstGeom prst="foldedCorner">
            <a:avLst>
              <a:gd name="adj" fmla="val 12500"/>
            </a:avLst>
          </a:prstGeom>
          <a:solidFill>
            <a:srgbClr val="ccff99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99"/>
                </a:solidFill>
                <a:latin typeface="Times New Roman"/>
              </a:rPr>
              <a:t>Паскаль тілін 1968-1971 жылдары швейцариялы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kk-KZ" sz="2000" spc="-1" strike="noStrike">
                <a:solidFill>
                  <a:srgbClr val="000099"/>
                </a:solidFill>
                <a:latin typeface="Times New Roman"/>
              </a:rPr>
              <a:t>ғалым       ....          ...      қолайлы программалау тілі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99"/>
                </a:solidFill>
                <a:latin typeface="Times New Roman"/>
              </a:rPr>
              <a:t>ретінде ұсынған болаты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Times New Roman"/>
              </a:rPr>
              <a:t>Паскаль тіліндегі программа 3 бөліктен тұрады:  ...........,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i="1" lang="kk-KZ" sz="2000" spc="-1" strike="noStrike">
                <a:solidFill>
                  <a:srgbClr val="0000ff"/>
                </a:solidFill>
                <a:latin typeface="Times New Roman"/>
              </a:rPr>
              <a:t>......,                                     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99"/>
                </a:solidFill>
                <a:latin typeface="Times New Roman"/>
              </a:rPr>
              <a:t>Кез келген программаның алғашқы жолы        ............      сөзіне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99"/>
                </a:solidFill>
                <a:latin typeface="Times New Roman"/>
              </a:rPr>
              <a:t>басталатын оның тақырыбынан тұрады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99"/>
                </a:solidFill>
                <a:latin typeface="Times New Roman"/>
              </a:rPr>
              <a:t>Одан кейін программаның ішкі объектілерінің      ...........             жазылады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209680"/>
            <a:ext cx="152388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kk-KZ" sz="1800" spc="-1" strike="noStrike">
                <a:solidFill>
                  <a:srgbClr val="ff0000"/>
                </a:solidFill>
                <a:latin typeface="Times New Roman"/>
              </a:rPr>
              <a:t>Никлаус Вирт   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276720"/>
            <a:ext cx="129528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Тақырып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3657600"/>
            <a:ext cx="205740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Times New Roman"/>
              </a:rPr>
              <a:t>Сипаттау бөлім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971800" y="3657600"/>
            <a:ext cx="205740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Times New Roman"/>
              </a:rPr>
              <a:t>Операторлар бөлім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15000" y="4724280"/>
            <a:ext cx="152388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172200" y="5257800"/>
            <a:ext cx="16765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Times New Roman"/>
              </a:rPr>
              <a:t>Сипаттау бөлім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304920" y="304920"/>
            <a:ext cx="8229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a50021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"Кім жылдам?"</a:t>
            </a:r>
            <a:endParaRPr b="1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a50021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95280" y="2743200"/>
            <a:ext cx="6553440" cy="2057400"/>
          </a:xfrm>
          <a:custGeom>
            <a:avLst/>
            <a:gdLst>
              <a:gd name="textAreaLeft" fmla="*/ 0 w 6553440"/>
              <a:gd name="textAreaRight" fmla="*/ 6553800 w 6553440"/>
              <a:gd name="textAreaTop" fmla="*/ 514080 h 2057400"/>
              <a:gd name="textAreaBottom" fmla="*/ 154332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Бастапқы деректерді пернетақтадан, дискіден неме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енгізу-шығару порттарынан енгізу арқылы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жүзеге асырыла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371600"/>
            <a:ext cx="3505320" cy="1295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</a:rPr>
              <a:t>Деректе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24280" y="5029200"/>
            <a:ext cx="3886200" cy="1371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cc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0000"/>
                </a:solidFill>
                <a:latin typeface="Times New Roman"/>
              </a:rPr>
              <a:t>Дерек енгіз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05520" y="1295280"/>
            <a:ext cx="3504960" cy="1295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kk-KZ" sz="2800" spc="-1" strike="noStrike">
                <a:solidFill>
                  <a:srgbClr val="ff0000"/>
                </a:solidFill>
                <a:latin typeface="Times New Roman"/>
              </a:rPr>
              <a:t>Нәтиж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</a:rPr>
              <a:t>ал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5029200"/>
            <a:ext cx="3886200" cy="1371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cc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0000"/>
                </a:solidFill>
                <a:latin typeface="Times New Roman"/>
              </a:rPr>
              <a:t>Цик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4" dur="2000" fill="hold"/>
                                        <p:tgtEl>
                                          <p:spTgt spid="1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219320" y="2590920"/>
            <a:ext cx="6553080" cy="2057400"/>
          </a:xfrm>
          <a:custGeom>
            <a:avLst/>
            <a:gdLst>
              <a:gd name="textAreaLeft" fmla="*/ 0 w 6553080"/>
              <a:gd name="textAreaRight" fmla="*/ 6553440 w 6553080"/>
              <a:gd name="textAreaTop" fmla="*/ 514080 h 2057400"/>
              <a:gd name="textAreaBottom" fmla="*/ 154332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Arial"/>
              </a:rPr>
              <a:t>Берілген және есептелген мәндерді меншіктеу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Arial"/>
              </a:rPr>
              <a:t>соларды өңдеу, салыстыру амалдары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Arial"/>
              </a:rPr>
              <a:t>орындайды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33520" y="380880"/>
            <a:ext cx="2971800" cy="2133720"/>
          </a:xfrm>
          <a:prstGeom prst="flowChartDocument">
            <a:avLst/>
          </a:prstGeom>
          <a:solidFill>
            <a:srgbClr val="cc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</a:rPr>
              <a:t>Операцияла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</a:rPr>
              <a:t>немес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</a:rPr>
              <a:t>амалда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486400" y="228600"/>
            <a:ext cx="3048120" cy="2286000"/>
          </a:xfrm>
          <a:prstGeom prst="flowChartDocument">
            <a:avLst/>
          </a:prstGeom>
          <a:solidFill>
            <a:srgbClr val="cc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</a:rPr>
              <a:t>Дерект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04920" y="4724280"/>
            <a:ext cx="2971800" cy="1905120"/>
          </a:xfrm>
          <a:prstGeom prst="flowChartDocument">
            <a:avLst/>
          </a:prstGeom>
          <a:solidFill>
            <a:srgbClr val="cc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</a:rPr>
              <a:t>Нәтиж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</a:rPr>
              <a:t>ал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638680" y="4800600"/>
            <a:ext cx="2971800" cy="1905120"/>
          </a:xfrm>
          <a:prstGeom prst="flowChartDocument">
            <a:avLst/>
          </a:prstGeom>
          <a:solidFill>
            <a:srgbClr val="cc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</a:rPr>
              <a:t>Цик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0" dur="2000" fill="hold"/>
                                        <p:tgtEl>
                                          <p:spTgt spid="1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914400" y="152280"/>
            <a:ext cx="754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676520" y="22860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ff0000"/>
                </a:solidFill>
                <a:latin typeface="Times New Roman"/>
              </a:rPr>
              <a:t>Ү. Оқушылар еңбегін бағала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676520" y="1523880"/>
            <a:ext cx="65530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ff0000"/>
                </a:solidFill>
                <a:latin typeface="Times New Roman"/>
              </a:rPr>
              <a:t>ҮІ. Үй тапсырмас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ff0000"/>
                </a:solidFill>
                <a:latin typeface="Times New Roman"/>
              </a:rPr>
              <a:t>Паскаль - программалау тілі. Паскаль тіліндегі программа құрылымын жазып кел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685800" y="838080"/>
            <a:ext cx="7848720" cy="518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зар 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аударғандарыңызға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ахмет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>
            <a:lum bright="14000"/>
          </a:blip>
          <a:srcRect l="0" t="0" r="0" b="-1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304920" y="228600"/>
            <a:ext cx="85341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ақсаты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2280" y="1160640"/>
            <a:ext cx="8991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 u="sng">
                <a:solidFill>
                  <a:srgbClr val="000000"/>
                </a:solidFill>
                <a:uFillTx/>
                <a:latin typeface="Times New Roman"/>
              </a:rPr>
              <a:t>Білімділік:</a:t>
            </a:r>
            <a:r>
              <a:rPr b="1" lang="kk-K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kk-KZ" sz="3200" spc="-1" strike="noStrike">
                <a:solidFill>
                  <a:srgbClr val="000000"/>
                </a:solidFill>
                <a:latin typeface="Times New Roman"/>
              </a:rPr>
              <a:t>Паскаль-программалу тілі, және оның негізгі элементтері туралы айту, түсіндіру. Паскаль программасында жұмыс жасай білуге үйре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k-KZ" sz="3200" spc="-1" strike="noStrike" u="sng">
                <a:solidFill>
                  <a:srgbClr val="000000"/>
                </a:solidFill>
                <a:uFillTx/>
                <a:latin typeface="Times New Roman"/>
              </a:rPr>
              <a:t>Дамытушылық:</a:t>
            </a:r>
            <a:r>
              <a:rPr b="1" lang="kk-K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kk-KZ" sz="3200" spc="-1" strike="noStrike">
                <a:solidFill>
                  <a:srgbClr val="000000"/>
                </a:solidFill>
                <a:latin typeface="Times New Roman"/>
              </a:rPr>
              <a:t>Тез ойлап, ұтымды жауап қайыра білуге, жүйелі, еркін сөйлеу дағдыларын дамыту, пәнге қызығушылығын артты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 u="sng">
                <a:solidFill>
                  <a:srgbClr val="000000"/>
                </a:solidFill>
                <a:uFillTx/>
                <a:latin typeface="Times New Roman"/>
              </a:rPr>
              <a:t>Тәрбиелік. </a:t>
            </a:r>
            <a:r>
              <a:rPr b="0" i="1" lang="kk-KZ" sz="3200" spc="-1" strike="noStrike">
                <a:solidFill>
                  <a:srgbClr val="000000"/>
                </a:solidFill>
                <a:latin typeface="Times New Roman"/>
              </a:rPr>
              <a:t>Оқушыларды компьютермен жұмыс жасата отырып, қауіпсіздік ережесін сақтауға,ұқыптылыққа,еңбексүйгіштікке, ізденімпаздыққа тәрбиелеу</a:t>
            </a:r>
            <a:r>
              <a:rPr b="1" lang="kk-K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>
            <a:lum bright="2000"/>
          </a:blip>
          <a:srcRect l="0" t="0" r="0" b="-1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80880" y="380880"/>
            <a:ext cx="8763120" cy="58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Сабақтың типі: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Жаңа білімді меңгер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Сабақтың түрі: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Аралас саба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Сабақтың әдісі: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Түсіндіру, сұрақ-жауа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Сабақтың көрнекілігі: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Компьютер және оның құрылғылары, интерактивті тақта, тірек-сызбала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Пән аралық байланыс: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Физика, математика, ағылшы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Сабақтың барыс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00"/>
                </a:solidFill>
                <a:latin typeface="Times New Roman"/>
              </a:rPr>
              <a:t>І.Ұйымдастыру кезеңі: </a:t>
            </a:r>
            <a:r>
              <a:rPr b="0" i="1" lang="kk-KZ" sz="2400" spc="-1" strike="noStrike">
                <a:solidFill>
                  <a:srgbClr val="000000"/>
                </a:solidFill>
                <a:latin typeface="Times New Roman"/>
              </a:rPr>
              <a:t>1.Сәлемдесу, түгелде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i="1" lang="kk-KZ" sz="2400" spc="-1" strike="noStrike">
                <a:solidFill>
                  <a:srgbClr val="000000"/>
                </a:solidFill>
                <a:latin typeface="Times New Roman"/>
              </a:rPr>
              <a:t>2. Оқушылардың құрал-жабдығын тексе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i="1" lang="kk-KZ" sz="2400" spc="-1" strike="noStrike">
                <a:solidFill>
                  <a:srgbClr val="000000"/>
                </a:solidFill>
                <a:latin typeface="Times New Roman"/>
              </a:rPr>
              <a:t>3.Оқушылардың назарын сабаққа ауда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kk-K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>
            <a:lum bright="14000"/>
          </a:blip>
          <a:srcRect l="0" t="0" r="0" b="-1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143000" y="22860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00"/>
                </a:solidFill>
                <a:latin typeface="Times New Roman"/>
              </a:rPr>
              <a:t>ІІ. Оқушы білімін жан-жақты тексе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5"/>
          <p:cNvSpPr/>
          <p:nvPr/>
        </p:nvSpPr>
        <p:spPr>
          <a:xfrm>
            <a:off x="250920" y="792000"/>
            <a:ext cx="4321080" cy="1570320"/>
          </a:xfrm>
          <a:prstGeom prst="rightArrow">
            <a:avLst>
              <a:gd name="adj1" fmla="val 50000"/>
              <a:gd name="adj2" fmla="val 68793"/>
            </a:avLst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000099"/>
                </a:solidFill>
                <a:latin typeface="Times New Roman"/>
                <a:ea typeface="Arial"/>
              </a:rPr>
              <a:t>Алгоритмен программаның</a:t>
            </a:r>
            <a:r>
              <a:rPr b="1" i="1" lang="kk-KZ" sz="1800" spc="-1" strike="noStrike">
                <a:solidFill>
                  <a:srgbClr val="000099"/>
                </a:solidFill>
                <a:latin typeface="Times New Roman"/>
                <a:ea typeface="Arial"/>
              </a:rPr>
              <a:t> </a:t>
            </a:r>
            <a:r>
              <a:rPr b="1" i="1" lang="kk-KZ" sz="1400" spc="-1" strike="noStrike">
                <a:solidFill>
                  <a:srgbClr val="000099"/>
                </a:solidFill>
                <a:latin typeface="Times New Roman"/>
                <a:ea typeface="Arial"/>
              </a:rPr>
              <a:t>қанда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000099"/>
                </a:solidFill>
                <a:latin typeface="Times New Roman"/>
                <a:ea typeface="Arial"/>
              </a:rPr>
              <a:t>ұқсастықтар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000099"/>
                </a:solidFill>
                <a:latin typeface="Times New Roman"/>
                <a:ea typeface="Arial"/>
              </a:rPr>
              <a:t>мен айырмашылықтары бар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5"/>
          <p:cNvSpPr/>
          <p:nvPr/>
        </p:nvSpPr>
        <p:spPr>
          <a:xfrm>
            <a:off x="228600" y="2590920"/>
            <a:ext cx="4473720" cy="1295280"/>
          </a:xfrm>
          <a:prstGeom prst="rightArrow">
            <a:avLst>
              <a:gd name="adj1" fmla="val 50000"/>
              <a:gd name="adj2" fmla="val 86347"/>
            </a:avLst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000099"/>
                </a:solidFill>
                <a:latin typeface="Times New Roman"/>
                <a:ea typeface="Arial"/>
              </a:rPr>
              <a:t>Сызықтық алгоритм дегеніміз не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4648320" y="914400"/>
            <a:ext cx="4495680" cy="12193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000" spc="-1" strike="noStrike">
                <a:solidFill>
                  <a:srgbClr val="990000"/>
                </a:solidFill>
                <a:latin typeface="Times New Roman"/>
                <a:ea typeface="Arial"/>
              </a:rPr>
              <a:t>Алгоритм-берілген есептің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000" spc="-1" strike="noStrike">
                <a:solidFill>
                  <a:srgbClr val="990000"/>
                </a:solidFill>
                <a:latin typeface="Times New Roman"/>
                <a:ea typeface="Arial"/>
              </a:rPr>
              <a:t>шығару жолын реттелген амалда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000" spc="-1" strike="noStrike">
                <a:solidFill>
                  <a:srgbClr val="990000"/>
                </a:solidFill>
                <a:latin typeface="Times New Roman"/>
                <a:ea typeface="Arial"/>
              </a:rPr>
              <a:t>тізбегі түріне келтір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000" spc="-1" strike="noStrike">
                <a:solidFill>
                  <a:srgbClr val="990000"/>
                </a:solidFill>
                <a:latin typeface="Times New Roman"/>
                <a:ea typeface="Arial"/>
              </a:rPr>
              <a:t>Программа-командалар тізбег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4724280" y="2514600"/>
            <a:ext cx="4496040" cy="12193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000" spc="-1" strike="noStrike">
                <a:solidFill>
                  <a:srgbClr val="990000"/>
                </a:solidFill>
                <a:latin typeface="Times New Roman"/>
                <a:ea typeface="Arial"/>
              </a:rPr>
              <a:t>Әрекеттердің тізбект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000" spc="-1" strike="noStrike">
                <a:solidFill>
                  <a:srgbClr val="990000"/>
                </a:solidFill>
                <a:latin typeface="Times New Roman"/>
                <a:ea typeface="Arial"/>
              </a:rPr>
              <a:t>орындалуы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000" spc="-1" strike="noStrike">
                <a:solidFill>
                  <a:srgbClr val="990000"/>
                </a:solidFill>
                <a:latin typeface="Times New Roman"/>
                <a:ea typeface="Arial"/>
              </a:rPr>
              <a:t>сипайттынтын алгорит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5"/>
          <p:cNvSpPr/>
          <p:nvPr/>
        </p:nvSpPr>
        <p:spPr>
          <a:xfrm>
            <a:off x="228600" y="4038480"/>
            <a:ext cx="4473720" cy="1295640"/>
          </a:xfrm>
          <a:prstGeom prst="rightArrow">
            <a:avLst>
              <a:gd name="adj1" fmla="val 50000"/>
              <a:gd name="adj2" fmla="val 86323"/>
            </a:avLst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000099"/>
                </a:solidFill>
                <a:latin typeface="Times New Roman"/>
                <a:ea typeface="Arial"/>
              </a:rPr>
              <a:t>Құрама командалар құрылымдары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4724280" y="4038480"/>
            <a:ext cx="4496040" cy="12193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000" spc="-1" strike="noStrike">
                <a:solidFill>
                  <a:srgbClr val="990000"/>
                </a:solidFill>
                <a:latin typeface="Times New Roman"/>
                <a:ea typeface="Arial"/>
              </a:rPr>
              <a:t>Сызықтық, тармақталу, циклді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5"/>
          <p:cNvSpPr/>
          <p:nvPr/>
        </p:nvSpPr>
        <p:spPr>
          <a:xfrm>
            <a:off x="1851120" y="5334120"/>
            <a:ext cx="4854600" cy="1295280"/>
          </a:xfrm>
          <a:prstGeom prst="rightArrow">
            <a:avLst>
              <a:gd name="adj1" fmla="val 50000"/>
              <a:gd name="adj2" fmla="val 93698"/>
            </a:avLst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000099"/>
                </a:solidFill>
                <a:latin typeface="Times New Roman"/>
                <a:ea typeface="Arial"/>
              </a:rPr>
              <a:t>Компьютерде есеп шығару кезеңдері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>
            <a:lum bright="14000"/>
          </a:blip>
          <a:srcRect l="0" t="0" r="0" b="-1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6"/>
          <p:cNvSpPr/>
          <p:nvPr/>
        </p:nvSpPr>
        <p:spPr>
          <a:xfrm>
            <a:off x="152280" y="228600"/>
            <a:ext cx="8839440" cy="640080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990000"/>
                </a:solidFill>
                <a:latin typeface="Times New Roman"/>
                <a:ea typeface="Arial"/>
              </a:rPr>
              <a:t>А) берілген есепті математикалы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990000"/>
                </a:solidFill>
                <a:latin typeface="Times New Roman"/>
                <a:ea typeface="Arial"/>
              </a:rPr>
              <a:t>түрде өрнектеу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990000"/>
                </a:solidFill>
                <a:latin typeface="Times New Roman"/>
                <a:ea typeface="Arial"/>
              </a:rPr>
              <a:t>Ә) есеп шығарудың компьютерге ыңғайлы санды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990000"/>
                </a:solidFill>
                <a:latin typeface="Times New Roman"/>
                <a:ea typeface="Arial"/>
              </a:rPr>
              <a:t>тәсілін анықта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990000"/>
                </a:solidFill>
                <a:latin typeface="Times New Roman"/>
                <a:ea typeface="Arial"/>
              </a:rPr>
              <a:t>Б) есеп шығару жолын алгоритм түрінде кескінде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990000"/>
                </a:solidFill>
                <a:latin typeface="Times New Roman"/>
                <a:ea typeface="Arial"/>
              </a:rPr>
              <a:t>В) есепті компьютерде шығару программасын құру жә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990000"/>
                </a:solidFill>
                <a:latin typeface="Times New Roman"/>
                <a:ea typeface="Arial"/>
              </a:rPr>
              <a:t>оның қатесін түзе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990000"/>
                </a:solidFill>
                <a:latin typeface="Times New Roman"/>
                <a:ea typeface="Arial"/>
              </a:rPr>
              <a:t>Г) есепке керекті мәліметтер мен берілгендері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990000"/>
                </a:solidFill>
                <a:latin typeface="Times New Roman"/>
                <a:ea typeface="Arial"/>
              </a:rPr>
              <a:t>жинақта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990000"/>
                </a:solidFill>
                <a:latin typeface="Times New Roman"/>
                <a:ea typeface="Arial"/>
              </a:rPr>
              <a:t>Д) компьютерде есеп шығару жә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990000"/>
                </a:solidFill>
                <a:latin typeface="Times New Roman"/>
                <a:ea typeface="Arial"/>
              </a:rPr>
              <a:t>шыққан нәтижен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990000"/>
                </a:solidFill>
                <a:latin typeface="Times New Roman"/>
                <a:ea typeface="Arial"/>
              </a:rPr>
              <a:t>іс жүзінде қолда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914400" y="228600"/>
            <a:ext cx="7467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15228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ff0000"/>
                </a:solidFill>
                <a:latin typeface="Times New Roman"/>
              </a:rPr>
              <a:t>ІІІ. Жаңа түсінік бер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838080"/>
            <a:ext cx="8839080" cy="556272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99"/>
                </a:solidFill>
                <a:latin typeface="Times New Roman"/>
              </a:rPr>
              <a:t>Паскаль тілін 1968-1971 жылдары швейцариялы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kk-KZ" sz="2200" spc="-1" strike="noStrike">
                <a:solidFill>
                  <a:srgbClr val="000099"/>
                </a:solidFill>
                <a:latin typeface="Times New Roman"/>
              </a:rPr>
              <a:t>ғалым Никлаус Вирт қолайлы программалау тілі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99"/>
                </a:solidFill>
                <a:latin typeface="Times New Roman"/>
              </a:rPr>
              <a:t>ретінде ұсынған болатын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99"/>
                </a:solidFill>
                <a:latin typeface="Times New Roman"/>
              </a:rPr>
              <a:t>Бұл тілдің стандарты кейінірек бекітілді, ол сол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99"/>
                </a:solidFill>
                <a:latin typeface="Times New Roman"/>
              </a:rPr>
              <a:t>кездерде кең таралған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99"/>
                </a:solidFill>
                <a:latin typeface="Times New Roman"/>
              </a:rPr>
              <a:t>АЛГОЛ, ФОРТРАН, БЕЙСИК тілдеріне қараған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kk-KZ" sz="2200" spc="-1" strike="noStrike">
                <a:solidFill>
                  <a:srgbClr val="000099"/>
                </a:solidFill>
                <a:latin typeface="Times New Roman"/>
              </a:rPr>
              <a:t>жетілдірілген, жұмыс істеуге ыңғайлы тіл болд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99"/>
                </a:solidFill>
                <a:latin typeface="Times New Roman"/>
              </a:rPr>
              <a:t>Паскаль тілінде жазылған программаның дұрыстығын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99"/>
                </a:solidFill>
                <a:latin typeface="Times New Roman"/>
              </a:rPr>
              <a:t>компьютерде тексеру және жіберілген қатені түзету оңа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99"/>
                </a:solidFill>
                <a:latin typeface="Times New Roman"/>
              </a:rPr>
              <a:t>Қазіргі кезде Паскаль тілі кез келген күрделі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99"/>
                </a:solidFill>
                <a:latin typeface="Times New Roman"/>
              </a:rPr>
              <a:t>есептерді шығара алатын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99"/>
                </a:solidFill>
                <a:latin typeface="Times New Roman"/>
              </a:rPr>
              <a:t>кең таралған стандартты оқу тіліне айналды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>
            <a:lum bright="2000"/>
          </a:blip>
          <a:srcRect l="0" t="0" r="0" b="-1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85800" y="304920"/>
            <a:ext cx="8001000" cy="2361960"/>
          </a:xfrm>
          <a:prstGeom prst="downArrowCallout">
            <a:avLst>
              <a:gd name="adj1" fmla="val -78976"/>
              <a:gd name="adj2" fmla="val 84686"/>
              <a:gd name="adj3" fmla="val 16667"/>
              <a:gd name="adj4" fmla="val 66667"/>
            </a:avLst>
          </a:prstGeom>
          <a:solidFill>
            <a:srgbClr val="ffff99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19320" y="38088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0000ff"/>
                </a:solidFill>
                <a:latin typeface="Times New Roman"/>
              </a:rPr>
              <a:t>Паскаль тіліндегі программа 3 бөліктен тұрад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066680" y="2743200"/>
            <a:ext cx="7620120" cy="1295280"/>
          </a:xfrm>
          <a:custGeom>
            <a:avLst/>
            <a:gdLst>
              <a:gd name="textAreaLeft" fmla="*/ 0 w 7620120"/>
              <a:gd name="textAreaRight" fmla="*/ 7620480 w 7620120"/>
              <a:gd name="textAreaTop" fmla="*/ 167760 h 1295280"/>
              <a:gd name="textAreaBottom" fmla="*/ 1127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cc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ff0000"/>
                </a:solidFill>
                <a:latin typeface="Times New Roman"/>
              </a:rPr>
              <a:t>тақыры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90720" y="3886200"/>
            <a:ext cx="7619760" cy="1295280"/>
          </a:xfrm>
          <a:custGeom>
            <a:avLst/>
            <a:gdLst>
              <a:gd name="textAreaLeft" fmla="*/ 0 w 7619760"/>
              <a:gd name="textAreaRight" fmla="*/ 7620120 w 7619760"/>
              <a:gd name="textAreaTop" fmla="*/ 167760 h 1295280"/>
              <a:gd name="textAreaBottom" fmla="*/ 1127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cc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ff0000"/>
                </a:solidFill>
                <a:latin typeface="Times New Roman"/>
              </a:rPr>
              <a:t>Сипаттау бөлім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90720" y="5029200"/>
            <a:ext cx="7619760" cy="1295280"/>
          </a:xfrm>
          <a:custGeom>
            <a:avLst/>
            <a:gdLst>
              <a:gd name="textAreaLeft" fmla="*/ 0 w 7619760"/>
              <a:gd name="textAreaRight" fmla="*/ 7620120 w 7619760"/>
              <a:gd name="textAreaTop" fmla="*/ 167760 h 1295280"/>
              <a:gd name="textAreaBottom" fmla="*/ 1127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cc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ff0000"/>
                </a:solidFill>
                <a:latin typeface="Times New Roman"/>
              </a:rPr>
              <a:t>Операторлар бөлім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>
            <a:lum bright="2000"/>
          </a:blip>
          <a:srcRect l="0" t="0" r="0" b="-13"/>
          <a:stretch/>
        </p:blipFill>
        <p:spPr>
          <a:xfrm>
            <a:off x="-15228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477120" y="5079960"/>
            <a:ext cx="2438280" cy="14986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28600" y="304920"/>
            <a:ext cx="8610480" cy="5638680"/>
          </a:xfrm>
          <a:prstGeom prst="flowChartDocument">
            <a:avLst/>
          </a:prstGeom>
          <a:solidFill>
            <a:srgbClr val="ccff99"/>
          </a:solidFill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Кез келген программаның алғашқы жо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PROGRAM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сөзінен басталатын оның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тақырыбынан тұра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00"/>
                </a:solidFill>
                <a:latin typeface="Times New Roman"/>
              </a:rPr>
              <a:t>Одан кейін программаның ішкі объектілерінің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ff0000"/>
                </a:solidFill>
                <a:latin typeface="Times New Roman"/>
              </a:rPr>
              <a:t>Сипатталу бөлімі</a:t>
            </a:r>
            <a:r>
              <a:rPr b="1" i="1" lang="kk-KZ" sz="2800" spc="-1" strike="noStrike">
                <a:solidFill>
                  <a:srgbClr val="000000"/>
                </a:solidFill>
                <a:latin typeface="Times New Roman"/>
              </a:rPr>
              <a:t> жазылад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28600" y="304920"/>
            <a:ext cx="8686800" cy="6324480"/>
          </a:xfrm>
          <a:prstGeom prst="flowChartDocument">
            <a:avLst/>
          </a:prstGeom>
          <a:solidFill>
            <a:srgbClr val="ccff99"/>
          </a:solidFill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Программаның соңғы және негізгі бөлімі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5400" spc="-1" strike="noStrike">
                <a:solidFill>
                  <a:srgbClr val="ff0000"/>
                </a:solidFill>
                <a:latin typeface="Times New Roman"/>
              </a:rPr>
              <a:t>операторлар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бөлімі болып табылады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00"/>
                </a:solidFill>
                <a:latin typeface="Times New Roman"/>
              </a:rPr>
              <a:t>Орындалатын іс-әрекеттер, командалар, ос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00"/>
                </a:solidFill>
                <a:latin typeface="Times New Roman"/>
              </a:rPr>
              <a:t>бөлімде орналасады. Ол 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begin</a:t>
            </a:r>
            <a:r>
              <a:rPr b="1" i="1" lang="kk-KZ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kk-KZ" sz="2800" spc="-1" strike="noStrike">
                <a:solidFill>
                  <a:srgbClr val="000000"/>
                </a:solidFill>
                <a:latin typeface="Times New Roman"/>
              </a:rPr>
              <a:t>түйінді сөзіне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00"/>
                </a:solidFill>
                <a:latin typeface="Times New Roman"/>
              </a:rPr>
              <a:t>басталып 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end </a:t>
            </a:r>
            <a:r>
              <a:rPr b="1" i="1" lang="kk-KZ" sz="2800" spc="-1" strike="noStrike">
                <a:solidFill>
                  <a:srgbClr val="000000"/>
                </a:solidFill>
                <a:latin typeface="Times New Roman"/>
              </a:rPr>
              <a:t>сөзімен аяқталады.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kk-K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улден</cp:lastModifiedBy>
  <dcterms:modified xsi:type="dcterms:W3CDTF">2011-09-24T05:11:47Z</dcterms:modified>
  <cp:revision>7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c020000000000010243100207f6000400038000</vt:lpwstr>
  </property>
  <property fmtid="{D5CDD505-2E9C-101B-9397-08002B2CF9AE}" pid="3" name="Version">
    <vt:r8>1</vt:r8>
  </property>
</Properties>
</file>