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36B-44D0-4262-9E6E-4CDBBA79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4F0-FD96-4C85-B808-CE99686B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6FA-F25A-415E-87ED-7239A71B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B4D-762E-4D33-9C52-5C5C9012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D91-962D-4E87-BD49-6966D5BC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1CF-4465-455E-A29F-F4F7AAB2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1DD-E5E1-428F-B358-4805A74F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03B-A136-4C84-A001-C0CC83E2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1B7-9DDE-49FC-8103-E4BAF18D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A80-35C0-4C2F-8A42-8A028BDB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E4B-0DB0-4DED-8B30-3C1CC117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E28-83C5-408E-ACE2-05AA2B2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8322-5BE2-48EC-9C91-C33B01B3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836640"/>
            <a:ext cx="71344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Packal   тіліндегі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грамма құрылым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5445000"/>
            <a:ext cx="748836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nim047"/>
          <p:cNvPicPr/>
          <p:nvPr/>
        </p:nvPicPr>
        <p:blipFill>
          <a:blip r:embed="rId2"/>
          <a:stretch/>
        </p:blipFill>
        <p:spPr>
          <a:xfrm>
            <a:off x="3492360" y="5157720"/>
            <a:ext cx="1371600" cy="125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777564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nim047"/>
          <p:cNvPicPr/>
          <p:nvPr/>
        </p:nvPicPr>
        <p:blipFill>
          <a:blip r:embed="rId4"/>
          <a:stretch/>
        </p:blipFill>
        <p:spPr>
          <a:xfrm>
            <a:off x="3635280" y="5157720"/>
            <a:ext cx="13716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37440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Берілген x  пен y сандарының қосындысын, айырмасы  мен көбейтіндісіні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мәндерін есептеу программасын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916280"/>
          <a:ext cx="6697800" cy="3751200"/>
        </p:xfrm>
        <a:graphic>
          <a:graphicData uri="http://schemas.openxmlformats.org/drawingml/2006/table">
            <a:tbl>
              <a:tblPr/>
              <a:tblGrid>
                <a:gridCol w="2697120"/>
                <a:gridCol w="400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есепт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,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, R2, 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-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*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, s, p, r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, у –ті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,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:=x+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:=x-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:=x*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x+y=’ , s, ‘x-y=’,p, ‘x*y=’,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756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</a:t>
            </a:r>
            <a:r>
              <a:rPr b="0" lang="kk-KZ" sz="24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12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–сін 6 қадаммен есептейт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лгоритм мен программа мен  құру ке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87280" y="1484280"/>
          <a:ext cx="6813360" cy="4452840"/>
        </p:xfrm>
        <a:graphic>
          <a:graphicData uri="http://schemas.openxmlformats.org/drawingml/2006/table">
            <a:tbl>
              <a:tblPr/>
              <a:tblGrid>
                <a:gridCol w="3406680"/>
                <a:gridCol w="34066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дәреж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a, b,c, d,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, b,c, d,e, f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g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-ны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g=’ ,g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180000"/>
            <a:ext cx="6193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-ті есепт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870120"/>
            <a:ext cx="733320" cy="419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8920" y="1413000"/>
          <a:ext cx="7056360" cy="4031640"/>
        </p:xfrm>
        <a:graphic>
          <a:graphicData uri="http://schemas.openxmlformats.org/drawingml/2006/table">
            <a:tbl>
              <a:tblPr/>
              <a:tblGrid>
                <a:gridCol w="3616200"/>
                <a:gridCol w="34401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х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5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- 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4: = R3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5: =6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6: = R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= R4/ R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 –ті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(sqr(x)-5*x+3)/(6*x-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295200" cy="42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478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484360" y="2205000"/>
            <a:ext cx="3816000" cy="2852640"/>
            <a:chOff x="2484360" y="2205000"/>
            <a:chExt cx="3816000" cy="2852640"/>
          </a:xfrm>
        </p:grpSpPr>
        <p:sp>
          <p:nvSpPr>
            <p:cNvPr id="95" name=""/>
            <p:cNvSpPr/>
            <p:nvPr/>
          </p:nvSpPr>
          <p:spPr>
            <a:xfrm>
              <a:off x="2484360" y="2205000"/>
              <a:ext cx="3816000" cy="28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93440" y="2205000"/>
              <a:ext cx="0" cy="28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3473280"/>
              <a:ext cx="38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3440" y="3473280"/>
              <a:ext cx="1906560" cy="158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4360" y="2205000"/>
              <a:ext cx="1909080" cy="12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26920" y="59904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Қабырғасы а-ға тең шаршы берілг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Фигураның боялған бөлігінің ауданын есепте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703880"/>
            <a:ext cx="2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7582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0176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62864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A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a,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( ‘a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–ны енгі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:=sqr(a/2)+3.14*(sqr(a/4)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 (‘s=’ , 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404640"/>
            <a:ext cx="41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0000" y="631440"/>
            <a:ext cx="712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Үш сан беріл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Олардың арифметикалық орта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табу үшін алгоритм мен программа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2205000"/>
          <a:ext cx="6813720" cy="3201840"/>
        </p:xfrm>
        <a:graphic>
          <a:graphicData uri="http://schemas.openxmlformats.org/drawingml/2006/table">
            <a:tbl>
              <a:tblPr/>
              <a:tblGrid>
                <a:gridCol w="3406680"/>
                <a:gridCol w="340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рифметикалық ор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,в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а+в+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,у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-ны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а+в+с)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733320" cy="4474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211640" y="4365720"/>
            <a:ext cx="1257120" cy="1257120"/>
            <a:chOff x="4211640" y="4365720"/>
            <a:chExt cx="1257120" cy="1257120"/>
          </a:xfrm>
        </p:grpSpPr>
        <p:sp>
          <p:nvSpPr>
            <p:cNvPr id="113" name=""/>
            <p:cNvSpPr/>
            <p:nvPr/>
          </p:nvSpPr>
          <p:spPr>
            <a:xfrm>
              <a:off x="4211640" y="4365720"/>
              <a:ext cx="1257120" cy="12571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1640" y="4365720"/>
              <a:ext cx="1257120" cy="12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1640" y="6854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І- нұс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AutoNum type="arabicPeriod"/>
              <a:tabLst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25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0138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 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(sin(3)+sqrt(35.8))/(2.6+sqr(1.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Үшбұрыш қабырғаларының а,в,с ұзындықтары берілген. Үшбұрыштың ауданын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8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7628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84360" y="189000"/>
            <a:ext cx="460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Практикалық жұмыс 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564000" y="3789360"/>
            <a:ext cx="1727280" cy="1511280"/>
            <a:chOff x="3564000" y="3789360"/>
            <a:chExt cx="1727280" cy="1511280"/>
          </a:xfrm>
        </p:grpSpPr>
        <p:sp>
          <p:nvSpPr>
            <p:cNvPr id="120" name=""/>
            <p:cNvSpPr/>
            <p:nvPr/>
          </p:nvSpPr>
          <p:spPr>
            <a:xfrm>
              <a:off x="3564000" y="3789360"/>
              <a:ext cx="1727280" cy="1511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4000" y="3789360"/>
              <a:ext cx="1714320" cy="14857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4360" y="260280"/>
            <a:ext cx="74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ІІ-нұс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4</a:t>
            </a:r>
            <a:r>
              <a:rPr b="0" lang="kk-KZ" sz="16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2,5</a:t>
            </a: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030320"/>
            <a:ext cx="101952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13719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</a:t>
            </a:r>
            <a:r>
              <a:rPr b="0" lang="kk-KZ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bs(sin(75*pi/180)-5)+(3.2+sqr(1/5))/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 Дұрыс үшбұрыштың ауданын есептеу 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 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10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ге арналға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 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7640" y="2492280"/>
            <a:ext cx="3600720" cy="2160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Алгорит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2421000"/>
            <a:ext cx="3673800" cy="208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Програм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692280"/>
            <a:ext cx="568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нн диаграммас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0"/>
            <a:ext cx="4895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бақ мақсаттары: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692280"/>
            <a:ext cx="51958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33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ілімділік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33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341360"/>
            <a:ext cx="6984720" cy="115092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Оқушының теориялық алған білімін практикада қолдан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Алгоритмдерді Packal  программалау тіліне аударуды меңгер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тапсырмаларға сәйкес программа құр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565360"/>
            <a:ext cx="5700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мытушылық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213000"/>
            <a:ext cx="7200720" cy="151128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ң логикалық ой қорытуларын дамы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 шешім қабылдай білуге баулу, алған білімдерін шығармашылық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қолдануға дағдыланды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программа құрудағы дағды мен шеберлік-іскерліктерін қалыптастыру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653000"/>
            <a:ext cx="43909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әрбиелік мақсаты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418000"/>
            <a:ext cx="7272360" cy="144000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қойған мақсатқа жетуге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Жүйелі және ретті жұмыс жасауға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Қарым –қатынас мәдениетін қалыптастыруға тәрбиеле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9564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тақта,  слайд-оқулық, есеп-тапсырмалар, слайд-сызба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549360"/>
            <a:ext cx="5600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міндет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1600" y="12682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Паскаль тілінде бағдарлама ж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алгоритмін оқушыларға меңге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989000"/>
            <a:ext cx="390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ү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90840" y="256536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–практикалық саба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29973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ип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4320" y="386064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Дағды мен шеберлікті қалыптасты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4581360"/>
            <a:ext cx="5133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 көрнекілік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5280" y="1628640"/>
            <a:ext cx="2160720" cy="574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2498760" cy="60948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Х-ті енгі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3284640"/>
            <a:ext cx="2232000" cy="60948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1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4149720"/>
            <a:ext cx="2232000" cy="46512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2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4869000"/>
            <a:ext cx="2498760" cy="46512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Нәтижесі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5589720"/>
            <a:ext cx="2160720" cy="5745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оң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5373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8000" y="189000"/>
            <a:ext cx="5688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Сызықтық құрылымды  алгоритмдер 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мен программаларды құру.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2994120"/>
            <a:ext cx="75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А) көзделген мақсатқа жетудегі ережелердің реттіліг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B) командалар тізім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990099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көзделген мақсат  қажетуге бағытталған амалдарды ретімен орындау үшін орындаушыға берілген түсінікті және нақты тапсырманы айт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333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413000"/>
            <a:ext cx="7632720" cy="143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Arial"/>
              </a:rPr>
              <a:t>Алгоритм деп ... айт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2565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үсініктілі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қолайл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жинақт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дискеттілі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62064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Төмендегі келтірілген қасиеттердің қайсы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лгоритмнің қасиеті болып саналмай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0" y="2781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ипі, 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аты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типі 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типі, аты, мәні беріл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йнымалы түгелдей берілген болып санала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егер оның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314172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А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В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9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С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  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3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йнымалылардың   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-2,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11,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8 мәндері берілг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+6;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в+а;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+15 меншіктеу командалары сериясы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орындалу нәтижесін анықт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916280"/>
            <a:ext cx="8567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А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-ті х-ке көбе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2-ден 15-ті азайту; нәтижені R3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R3-к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В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2-тан 15 –ті аза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2-г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76280"/>
            <a:ext cx="705636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у=2х(х2 -15) өрнегінің мәнін есептеу алгоритміні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дұрыс нұсқасын анықтаңда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6:11:53Z</dcterms:created>
  <dc:creator>Komp15</dc:creator>
  <dc:description/>
  <dc:language>en-US</dc:language>
  <cp:lastModifiedBy>Uzzzer</cp:lastModifiedBy>
  <dcterms:modified xsi:type="dcterms:W3CDTF">2011-02-21T15:43:1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2000000000001024110</vt:lpwstr>
  </property>
</Properties>
</file>