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0FC-3B10-4866-BB35-43BF7327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673-97D5-423D-8081-9914C49C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715-792D-4CBA-AE93-8DEFF748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59A-5FCA-4BC5-AD8A-FD091036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071-F291-4D24-AD83-2053BFA7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A41-B046-4311-BC73-37239658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878-63E9-4779-871A-7B9AF622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EE2-8747-4EB9-A6B8-7E8DE4C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315-D09A-4D1A-B114-ADD3CB1E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852-A413-4DAB-87E8-B4BF3DB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79E-B2BE-4293-94A3-900BFB17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D42-60DD-478F-9E7F-FB2C70C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FA8-93F1-4367-AFE0-E74246145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836640"/>
            <a:ext cx="71344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Packal   тіліндегі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рограмма құрылым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5445000"/>
            <a:ext cx="7488360" cy="1076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nim047"/>
          <p:cNvPicPr/>
          <p:nvPr/>
        </p:nvPicPr>
        <p:blipFill>
          <a:blip r:embed="rId2"/>
          <a:stretch/>
        </p:blipFill>
        <p:spPr>
          <a:xfrm>
            <a:off x="3492360" y="5157720"/>
            <a:ext cx="137160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777564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nim047"/>
          <p:cNvPicPr/>
          <p:nvPr/>
        </p:nvPicPr>
        <p:blipFill>
          <a:blip r:embed="rId4"/>
          <a:stretch/>
        </p:blipFill>
        <p:spPr>
          <a:xfrm>
            <a:off x="3635280" y="5157720"/>
            <a:ext cx="13716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37440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Берілген x  пен y сандарының қосындысын, айырмасы  мен көбейтіндісіні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мәндерін есептеу программасын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916280"/>
          <a:ext cx="6697800" cy="3751200"/>
        </p:xfrm>
        <a:graphic>
          <a:graphicData uri="http://schemas.openxmlformats.org/drawingml/2006/table">
            <a:tbl>
              <a:tblPr/>
              <a:tblGrid>
                <a:gridCol w="2697120"/>
                <a:gridCol w="400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есепте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,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, R2, 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, s, p, r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, у –ті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,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:=x+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:=x-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:=x*y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x+y=’ , s, ‘x-y=’,p, ‘x*y=’,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92360" y="756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</a:t>
            </a:r>
            <a:r>
              <a:rPr b="0" lang="kk-KZ" sz="24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12</a:t>
            </a: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 –сін 6 қадаммен есептейт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алгоритм мен программа мен  құру кер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1484280"/>
          <a:ext cx="6813360" cy="4452840"/>
        </p:xfrm>
        <a:graphic>
          <a:graphicData uri="http://schemas.openxmlformats.org/drawingml/2006/table">
            <a:tbl>
              <a:tblPr/>
              <a:tblGrid>
                <a:gridCol w="3406680"/>
                <a:gridCol w="340668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дәреж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a, b,c, d,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, b,c, d,e, f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g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-ны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=a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=b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=c*c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= d*b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f=e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g=f*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g=’ ,g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180000"/>
            <a:ext cx="6193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-ті есепт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59280" y="870120"/>
            <a:ext cx="733320" cy="419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58920" y="1413000"/>
          <a:ext cx="7056360" cy="4031640"/>
        </p:xfrm>
        <a:graphic>
          <a:graphicData uri="http://schemas.openxmlformats.org/drawingml/2006/table">
            <a:tbl>
              <a:tblPr/>
              <a:tblGrid>
                <a:gridCol w="3616200"/>
                <a:gridCol w="34401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фун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х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2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5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3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- 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4: = R3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5: =6*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6: = R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= R4/ R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 x, y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 –ті енгіз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 (x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(sqr(x)-5*x+3)/(6*x-1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295200" cy="42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4478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484360" y="2205000"/>
            <a:ext cx="3816000" cy="2852640"/>
            <a:chOff x="2484360" y="2205000"/>
            <a:chExt cx="3816000" cy="2852640"/>
          </a:xfrm>
        </p:grpSpPr>
        <p:sp>
          <p:nvSpPr>
            <p:cNvPr id="95" name=""/>
            <p:cNvSpPr/>
            <p:nvPr/>
          </p:nvSpPr>
          <p:spPr>
            <a:xfrm>
              <a:off x="2484360" y="2205000"/>
              <a:ext cx="3816000" cy="28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93440" y="2205000"/>
              <a:ext cx="0" cy="28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4360" y="3473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3473280"/>
              <a:ext cx="38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3440" y="3473280"/>
              <a:ext cx="1906560" cy="1584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4360" y="2205000"/>
              <a:ext cx="1909080" cy="12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826920" y="59904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Қабырғасы а-ға тең шаршы берілг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Фигураның боялған бөлігінің ауданын есептеу үшін алгоритм мен программа құру кер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1703880"/>
            <a:ext cx="2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7582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0176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628640"/>
            <a:ext cx="71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A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a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a,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( ‘a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–ны енгі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:=sqr(a/2)+3.14*(sqr(a/4)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riteln  (‘s=’ , 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ad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40464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000ff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000ff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0000" y="631440"/>
            <a:ext cx="7128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№</a:t>
            </a:r>
            <a:r>
              <a:rPr b="0" lang="kk-KZ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Үш сан беріл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Олардың арифметикалық орта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66ff"/>
                </a:solidFill>
                <a:latin typeface="Arial"/>
                <a:ea typeface="Times New Roman"/>
              </a:rPr>
              <a:t>табу үшін алгоритм мен программа құру к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87280" y="2205000"/>
          <a:ext cx="6813720" cy="3201840"/>
        </p:xfrm>
        <a:graphic>
          <a:graphicData uri="http://schemas.openxmlformats.org/drawingml/2006/table">
            <a:tbl>
              <a:tblPr/>
              <a:tblGrid>
                <a:gridCol w="3406680"/>
                <a:gridCol w="3407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лгорит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л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рифметикалық ор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Арг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а,в,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Нәт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Б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1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а+в+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: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R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Соң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A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var 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,у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: rea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 ‘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-ны енгіз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’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,в,с</a:t>
                      </a: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:=</a:t>
                      </a:r>
                      <a:r>
                        <a:rPr b="0" lang="kk-KZ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а+в+с)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riteln  (‘y=’ , y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dl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733320" cy="4474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211640" y="4365720"/>
            <a:ext cx="1257120" cy="1257120"/>
            <a:chOff x="4211640" y="4365720"/>
            <a:chExt cx="1257120" cy="1257120"/>
          </a:xfrm>
        </p:grpSpPr>
        <p:sp>
          <p:nvSpPr>
            <p:cNvPr id="113" name=""/>
            <p:cNvSpPr/>
            <p:nvPr/>
          </p:nvSpPr>
          <p:spPr>
            <a:xfrm>
              <a:off x="4211640" y="4365720"/>
              <a:ext cx="1257120" cy="1257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1640" y="4365720"/>
              <a:ext cx="1257120" cy="12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6854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І- нұс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3300"/>
              </a:buClr>
              <a:buFont typeface="Arial"/>
              <a:buAutoNum type="arabicPeriod"/>
              <a:tabLst>
                <a:tab algn="l" pos="45720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25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0138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 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(sin(3)+sqrt(35.8))/(2.6+sqr(1.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Үшбұрыш қабырғаларының а,в,с ұзындықтары берілген. Үшбұрыштың ауданын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8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 үші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7628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84360" y="189000"/>
            <a:ext cx="460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Практикалық жұмыс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564000" y="3789360"/>
            <a:ext cx="1727280" cy="1511280"/>
            <a:chOff x="3564000" y="3789360"/>
            <a:chExt cx="1727280" cy="1511280"/>
          </a:xfrm>
        </p:grpSpPr>
        <p:sp>
          <p:nvSpPr>
            <p:cNvPr id="120" name=""/>
            <p:cNvSpPr/>
            <p:nvPr/>
          </p:nvSpPr>
          <p:spPr>
            <a:xfrm>
              <a:off x="3564000" y="3789360"/>
              <a:ext cx="1727280" cy="1511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4000" y="3789360"/>
              <a:ext cx="1714320" cy="14857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260280"/>
            <a:ext cx="74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ІІ-нұс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ына өрнектерді Packal тілінле жазып, олардың мәндерін есепте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9040"/>
                <a:tab algn="l" pos="124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4</a:t>
            </a:r>
            <a:r>
              <a:rPr b="0" lang="kk-KZ" sz="16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2,5</a:t>
            </a:r>
            <a:r>
              <a:rPr b="0" lang="kk-KZ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7280" y="1030320"/>
            <a:ext cx="101952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13719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2.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ackal тілінде келтірілген өрнектерге сәйкес келетін арифметикалық</a:t>
            </a:r>
            <a:r>
              <a:rPr b="0" lang="kk-KZ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өрнектерді жазу кер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bs(sin(75*pi/180)-5)+(3.2+sqr(1/5))/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3. Дұрыс үшбұрыштың ауданын есептеу 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4. а</a:t>
            </a:r>
            <a:r>
              <a:rPr b="0" lang="kk-KZ" sz="18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10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есептеуге арналға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5. Қабырғасы а-ға тең шаршы берілген. Фигураның боялған бөлігінің ауданын есептеу үшін алгоритм мен программа құру кер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47640" y="2492280"/>
            <a:ext cx="3600720" cy="21607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Алгорит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3673800" cy="2087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ff3300"/>
                </a:solidFill>
                <a:latin typeface="Arial"/>
              </a:rPr>
              <a:t>Програм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692280"/>
            <a:ext cx="568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нн диаграммас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0"/>
            <a:ext cx="4895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бақ мақсаттары: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92280"/>
            <a:ext cx="51958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3300"/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ілімділік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50000">
                    <a:srgbClr val="ff3300"/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341360"/>
            <a:ext cx="6984720" cy="115092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Оқушының теориялық алған білімін практикада қолдан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Алгоритмдерді Packal  программалау тіліне аударуды меңгер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 тапсырмаларға сәйкес программа құра білеге үйре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565360"/>
            <a:ext cx="5700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мытушылық мақсаты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213000"/>
            <a:ext cx="7200720" cy="151128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ң логикалық ой қорытуларын дамы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Оқушыны шешім қабылдай білуге баулу, алған білімдерін шығармашылық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қолдануға дағдыланды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ff"/>
                </a:solidFill>
                <a:latin typeface="Arial"/>
              </a:rPr>
              <a:t>-программа құрудағы дағды мен шеберлік-іскерліктерін қалыптастыру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653000"/>
            <a:ext cx="43909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33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әрбиелік мақсаты: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ff33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418000"/>
            <a:ext cx="7272360" cy="1440000"/>
          </a:xfrm>
          <a:prstGeom prst="flowChartPunchedTape">
            <a:avLst/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қойған мақсатқа жетуге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Жүйелі және ретті жұмыс жасауға тәрбиеле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Arial"/>
              </a:rPr>
              <a:t>-Қарым –қатынас мәдениетін қалыптастыруға тәрбиеле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95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тақта,  слайд-оқулық, есеп-тапсырмалар, слайд-сызба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549360"/>
            <a:ext cx="5600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міндет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1600" y="12682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Паскаль тілінде бағдарлама ж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алгоритмін оқушыларға меңге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989000"/>
            <a:ext cx="3905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ү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90840" y="2565360"/>
            <a:ext cx="40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Интерактивті –практикалық саба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29973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тың тип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4320" y="386064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Дағды мен шеберлікті қалыптасты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4581360"/>
            <a:ext cx="5133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бақ көрнекіліктері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35280" y="1628640"/>
            <a:ext cx="2160720" cy="5749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498760" cy="60948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Х-ті енг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3284640"/>
            <a:ext cx="2232000" cy="60948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1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4149720"/>
            <a:ext cx="2232000" cy="465120"/>
          </a:xfrm>
          <a:prstGeom prst="flowChart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2-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4869000"/>
            <a:ext cx="2498760" cy="465120"/>
          </a:xfrm>
          <a:prstGeom prst="flowChartInputOutpu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Нәтижесі-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5589720"/>
            <a:ext cx="2160720" cy="5745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оң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5373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89000"/>
            <a:ext cx="5688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Сызықтық құрылымды  алгоритмдер 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3300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Times New Roman"/>
              </a:rPr>
              <a:t>мен программаларды құру.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3300"/>
                  </a:gs>
                  <a:gs pos="100000">
                    <a:srgbClr val="0000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2994120"/>
            <a:ext cx="75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А) көзделген мақсатқа жетудегі ережелердің реттіліг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B) командалар тізімі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990099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99"/>
                </a:solidFill>
                <a:latin typeface="Arial"/>
              </a:rPr>
              <a:t>көзделген мақсат  қажетуге бағытталған амалдарды ретімен орындау үшін орындаушыға берілген түсінікті және нақты тапсырманы айт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333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413000"/>
            <a:ext cx="7632720" cy="1439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Arial"/>
              </a:rPr>
              <a:t>Алгоритм деп ... айт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256536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үсініктілі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қолайл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жинақтылық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дискеттілі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62064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Төмендегі келтірілген қасиеттердің қайсы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лгоритмнің қасиеті болып саналмай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32000" y="2781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А) типі, 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В) аты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С) типі , мә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990099"/>
                </a:solidFill>
                <a:latin typeface="Arial"/>
              </a:rPr>
              <a:t>Д) типі, аты, мәні беріл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Айнымалы түгелдей берілген болып санала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ff3300"/>
                </a:solidFill>
                <a:latin typeface="Arial"/>
              </a:rPr>
              <a:t>егер оның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42920" y="314172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А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В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9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С) а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4; в:  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3; с:</a:t>
            </a:r>
            <a:r>
              <a:rPr b="1" i="1" lang="ru-RU" sz="2800" spc="-1" strike="noStrike">
                <a:solidFill>
                  <a:srgbClr val="990099"/>
                </a:solidFill>
                <a:latin typeface="Arial"/>
              </a:rPr>
              <a:t> =</a:t>
            </a:r>
            <a:r>
              <a:rPr b="1" i="1" lang="kk-KZ" sz="2800" spc="-1" strike="noStrike">
                <a:solidFill>
                  <a:srgbClr val="990099"/>
                </a:solidFill>
                <a:latin typeface="Arial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333360"/>
            <a:ext cx="7632720" cy="180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йнымалылардың   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-2,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11,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8 мәндері берілг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а+6; в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в+а; с: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с+15 меншіктеу командалары сериясы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орындалу нәтижесін анықт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916280"/>
            <a:ext cx="85676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А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-ті х-ке көбе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2-ден 15-ті азайту; нәтижені R3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R3-к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В)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алг  </a:t>
            </a: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есептеу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i="1" lang="kk-KZ" sz="2000" spc="-1" strike="noStrike" u="sng">
                <a:solidFill>
                  <a:srgbClr val="990099"/>
                </a:solidFill>
                <a:uFillTx/>
                <a:latin typeface="Arial"/>
              </a:rPr>
              <a:t>б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2-ні х-ке көбейту; нәтижені R1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х2-тан 15 –ті азайту; нәтижені R2 деп белгіле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0099"/>
                </a:solidFill>
                <a:latin typeface="Arial"/>
              </a:rPr>
              <a:t>R1-ді 2-ге көбейту; нәтижені у деп белгі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476280"/>
            <a:ext cx="705636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у=2х(х2 -15) өрнегінің мәнін есептеу алгоритміні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дұрыс нұсқасын анықтаңд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6:11:53Z</dcterms:created>
  <dc:creator>Komp15</dc:creator>
  <dc:description/>
  <dc:language>en-US</dc:language>
  <cp:lastModifiedBy>Uzzzer</cp:lastModifiedBy>
  <dcterms:modified xsi:type="dcterms:W3CDTF">2011-02-21T15:43:1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2000000000001024110</vt:lpwstr>
  </property>
</Properties>
</file>