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gif" ContentType="image/gif"/>
  <Override PartName="/ppt/media/image5.wmf" ContentType="image/x-wmf"/>
  <Override PartName="/ppt/media/image3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59C9-BCB4-4001-9343-5541CD1FF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4143-ED58-426B-A9C5-6B72C8227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4B4A-B97E-4C79-A1BA-B85BC8304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C8DA-42B7-425A-AD32-D3651AD42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EE63-25DA-42A6-AAC3-B6658284A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131B-5E73-47C6-9A61-95425D963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8F6E-D68D-43BD-A93C-A587BD571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6B18-D878-4027-8C9A-B68268BC6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A0F6-7AC8-4542-AA23-6250ED241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FD26-4495-4F3E-BFFE-5C11B478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A072-7902-4E7B-A35B-AB003EB0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206A-3EBD-4016-BDB5-AC17E208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EA606-7AEF-4E92-8321-17521FDA2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1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00000" y="836640"/>
            <a:ext cx="7134480" cy="385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Packal   тіліндегі 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программа құрылымы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8360" y="5445000"/>
            <a:ext cx="7488360" cy="10764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anim047"/>
          <p:cNvPicPr/>
          <p:nvPr/>
        </p:nvPicPr>
        <p:blipFill>
          <a:blip r:embed="rId2"/>
          <a:stretch/>
        </p:blipFill>
        <p:spPr>
          <a:xfrm>
            <a:off x="3492360" y="5157720"/>
            <a:ext cx="1371600" cy="1257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68360" y="5445000"/>
            <a:ext cx="7775640" cy="1076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anim047"/>
          <p:cNvPicPr/>
          <p:nvPr/>
        </p:nvPicPr>
        <p:blipFill>
          <a:blip r:embed="rId4"/>
          <a:stretch/>
        </p:blipFill>
        <p:spPr>
          <a:xfrm>
            <a:off x="3635280" y="5157720"/>
            <a:ext cx="137160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26920" y="374400"/>
            <a:ext cx="7058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№</a:t>
            </a: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Берілген x  пен y сандарының қосындысын, айырмасы  мен көбейтіндісінің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 </a:t>
            </a: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мәндерін есептеу программасын құру кер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187280" y="1916280"/>
          <a:ext cx="6697800" cy="3751200"/>
        </p:xfrm>
        <a:graphic>
          <a:graphicData uri="http://schemas.openxmlformats.org/drawingml/2006/table">
            <a:tbl>
              <a:tblPr/>
              <a:tblGrid>
                <a:gridCol w="2697120"/>
                <a:gridCol w="4000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Алгорит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Програм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Алг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есепте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Арг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x,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Нәт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1, R2, 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Ба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1: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=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x+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2: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=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x-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3: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=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x*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Соң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program A1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var  x, y, s, p, r: real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beg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riteln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( ‘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х, у –ті енгіз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’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eadln (x,y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s:=x+y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p:=x-y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:=x*y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riteln  (‘x+y=’ , s, ‘x-y=’,p, ‘x*y=’,r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eadln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en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692360" y="75600"/>
            <a:ext cx="589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№</a:t>
            </a: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а</a:t>
            </a:r>
            <a:r>
              <a:rPr b="0" lang="kk-KZ" sz="2400" spc="-1" strike="noStrike" baseline="30000">
                <a:solidFill>
                  <a:srgbClr val="0066ff"/>
                </a:solidFill>
                <a:latin typeface="Arial"/>
                <a:ea typeface="Times New Roman"/>
              </a:rPr>
              <a:t>12</a:t>
            </a: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 –сін 6 қадаммен есептейті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алгоритм мен программа мен  құру кер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187280" y="1484280"/>
          <a:ext cx="6813360" cy="4452840"/>
        </p:xfrm>
        <a:graphic>
          <a:graphicData uri="http://schemas.openxmlformats.org/drawingml/2006/table">
            <a:tbl>
              <a:tblPr/>
              <a:tblGrid>
                <a:gridCol w="3406680"/>
                <a:gridCol w="340668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Алгорит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Програм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Алг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дәреж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Арг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a, b,c, d,e,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Нәт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Ба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b=a*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c=b*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d=c*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e= d*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f=e*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g=f*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Соң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program A2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var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a, b,c, d,e, f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,g: real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beg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riteln ( ‘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а-ны енгіз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’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eadln (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b=a*a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c=b*b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d=c*c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e= d*b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f=e*a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g=f*a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riteln  (‘g=’ ,g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eadln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en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547640" y="180000"/>
            <a:ext cx="619308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66ff"/>
                </a:solidFill>
                <a:latin typeface="Arial"/>
                <a:ea typeface="Times New Roman"/>
              </a:rPr>
              <a:t>№</a:t>
            </a:r>
            <a:r>
              <a:rPr b="0" lang="kk-KZ" sz="1800" spc="-1" strike="noStrike">
                <a:solidFill>
                  <a:srgbClr val="0066ff"/>
                </a:solidFill>
                <a:latin typeface="Arial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У-ті есепту үшін алгоритм мен программа құру кер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У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859280" y="870120"/>
            <a:ext cx="733320" cy="419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258920" y="1413000"/>
          <a:ext cx="7056360" cy="4031640"/>
        </p:xfrm>
        <a:graphic>
          <a:graphicData uri="http://schemas.openxmlformats.org/drawingml/2006/table">
            <a:tbl>
              <a:tblPr/>
              <a:tblGrid>
                <a:gridCol w="3616200"/>
                <a:gridCol w="3440160"/>
              </a:tblGrid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Алгорит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Програм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Алг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функ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Арг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Нәт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Ба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1: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=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х*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2: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=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5*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3: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=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R1- 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4: = R3+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5: =6*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6: = R5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У:= R4/ R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Соң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program A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var  x, y: real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beg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riteln ( ‘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х –ті енгіз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’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eadln (x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y:=(sqr(x)-5*x+3)/(6*x-1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riteln  (‘y=’ , y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eadln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en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356000" y="1773360"/>
            <a:ext cx="295200" cy="4284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859280" y="1773360"/>
            <a:ext cx="447840" cy="457200"/>
          </a:xfrm>
          <a:prstGeom prst="rect">
            <a:avLst/>
          </a:prstGeom>
          <a:ln w="0">
            <a:noFill/>
          </a:ln>
        </p:spPr>
      </p:pic>
      <p:grpSp>
        <p:nvGrpSpPr>
          <p:cNvPr id="94" name=""/>
          <p:cNvGrpSpPr/>
          <p:nvPr/>
        </p:nvGrpSpPr>
        <p:grpSpPr>
          <a:xfrm>
            <a:off x="2484360" y="2205000"/>
            <a:ext cx="3816000" cy="2852640"/>
            <a:chOff x="2484360" y="2205000"/>
            <a:chExt cx="3816000" cy="2852640"/>
          </a:xfrm>
        </p:grpSpPr>
        <p:sp>
          <p:nvSpPr>
            <p:cNvPr id="95" name=""/>
            <p:cNvSpPr/>
            <p:nvPr/>
          </p:nvSpPr>
          <p:spPr>
            <a:xfrm>
              <a:off x="2484360" y="2205000"/>
              <a:ext cx="3816000" cy="28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393440" y="2205000"/>
              <a:ext cx="0" cy="28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484360" y="34732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484360" y="34732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484360" y="34732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484360" y="3473280"/>
              <a:ext cx="38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393440" y="3473280"/>
              <a:ext cx="1906560" cy="1584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484360" y="2205000"/>
              <a:ext cx="1909080" cy="12682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826920" y="599040"/>
            <a:ext cx="6840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№</a:t>
            </a:r>
            <a:r>
              <a:rPr b="0" lang="kk-KZ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Қабырғасы а-ға тең шаршы берілге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Фигураның боялған бөлігінің ауданын есептеу үшін алгоритм мен программа құру кер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S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43280" y="1703880"/>
            <a:ext cx="28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19640" y="1758240"/>
            <a:ext cx="100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401760" y="524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900000" y="1628640"/>
            <a:ext cx="712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program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A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var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a,s: 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writeln ( ‘a</a:t>
            </a:r>
            <a:r>
              <a:rPr b="1" lang="kk-KZ" sz="2400" spc="-1" strike="noStrike">
                <a:solidFill>
                  <a:srgbClr val="ff3300"/>
                </a:solidFill>
                <a:latin typeface="Arial"/>
              </a:rPr>
              <a:t> –ны енгіз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readln (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:=sqr(a/2)+3.14*(sqr(a/4)</a:t>
            </a:r>
            <a:r>
              <a:rPr b="1" lang="kk-KZ" sz="24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writeln  (‘s=’ , 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readl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340000" y="404640"/>
            <a:ext cx="41767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0000ff"/>
                    </a:gs>
                    <a:gs pos="100000">
                      <a:srgbClr val="ff3300"/>
                    </a:gs>
                  </a:gsLst>
                  <a:lin ang="5400000"/>
                </a:gradFill>
                <a:latin typeface="Impact"/>
              </a:rPr>
              <a:t>Программа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0000ff"/>
                  </a:gs>
                  <a:gs pos="100000">
                    <a:srgbClr val="ff33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00000" y="631440"/>
            <a:ext cx="7128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№</a:t>
            </a:r>
            <a:r>
              <a:rPr b="0" lang="kk-KZ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Үш сан берілге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Олардың арифметикалық ортасы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табу үшін алгоритм мен программа құру кер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187280" y="2205000"/>
          <a:ext cx="6813720" cy="3201840"/>
        </p:xfrm>
        <a:graphic>
          <a:graphicData uri="http://schemas.openxmlformats.org/drawingml/2006/table">
            <a:tbl>
              <a:tblPr/>
              <a:tblGrid>
                <a:gridCol w="3406680"/>
                <a:gridCol w="3407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Алгорит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Програм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Алг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арифметикалық ор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Арг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а,в,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Нәт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Ба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1: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=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а+в+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У: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=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R1/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Соң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program A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var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а,в,с,у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: real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beg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riteln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( ‘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а,в,с-ны енгіз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’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eadln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а,в,с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y:=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(а+в+с)/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riteln  (‘y=’ , y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eadln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en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292720" y="1413000"/>
            <a:ext cx="733320" cy="44748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4211640" y="4365720"/>
            <a:ext cx="1257120" cy="1257120"/>
            <a:chOff x="4211640" y="4365720"/>
            <a:chExt cx="1257120" cy="1257120"/>
          </a:xfrm>
        </p:grpSpPr>
        <p:sp>
          <p:nvSpPr>
            <p:cNvPr id="113" name=""/>
            <p:cNvSpPr/>
            <p:nvPr/>
          </p:nvSpPr>
          <p:spPr>
            <a:xfrm>
              <a:off x="4211640" y="4365720"/>
              <a:ext cx="1257120" cy="125712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211640" y="4365720"/>
              <a:ext cx="1257120" cy="125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971640" y="685440"/>
            <a:ext cx="74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124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66ff"/>
                </a:solidFill>
                <a:latin typeface="Arial"/>
                <a:ea typeface="Times New Roman"/>
              </a:rPr>
              <a:t>І- нұсқ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3300"/>
              </a:buClr>
              <a:buFont typeface="Arial"/>
              <a:buAutoNum type="arabicPeriod"/>
              <a:tabLst>
                <a:tab algn="l" pos="457200"/>
                <a:tab algn="l" pos="124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Мына өрнектерді Packal тілінле жазып, олардың мәндерін есептеу керек:256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16000" y="2013840"/>
            <a:ext cx="7848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2.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Packal тілінде келтірілген өрнектерге сәйкес келетін арифметикалық өрнектерді жазу кере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(sin(3)+sqrt(35.8))/(2.6+sqr(1.3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3.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Үшбұрыш қабырғаларының а,в,с ұзындықтары берілген. Үшбұрыштың ауданын есептеу үшін программа құру кер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4.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а</a:t>
            </a:r>
            <a:r>
              <a:rPr b="0" lang="kk-KZ" sz="1800" spc="-1" strike="noStrike" baseline="30000">
                <a:solidFill>
                  <a:srgbClr val="ff3300"/>
                </a:solidFill>
                <a:latin typeface="Arial"/>
                <a:ea typeface="Times New Roman"/>
              </a:rPr>
              <a:t>8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есептеу үшін программа құру кер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5.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Қабырғасы а-ға тең шаршы берілген. Фигураның боялған бөлігінің ауданын есептеу үшін алгоритм мен программа құру кер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476280" y="543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484360" y="189000"/>
            <a:ext cx="460080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Times New Roman"/>
              </a:rPr>
              <a:t>Практикалық жұмыс 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0000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3564000" y="3789360"/>
            <a:ext cx="1727280" cy="1511280"/>
            <a:chOff x="3564000" y="3789360"/>
            <a:chExt cx="1727280" cy="1511280"/>
          </a:xfrm>
        </p:grpSpPr>
        <p:sp>
          <p:nvSpPr>
            <p:cNvPr id="120" name=""/>
            <p:cNvSpPr/>
            <p:nvPr/>
          </p:nvSpPr>
          <p:spPr>
            <a:xfrm>
              <a:off x="3564000" y="3789360"/>
              <a:ext cx="1727280" cy="1511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564000" y="3789360"/>
              <a:ext cx="1714320" cy="14857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684360" y="260280"/>
            <a:ext cx="74167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19040"/>
                <a:tab algn="l" pos="124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ІІ-нұсқ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AutoNum type="arabicPeriod"/>
              <a:tabLst>
                <a:tab algn="l" pos="419040"/>
                <a:tab algn="l" pos="124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Мына өрнектерді Packal тілінле жазып, олардың мәндерін есептеу кере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9040"/>
                <a:tab algn="l" pos="124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4</a:t>
            </a:r>
            <a:r>
              <a:rPr b="0" lang="kk-KZ" sz="1600" spc="-1" strike="noStrike" baseline="30000">
                <a:solidFill>
                  <a:srgbClr val="ff3300"/>
                </a:solidFill>
                <a:latin typeface="Arial"/>
                <a:ea typeface="Times New Roman"/>
              </a:rPr>
              <a:t>2,5</a:t>
            </a:r>
            <a:r>
              <a:rPr b="0" lang="kk-KZ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87280" y="1030320"/>
            <a:ext cx="1019520" cy="4572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755640" y="1371960"/>
            <a:ext cx="80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7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2. 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Packal тілінде келтірілген өрнектерге сәйкес келетін арифметикалық</a:t>
            </a:r>
            <a:r>
              <a:rPr b="0" lang="kk-KZ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өрнектерді жазу кере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abs(sin(75*pi/180)-5)+(3.2+sqr(1/5))/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  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3. Дұрыс үшбұрыштың ауданын есептеу  үшін алгоритм мен программа құру кер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  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4. а</a:t>
            </a:r>
            <a:r>
              <a:rPr b="0" lang="kk-KZ" sz="1800" spc="-1" strike="noStrike" baseline="30000">
                <a:solidFill>
                  <a:srgbClr val="ff3300"/>
                </a:solidFill>
                <a:latin typeface="Arial"/>
                <a:ea typeface="Times New Roman"/>
              </a:rPr>
              <a:t>10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есептеуге арналған программа құру кер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  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5. Қабырғасы а-ға тең шаршы берілген. Фигураның боялған бөлігінің ауданын есептеу үшін алгоритм мен программа құру кер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547640" y="2492280"/>
            <a:ext cx="3600720" cy="216072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400" spc="-1" strike="noStrike">
                <a:solidFill>
                  <a:srgbClr val="ff3300"/>
                </a:solidFill>
                <a:latin typeface="Arial"/>
              </a:rPr>
              <a:t>Алгоритм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43280" y="2421000"/>
            <a:ext cx="3673800" cy="20876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400" spc="-1" strike="noStrike">
                <a:solidFill>
                  <a:srgbClr val="ff3300"/>
                </a:solidFill>
                <a:latin typeface="Arial"/>
              </a:rPr>
              <a:t>Программ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763640" y="692280"/>
            <a:ext cx="5688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енн диаграммас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24000" y="0"/>
            <a:ext cx="489564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абақ мақсаттары:</a:t>
            </a:r>
            <a:endParaRPr b="1" lang="en-US" sz="1800" spc="1" strike="noStrike">
              <a:ln w="1260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50920" y="692280"/>
            <a:ext cx="519588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66ff33"/>
                    </a:gs>
                    <a:gs pos="50000">
                      <a:srgbClr val="ff3300"/>
                    </a:gs>
                    <a:gs pos="100000">
                      <a:srgbClr val="66ff33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ілімділік мақсаты: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66ff33"/>
                  </a:gs>
                  <a:gs pos="50000">
                    <a:srgbClr val="ff3300"/>
                  </a:gs>
                  <a:gs pos="100000">
                    <a:srgbClr val="66ff33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341360"/>
            <a:ext cx="6984720" cy="1150920"/>
          </a:xfrm>
          <a:prstGeom prst="flowChartPunchedTape">
            <a:avLst/>
          </a:prstGeom>
          <a:gradFill rotWithShape="0">
            <a:gsLst>
              <a:gs pos="0">
                <a:srgbClr val="ff99ff"/>
              </a:gs>
              <a:gs pos="50000">
                <a:srgbClr val="ffff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kk-KZ" sz="1400" spc="-1" strike="noStrike">
                <a:solidFill>
                  <a:srgbClr val="0000ff"/>
                </a:solidFill>
                <a:latin typeface="Arial"/>
              </a:rPr>
              <a:t>Оқушының теориялық алған білімін практикада қолдана білеге үйрет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kk-KZ" sz="1400" spc="-1" strike="noStrike">
                <a:solidFill>
                  <a:srgbClr val="0000ff"/>
                </a:solidFill>
                <a:latin typeface="Arial"/>
              </a:rPr>
              <a:t>- Алгоритмдерді Packal  программалау тіліне аударуды меңгерт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kk-KZ" sz="1400" spc="-1" strike="noStrike">
                <a:solidFill>
                  <a:srgbClr val="0000ff"/>
                </a:solidFill>
                <a:latin typeface="Arial"/>
              </a:rPr>
              <a:t>- тапсырмаларға сәйкес программа құра білеге үйрет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8360" y="2565360"/>
            <a:ext cx="57006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cc00"/>
                    </a:gs>
                    <a:gs pos="50000">
                      <a:srgbClr val="ff3300"/>
                    </a:gs>
                    <a:gs pos="100000">
                      <a:srgbClr val="00cc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амытушылық мақсаты: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cc00"/>
                  </a:gs>
                  <a:gs pos="50000">
                    <a:srgbClr val="ff3300"/>
                  </a:gs>
                  <a:gs pos="100000">
                    <a:srgbClr val="00cc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3213000"/>
            <a:ext cx="7200720" cy="1511280"/>
          </a:xfrm>
          <a:prstGeom prst="flowChartPunchedTape">
            <a:avLst/>
          </a:prstGeom>
          <a:gradFill rotWithShape="0">
            <a:gsLst>
              <a:gs pos="0">
                <a:srgbClr val="ff99ff"/>
              </a:gs>
              <a:gs pos="50000">
                <a:srgbClr val="ffff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ff"/>
                </a:solidFill>
                <a:latin typeface="Arial"/>
              </a:rPr>
              <a:t>-Оқушының логикалық ой қорытуларын дамыт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ff"/>
                </a:solidFill>
                <a:latin typeface="Arial"/>
              </a:rPr>
              <a:t>-Оқушыны шешім қабылдай білуге баулу, алған білімдерін шығармашылықпе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kk-KZ" sz="1400" spc="-1" strike="noStrike">
                <a:solidFill>
                  <a:srgbClr val="0000ff"/>
                </a:solidFill>
                <a:latin typeface="Arial"/>
              </a:rPr>
              <a:t>қолдануға дағдыландыр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ff"/>
                </a:solidFill>
                <a:latin typeface="Arial"/>
              </a:rPr>
              <a:t>-программа құрудағы дағды мен шеберлік-іскерліктерін қалыптастыру</a:t>
            </a:r>
            <a:r>
              <a:rPr b="1" lang="kk-KZ" sz="1800" spc="-1" strike="noStrike">
                <a:solidFill>
                  <a:srgbClr val="0000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4653000"/>
            <a:ext cx="439092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cc00"/>
                    </a:gs>
                    <a:gs pos="50000">
                      <a:srgbClr val="ff3300"/>
                    </a:gs>
                    <a:gs pos="100000">
                      <a:srgbClr val="00cc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әрбиелік мақсаты: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cc00"/>
                  </a:gs>
                  <a:gs pos="50000">
                    <a:srgbClr val="ff3300"/>
                  </a:gs>
                  <a:gs pos="100000">
                    <a:srgbClr val="00cc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418000"/>
            <a:ext cx="7272360" cy="1440000"/>
          </a:xfrm>
          <a:prstGeom prst="flowChartPunchedTape">
            <a:avLst/>
          </a:prstGeom>
          <a:gradFill rotWithShape="0">
            <a:gsLst>
              <a:gs pos="0">
                <a:srgbClr val="ff99ff"/>
              </a:gs>
              <a:gs pos="50000">
                <a:srgbClr val="ffff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kk-KZ" sz="1600" spc="-1" strike="noStrike">
                <a:solidFill>
                  <a:srgbClr val="0000ff"/>
                </a:solidFill>
                <a:latin typeface="Arial"/>
              </a:rPr>
              <a:t>қойған мақсатқа жетуге тәрбиеле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0000ff"/>
                </a:solidFill>
                <a:latin typeface="Arial"/>
              </a:rPr>
              <a:t>-Жүйелі және ретті жұмыс жасауға тәрбиеле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0000ff"/>
                </a:solidFill>
                <a:latin typeface="Arial"/>
              </a:rPr>
              <a:t>-Қарым –қатынас мәдениетін қалыптастыруға тәрбиеле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995640" y="544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Arial"/>
              </a:rPr>
              <a:t>интерактивті тақта,  слайд-оқулық, есеп-тапсырмалар, слайд-сызбал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8360" y="549360"/>
            <a:ext cx="5600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абақтың міндеттері: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071600" y="1268280"/>
            <a:ext cx="407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Arial"/>
              </a:rPr>
              <a:t>Паскаль тілінде бағдарлама жаз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Arial"/>
              </a:rPr>
              <a:t>алгоритмін оқушыларға меңгер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95280" y="1989000"/>
            <a:ext cx="39052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абақтың түрі: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90840" y="2565360"/>
            <a:ext cx="408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Arial"/>
              </a:rPr>
              <a:t>Интерактивті –практикалық сабақ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8360" y="2997360"/>
            <a:ext cx="3924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абақтың типі: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144320" y="3860640"/>
            <a:ext cx="448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Arial"/>
              </a:rPr>
              <a:t>Дағды мен шеберлікті қалыптастыр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95280" y="4581360"/>
            <a:ext cx="51339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абақ көрнекіліктері: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635280" y="1628640"/>
            <a:ext cx="2160720" cy="57492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Ба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348000" y="2421000"/>
            <a:ext cx="2498760" cy="609480"/>
          </a:xfrm>
          <a:prstGeom prst="flowChartInputOutpu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Х-ті енгіз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19640" y="3284640"/>
            <a:ext cx="2232000" cy="609480"/>
          </a:xfrm>
          <a:prstGeom prst="flowChartProcess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1-опера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19640" y="4149720"/>
            <a:ext cx="2232000" cy="465120"/>
          </a:xfrm>
          <a:prstGeom prst="flowChartProcess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2-опера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32000" y="4869000"/>
            <a:ext cx="2498760" cy="465120"/>
          </a:xfrm>
          <a:prstGeom prst="flowChartInputOutpu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Нәтижесі-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32000" y="5589720"/>
            <a:ext cx="2160720" cy="57456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Соң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220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27640" y="3068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27640" y="3933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356000" y="4653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84720" y="537372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908000" y="189000"/>
            <a:ext cx="5688360" cy="177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f3300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Times New Roman"/>
              </a:rPr>
              <a:t>Сызықтық құрылымды  алгоритмдер </a:t>
            </a:r>
            <a:endParaRPr b="1" lang="en-US" sz="2000" spc="1" strike="noStrike">
              <a:ln w="936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ff3300"/>
                  </a:gs>
                  <a:gs pos="100000">
                    <a:srgbClr val="0000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f3300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Times New Roman"/>
              </a:rPr>
              <a:t>мен программаларды құру.</a:t>
            </a:r>
            <a:endParaRPr b="1" lang="en-US" sz="2000" spc="1" strike="noStrike">
              <a:ln w="936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ff3300"/>
                  </a:gs>
                  <a:gs pos="100000">
                    <a:srgbClr val="0000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4360" y="2994120"/>
            <a:ext cx="7561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990099"/>
                </a:solidFill>
                <a:latin typeface="Arial"/>
              </a:rPr>
              <a:t>А) көзделген мақсатқа жетудегі ережелердің реттілігі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990099"/>
                </a:solidFill>
                <a:latin typeface="Arial"/>
              </a:rPr>
              <a:t>B) командалар тізімі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buClr>
                <a:srgbClr val="990099"/>
              </a:buClr>
              <a:buFont typeface="Arial"/>
              <a:buAutoNum type="alphaU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990099"/>
                </a:solidFill>
                <a:latin typeface="Arial"/>
              </a:rPr>
              <a:t>көзделген мақсат  қажетуге бағытталған амалдарды ретімен орындау үшін орындаушыға берілген түсінікті және нақты тапсырманы айта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556000" y="333360"/>
            <a:ext cx="3816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ес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"/>
          <p:cNvSpPr/>
          <p:nvPr/>
        </p:nvSpPr>
        <p:spPr>
          <a:xfrm>
            <a:off x="684360" y="1413000"/>
            <a:ext cx="7632720" cy="1439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ff33"/>
              </a:gs>
              <a:gs pos="50000">
                <a:srgbClr val="ffff00"/>
              </a:gs>
              <a:gs pos="100000">
                <a:srgbClr val="66ff33"/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3300"/>
                </a:solidFill>
                <a:latin typeface="Arial"/>
              </a:rPr>
              <a:t>Алгоритм деп ... айта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4360" y="2565360"/>
            <a:ext cx="72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990099"/>
                </a:solidFill>
                <a:latin typeface="Arial"/>
              </a:rPr>
              <a:t>А) түсініктілік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990099"/>
                </a:solidFill>
                <a:latin typeface="Arial"/>
              </a:rPr>
              <a:t>В) қолайлылық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990099"/>
                </a:solidFill>
                <a:latin typeface="Arial"/>
              </a:rPr>
              <a:t>С) жинақтылық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990099"/>
                </a:solidFill>
                <a:latin typeface="Arial"/>
              </a:rPr>
              <a:t>Д) дискеттілі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26920" y="620640"/>
            <a:ext cx="7632720" cy="1800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ff33"/>
              </a:gs>
              <a:gs pos="50000">
                <a:srgbClr val="ffff00"/>
              </a:gs>
              <a:gs pos="100000">
                <a:srgbClr val="66ff33"/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3300"/>
                </a:solidFill>
                <a:latin typeface="Arial"/>
              </a:rPr>
              <a:t>Төмендегі келтірілген қасиеттердің қайсыс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3300"/>
                </a:solidFill>
                <a:latin typeface="Arial"/>
              </a:rPr>
              <a:t>алгоритмнің қасиеті болып саналмайд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332000" y="2781360"/>
            <a:ext cx="655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990099"/>
                </a:solidFill>
                <a:latin typeface="Arial"/>
              </a:rPr>
              <a:t>А) типі, ат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990099"/>
                </a:solidFill>
                <a:latin typeface="Arial"/>
              </a:rPr>
              <a:t>В) аты, мәні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990099"/>
                </a:solidFill>
                <a:latin typeface="Arial"/>
              </a:rPr>
              <a:t>С) типі , мәні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990099"/>
                </a:solidFill>
                <a:latin typeface="Arial"/>
              </a:rPr>
              <a:t>Д) типі, аты, мәні берілс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55640" y="333360"/>
            <a:ext cx="7632720" cy="1800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ff33"/>
              </a:gs>
              <a:gs pos="50000">
                <a:srgbClr val="ffff00"/>
              </a:gs>
              <a:gs pos="100000">
                <a:srgbClr val="66ff33"/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3300"/>
                </a:solidFill>
                <a:latin typeface="Arial"/>
              </a:rPr>
              <a:t>Айнымалы түгелдей берілген болып саналад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kk-KZ" sz="2400" spc="-1" strike="noStrike">
                <a:solidFill>
                  <a:srgbClr val="ff3300"/>
                </a:solidFill>
                <a:latin typeface="Arial"/>
              </a:rPr>
              <a:t>егер оның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042920" y="3141720"/>
            <a:ext cx="66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А) а:</a:t>
            </a:r>
            <a:r>
              <a:rPr b="1" i="1" lang="ru-RU" sz="2800" spc="-1" strike="noStrike">
                <a:solidFill>
                  <a:srgbClr val="990099"/>
                </a:solidFill>
                <a:latin typeface="Arial"/>
              </a:rPr>
              <a:t> =</a:t>
            </a: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4; в:</a:t>
            </a:r>
            <a:r>
              <a:rPr b="1" i="1" lang="ru-RU" sz="2800" spc="-1" strike="noStrike">
                <a:solidFill>
                  <a:srgbClr val="990099"/>
                </a:solidFill>
                <a:latin typeface="Arial"/>
              </a:rPr>
              <a:t> =</a:t>
            </a: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15; с:</a:t>
            </a:r>
            <a:r>
              <a:rPr b="1" i="1" lang="ru-RU" sz="2800" spc="-1" strike="noStrike">
                <a:solidFill>
                  <a:srgbClr val="990099"/>
                </a:solidFill>
                <a:latin typeface="Arial"/>
              </a:rPr>
              <a:t> =</a:t>
            </a: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2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В) а:</a:t>
            </a:r>
            <a:r>
              <a:rPr b="1" i="1" lang="ru-RU" sz="2800" spc="-1" strike="noStrike">
                <a:solidFill>
                  <a:srgbClr val="990099"/>
                </a:solidFill>
                <a:latin typeface="Arial"/>
              </a:rPr>
              <a:t> =</a:t>
            </a: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4; в:</a:t>
            </a:r>
            <a:r>
              <a:rPr b="1" i="1" lang="ru-RU" sz="2800" spc="-1" strike="noStrike">
                <a:solidFill>
                  <a:srgbClr val="990099"/>
                </a:solidFill>
                <a:latin typeface="Arial"/>
              </a:rPr>
              <a:t> =</a:t>
            </a: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9; с:</a:t>
            </a:r>
            <a:r>
              <a:rPr b="1" i="1" lang="ru-RU" sz="2800" spc="-1" strike="noStrike">
                <a:solidFill>
                  <a:srgbClr val="990099"/>
                </a:solidFill>
                <a:latin typeface="Arial"/>
              </a:rPr>
              <a:t> =</a:t>
            </a: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23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С) а:</a:t>
            </a:r>
            <a:r>
              <a:rPr b="1" i="1" lang="ru-RU" sz="2800" spc="-1" strike="noStrike">
                <a:solidFill>
                  <a:srgbClr val="990099"/>
                </a:solidFill>
                <a:latin typeface="Arial"/>
              </a:rPr>
              <a:t> =</a:t>
            </a: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4; в:  </a:t>
            </a:r>
            <a:r>
              <a:rPr b="1" i="1" lang="ru-RU" sz="2800" spc="-1" strike="noStrike">
                <a:solidFill>
                  <a:srgbClr val="990099"/>
                </a:solidFill>
                <a:latin typeface="Arial"/>
              </a:rPr>
              <a:t>=</a:t>
            </a: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13; с:</a:t>
            </a:r>
            <a:r>
              <a:rPr b="1" i="1" lang="ru-RU" sz="2800" spc="-1" strike="noStrike">
                <a:solidFill>
                  <a:srgbClr val="990099"/>
                </a:solidFill>
                <a:latin typeface="Arial"/>
              </a:rPr>
              <a:t> =</a:t>
            </a: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1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55640" y="333360"/>
            <a:ext cx="7632720" cy="1800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ff33"/>
              </a:gs>
              <a:gs pos="50000">
                <a:srgbClr val="ffff00"/>
              </a:gs>
              <a:gs pos="100000">
                <a:srgbClr val="66ff33"/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Айнымалылардың   а: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=</a:t>
            </a: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-2, в: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=</a:t>
            </a: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 11, с: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</a:t>
            </a: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8 мәндері берілге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а: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</a:t>
            </a: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а+6; в: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</a:t>
            </a: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в+а; с: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</a:t>
            </a: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с+15 меншіктеу командалары сериясының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орындалу нәтижесін анықтаңд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50920" y="1916280"/>
            <a:ext cx="85676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А) </a:t>
            </a:r>
            <a:r>
              <a:rPr b="1" i="1" lang="kk-KZ" sz="2000" spc="-1" strike="noStrike" u="sng">
                <a:solidFill>
                  <a:srgbClr val="990099"/>
                </a:solidFill>
                <a:uFillTx/>
                <a:latin typeface="Arial"/>
              </a:rPr>
              <a:t>алг  </a:t>
            </a: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есептеу   </a:t>
            </a:r>
            <a:r>
              <a:rPr b="1" i="1" lang="kk-KZ" sz="2000" spc="-1" strike="noStrike" u="sng">
                <a:solidFill>
                  <a:srgbClr val="990099"/>
                </a:solidFill>
                <a:uFillTx/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    </a:t>
            </a:r>
            <a:r>
              <a:rPr b="1" i="1" lang="kk-KZ" sz="2000" spc="-1" strike="noStrike" u="sng">
                <a:solidFill>
                  <a:srgbClr val="990099"/>
                </a:solidFill>
                <a:uFillTx/>
                <a:latin typeface="Arial"/>
              </a:rPr>
              <a:t>ба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2-ні х-ке көбейту; нәтижені R1 деп белгіле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х-ті х-ке көбейту; нәтижені R2 деп белгіле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R2-ден 15-ті азайту; нәтижені R3 деп белгіле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R1-ді R3-ке көбейту; нәтижені У деп белгіле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В) </a:t>
            </a:r>
            <a:r>
              <a:rPr b="1" i="1" lang="kk-KZ" sz="2000" spc="-1" strike="noStrike" u="sng">
                <a:solidFill>
                  <a:srgbClr val="990099"/>
                </a:solidFill>
                <a:uFillTx/>
                <a:latin typeface="Arial"/>
              </a:rPr>
              <a:t>алг  </a:t>
            </a: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есептеу   </a:t>
            </a:r>
            <a:r>
              <a:rPr b="1" i="1" lang="kk-KZ" sz="2000" spc="-1" strike="noStrike" u="sng">
                <a:solidFill>
                  <a:srgbClr val="990099"/>
                </a:solidFill>
                <a:uFillTx/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    </a:t>
            </a:r>
            <a:r>
              <a:rPr b="1" i="1" lang="kk-KZ" sz="2000" spc="-1" strike="noStrike" u="sng">
                <a:solidFill>
                  <a:srgbClr val="990099"/>
                </a:solidFill>
                <a:uFillTx/>
                <a:latin typeface="Arial"/>
              </a:rPr>
              <a:t>ба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2-ні х-ке көбейту; нәтижені R1 деп белгіле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х2-тан 15 –ті азайту; нәтижені R2 деп белгіле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R1-ді 2-ге көбейту; нәтижені у деп белгіле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16000" y="476280"/>
            <a:ext cx="7056360" cy="1152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ff33"/>
              </a:gs>
              <a:gs pos="50000">
                <a:srgbClr val="ffff00"/>
              </a:gs>
              <a:gs pos="100000">
                <a:srgbClr val="66ff33"/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у=2х(х2 -15) өрнегінің мәнін есептеу алгоритмінің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дұрыс нұсқасын анықтаңда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8T06:11:53Z</dcterms:created>
  <dc:creator>Komp15</dc:creator>
  <dc:description/>
  <dc:language>en-US</dc:language>
  <cp:lastModifiedBy>Uzzzer</cp:lastModifiedBy>
  <dcterms:modified xsi:type="dcterms:W3CDTF">2011-02-21T15:43:13Z</dcterms:modified>
  <cp:revision>1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402000000000001024110</vt:lpwstr>
  </property>
</Properties>
</file>