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3B3-C045-443F-84CE-47D2D84C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734B-289E-4F13-B9C0-AF500915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385-94AC-4A31-9D5D-49ED6D59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BD9A-F266-415F-AB36-9199DB42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D51-8B6F-4FC1-BC12-FF9CB13E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21D1-7C12-4EDD-B45D-923C4808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17D-6715-4AA4-A598-F7CAEAD3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9C03-9F62-4C1E-B06E-CDDE0494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6AF-2934-4C18-8FD6-29B0606A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367-36EF-48FE-96D1-C941725E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87F-C911-4208-B1CA-A3E671BA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B2F1-539B-447A-9C92-CB8E66A4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CD2C-6CF7-40C0-8396-BB17DFFC6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836640"/>
            <a:ext cx="713448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Packal   тіліндегі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рограмма құрылым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5445000"/>
            <a:ext cx="7488360" cy="1076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anim047"/>
          <p:cNvPicPr/>
          <p:nvPr/>
        </p:nvPicPr>
        <p:blipFill>
          <a:blip r:embed="rId2"/>
          <a:stretch/>
        </p:blipFill>
        <p:spPr>
          <a:xfrm>
            <a:off x="3492360" y="5157720"/>
            <a:ext cx="1371600" cy="1257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8360" y="5445000"/>
            <a:ext cx="777564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anim047"/>
          <p:cNvPicPr/>
          <p:nvPr/>
        </p:nvPicPr>
        <p:blipFill>
          <a:blip r:embed="rId4"/>
          <a:stretch/>
        </p:blipFill>
        <p:spPr>
          <a:xfrm>
            <a:off x="3635280" y="5157720"/>
            <a:ext cx="13716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374400"/>
            <a:ext cx="70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Берілген x  пен y сандарының қосындысын, айырмасы  мен көбейтіндісіні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мәндерін есептеу программасын құру к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916280"/>
          <a:ext cx="6697800" cy="3751200"/>
        </p:xfrm>
        <a:graphic>
          <a:graphicData uri="http://schemas.openxmlformats.org/drawingml/2006/table">
            <a:tbl>
              <a:tblPr/>
              <a:tblGrid>
                <a:gridCol w="2697120"/>
                <a:gridCol w="400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есепте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,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, R2, 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+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2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-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3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*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x, y, s, p, r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, у –ті енгіз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x,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:=x+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:=x-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:=x*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x+y=’ , s, ‘x-y=’,p, ‘x*y=’,r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92360" y="75600"/>
            <a:ext cx="58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а</a:t>
            </a:r>
            <a:r>
              <a:rPr b="0" lang="kk-KZ" sz="24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12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 –сін 6 қадаммен есептейт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алгоритм мен программа мен  құру кер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187280" y="1484280"/>
          <a:ext cx="6813360" cy="4452840"/>
        </p:xfrm>
        <a:graphic>
          <a:graphicData uri="http://schemas.openxmlformats.org/drawingml/2006/table">
            <a:tbl>
              <a:tblPr/>
              <a:tblGrid>
                <a:gridCol w="3406680"/>
                <a:gridCol w="340668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дәреж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a, b,c, d,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=a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=b*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=c*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= d*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f=e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=f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, b,c, d,e, f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,g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-ны енгіз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=a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=b*b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=c*c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= d*b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f=e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=f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g=’ ,g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47640" y="180000"/>
            <a:ext cx="6193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У-ті есепту үшін алгоритм мен программа құру ке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59280" y="870120"/>
            <a:ext cx="733320" cy="419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58920" y="1413000"/>
          <a:ext cx="7056360" cy="4031640"/>
        </p:xfrm>
        <a:graphic>
          <a:graphicData uri="http://schemas.openxmlformats.org/drawingml/2006/table">
            <a:tbl>
              <a:tblPr/>
              <a:tblGrid>
                <a:gridCol w="3616200"/>
                <a:gridCol w="344016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х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2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5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3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R1- 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4: = R3+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5: =6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6: = R5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:= R4/ R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x, y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 –ті енгіз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x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:=(sqr(x)-5*x+3)/(6*x-1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y=’ , 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295200" cy="428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447840" cy="4572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2484360" y="2205000"/>
            <a:ext cx="3816000" cy="2852640"/>
            <a:chOff x="2484360" y="2205000"/>
            <a:chExt cx="3816000" cy="2852640"/>
          </a:xfrm>
        </p:grpSpPr>
        <p:sp>
          <p:nvSpPr>
            <p:cNvPr id="95" name=""/>
            <p:cNvSpPr/>
            <p:nvPr/>
          </p:nvSpPr>
          <p:spPr>
            <a:xfrm>
              <a:off x="2484360" y="2205000"/>
              <a:ext cx="3816000" cy="28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93440" y="2205000"/>
              <a:ext cx="0" cy="28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84360" y="3473280"/>
              <a:ext cx="38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93440" y="3473280"/>
              <a:ext cx="1906560" cy="158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84360" y="2205000"/>
              <a:ext cx="1909080" cy="1268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826920" y="599040"/>
            <a:ext cx="68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Қабырғасы а-ға тең шаршы берілг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Фигураның боялған бөлігінің ауданын есептеу үшін алгоритм мен программа құру ке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1703880"/>
            <a:ext cx="2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175824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40176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00000" y="1628640"/>
            <a:ext cx="71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program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A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var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a,s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riteln ( ‘a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 –ны енгі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adln 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:=sqr(a/2)+3.14*(sqr(a/4)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riteln  (‘s=’ , 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adl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340000" y="404640"/>
            <a:ext cx="4176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00ff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Impact"/>
              </a:rPr>
              <a:t>Программ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00ff"/>
                  </a:gs>
                  <a:gs pos="100000">
                    <a:srgbClr val="ff33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00000" y="631440"/>
            <a:ext cx="7128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Үш сан берілг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Олардың арифметикалық ортасы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табу үшін алгоритм мен программа құру к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87280" y="2205000"/>
          <a:ext cx="6813720" cy="3201840"/>
        </p:xfrm>
        <a:graphic>
          <a:graphicData uri="http://schemas.openxmlformats.org/drawingml/2006/table">
            <a:tbl>
              <a:tblPr/>
              <a:tblGrid>
                <a:gridCol w="3406680"/>
                <a:gridCol w="3407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арифметикалық ор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а,в,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а+в+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R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,у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-ны енгіз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: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(а+в+с)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y=’ , 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733320" cy="44748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211640" y="4365720"/>
            <a:ext cx="1257120" cy="1257120"/>
            <a:chOff x="4211640" y="4365720"/>
            <a:chExt cx="1257120" cy="1257120"/>
          </a:xfrm>
        </p:grpSpPr>
        <p:sp>
          <p:nvSpPr>
            <p:cNvPr id="113" name=""/>
            <p:cNvSpPr/>
            <p:nvPr/>
          </p:nvSpPr>
          <p:spPr>
            <a:xfrm>
              <a:off x="4211640" y="4365720"/>
              <a:ext cx="1257120" cy="12571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1640" y="4365720"/>
              <a:ext cx="1257120" cy="125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71640" y="6854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І- нұс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Arial"/>
              <a:buAutoNum type="arabicPeriod"/>
              <a:tabLst>
                <a:tab algn="l" pos="45720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Мына өрнектерді Packal тілінле жазып, олардың мәндерін есептеу керек:256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201384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2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ackal тілінде келтірілген өрнектерге сәйкес келетін арифметикалық өрнектерді жаз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(sin(3)+sqrt(35.8))/(2.6+sqr(1.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3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Үшбұрыш қабырғаларының а,в,с ұзындықтары берілген. Үшбұрыштың ауданын есептеу үші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4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а</a:t>
            </a:r>
            <a:r>
              <a:rPr b="0" lang="kk-KZ" sz="18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8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есептеу үші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5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Қабырғасы а-ға тең шаршы берілген. Фигураның боялған бөлігінің ауданын есептеу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476280" y="54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484360" y="189000"/>
            <a:ext cx="4600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Практикалық жұмыс 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3564000" y="3789360"/>
            <a:ext cx="1727280" cy="1511280"/>
            <a:chOff x="3564000" y="3789360"/>
            <a:chExt cx="1727280" cy="1511280"/>
          </a:xfrm>
        </p:grpSpPr>
        <p:sp>
          <p:nvSpPr>
            <p:cNvPr id="120" name=""/>
            <p:cNvSpPr/>
            <p:nvPr/>
          </p:nvSpPr>
          <p:spPr>
            <a:xfrm>
              <a:off x="3564000" y="3789360"/>
              <a:ext cx="1727280" cy="1511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64000" y="3789360"/>
              <a:ext cx="1714320" cy="14857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4360" y="260280"/>
            <a:ext cx="7416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ІІ-нұс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AutoNum type="arabicPeriod"/>
              <a:tabLst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Мына өрнектерді Packal тілінле жазып, олардың мәндерін есепте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4</a:t>
            </a:r>
            <a:r>
              <a:rPr b="0" lang="kk-KZ" sz="16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2,5</a:t>
            </a: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87280" y="1030320"/>
            <a:ext cx="1019520" cy="457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13719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2.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ackal тілінде келтірілген өрнектерге сәйкес келетін арифметикалық</a:t>
            </a:r>
            <a:r>
              <a:rPr b="0" lang="kk-KZ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өрнектерді жаз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bs(sin(75*pi/180)-5)+(3.2+sqr(1/5))/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3. Дұрыс үшбұрыштың ауданын есептеу 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4. а</a:t>
            </a:r>
            <a:r>
              <a:rPr b="0" lang="kk-KZ" sz="18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10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есептеуге арналға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5. Қабырғасы а-ға тең шаршы берілген. Фигураның боялған бөлігінің ауданын есептеу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47640" y="2492280"/>
            <a:ext cx="3600720" cy="2160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ff3300"/>
                </a:solidFill>
                <a:latin typeface="Arial"/>
              </a:rPr>
              <a:t>Алгорит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2421000"/>
            <a:ext cx="3673800" cy="2087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ff3300"/>
                </a:solidFill>
                <a:latin typeface="Arial"/>
              </a:rPr>
              <a:t>Програм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63640" y="692280"/>
            <a:ext cx="568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нн диаграммас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0"/>
            <a:ext cx="48956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бақ мақсаттары: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920" y="692280"/>
            <a:ext cx="51958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3300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ілімділік мақсаты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ff3300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341360"/>
            <a:ext cx="6984720" cy="115092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Оқушының теориялық алған білімін практикада қолдана білеге үйре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 Алгоритмдерді Packal  программалау тіліне аударуды меңгер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 тапсырмаларға сәйкес программа құра білеге үйре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2565360"/>
            <a:ext cx="57006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ff33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мытушылық мақсаты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ff33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3213000"/>
            <a:ext cx="7200720" cy="151128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Оқушының логикалық ой қорытуларын дамы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Оқушыны шешім қабылдай білуге баулу, алған білімдерін шығармашылықп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қолдануға дағдыландыр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программа құрудағы дағды мен шеберлік-іскерліктерін қалыптастыру</a:t>
            </a: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4653000"/>
            <a:ext cx="43909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ff33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әрбиелік мақсаты: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ff33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418000"/>
            <a:ext cx="7272360" cy="144000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қойған мақсатқа жетуге тәрбиеле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-Жүйелі және ретті жұмыс жасауға тәрбиеле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-Қарым –қатынас мәдениетін қалыптастыруға тәрбиеле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95640" y="54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интерактивті тақта,  слайд-оқулық, есеп-тапсырмалар, слайд-сызба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549360"/>
            <a:ext cx="5600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міндетте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71600" y="1268280"/>
            <a:ext cx="40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Паскаль тілінде бағдарлама жаз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алгоритмін оқушыларға меңге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989000"/>
            <a:ext cx="3905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тү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90840" y="2565360"/>
            <a:ext cx="40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Интерактивті –практикалық саба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2997360"/>
            <a:ext cx="39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тип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4320" y="386064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Дағды мен шеберлікті қалыптасты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4581360"/>
            <a:ext cx="5133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 көрнекілікте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35280" y="1628640"/>
            <a:ext cx="2160720" cy="5749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Б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2421000"/>
            <a:ext cx="2498760" cy="609480"/>
          </a:xfrm>
          <a:prstGeom prst="flowChartInputOutpu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Х-ті енгі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3284640"/>
            <a:ext cx="2232000" cy="609480"/>
          </a:xfrm>
          <a:prstGeom prst="flowChart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1-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19640" y="4149720"/>
            <a:ext cx="2232000" cy="465120"/>
          </a:xfrm>
          <a:prstGeom prst="flowChart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2-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4869000"/>
            <a:ext cx="2498760" cy="465120"/>
          </a:xfrm>
          <a:prstGeom prst="flowChartInputOutpu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Нәтижесі-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5589720"/>
            <a:ext cx="2160720" cy="5745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Соң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537372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08000" y="189000"/>
            <a:ext cx="568836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Сызықтық құрылымды  алгоритмдер 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мен программаларды құру.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2994120"/>
            <a:ext cx="75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А) көзделген мақсатқа жетудегі ережелердің реттілігі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B) командалар тізімі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990099"/>
              </a:buClr>
              <a:buFont typeface="Arial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көзделген мақсат  қажетуге бағытталған амалдарды ретімен орындау үшін орындаушыға берілген түсінікті және нақты тапсырманы айт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56000" y="333360"/>
            <a:ext cx="38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1413000"/>
            <a:ext cx="7632720" cy="1439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3300"/>
                </a:solidFill>
                <a:latin typeface="Arial"/>
              </a:rPr>
              <a:t>Алгоритм деп ... айт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2565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А) түсініктілік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В) қолайлылық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С) жинақтылық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Д) дискеттілі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62064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Төмендегі келтірілген қасиеттердің қайсы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алгоритмнің қасиеті болып саналмай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32000" y="278136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А) типі, а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В) аты, мәні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С) типі , мәні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Д) типі, аты, мәні беріл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3336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Айнымалы түгелдей берілген болып санала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егер оның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42920" y="314172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А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5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В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9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2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С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  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3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33336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йнымалылардың   а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-2, в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11, с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8 мәндері берілг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+6; в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в+а; с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с+15 меншіктеу командалары сериясы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орындалу нәтижесін анықтаң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916280"/>
            <a:ext cx="85676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А)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алг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есептеу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2-ні х-ке көбейту; нәтижені R1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х-ті х-ке көбейту; нәтижені R2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2-ден 15-ті азайту; нәтижені R3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1-ді R3-ке көбейту; нәтижені У деп белгі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В)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алг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есептеу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2-ні х-ке көбейту; нәтижені R1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х2-тан 15 –ті азайту; нәтижені R2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1-ді 2-ге көбейту; нәтижені у деп белгі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476280"/>
            <a:ext cx="7056360" cy="115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у=2х(х2 -15) өрнегінің мәнін есептеу алгоритміні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дұрыс нұсқасын анықтаңда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6:11:53Z</dcterms:created>
  <dc:creator>Komp15</dc:creator>
  <dc:description/>
  <dc:language>en-US</dc:language>
  <cp:lastModifiedBy>Uzzzer</cp:lastModifiedBy>
  <dcterms:modified xsi:type="dcterms:W3CDTF">2011-02-21T15:43:13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2000000000001024110</vt:lpwstr>
  </property>
</Properties>
</file>