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8.wmf" ContentType="image/x-wmf"/>
  <Override PartName="/ppt/media/image13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.wmf" ContentType="image/x-wmf"/>
  <Override PartName="/ppt/media/image9.jpeg" ContentType="image/jpeg"/>
  <Override PartName="/ppt/media/image3.wmf" ContentType="image/x-wmf"/>
  <Override PartName="/ppt/media/image18.gif" ContentType="image/gif"/>
  <Override PartName="/ppt/media/coin.wav" ContentType="audio/x-wav"/>
  <Override PartName="/ppt/media/image2.png" ContentType="image/png"/>
  <Override PartName="/ppt/media/image4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16BC-57DE-4D01-8CEC-B54ACD9E6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3011-F2B4-4548-B26D-1F6177B6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E51F-A556-482C-AD70-7F1D38E82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0328-9F85-4206-9C5F-DB7CC48EC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89C7-DF73-404A-B5B5-B4FAF006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5737-EA37-483C-9CDF-AB984689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B29F-C9ED-423C-A19F-484B78DE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DC8A-D845-42E2-8025-E999512E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6247-B4C8-4715-91D0-48665CDB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00DE-0453-4F1F-A18C-BAEDFC21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832D-0362-4D9A-BD28-081D5ED3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CC68-40F0-41CC-B904-5C4D94F8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9573-01B3-4A46-8F44-46FFCE37B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3.pn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4.pn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5.pn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6.pn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27&#1078;&#1078;.frm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2.pn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4360" y="0"/>
            <a:ext cx="7775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3333ff"/>
                </a:solidFill>
                <a:latin typeface="Times New Roman"/>
              </a:rPr>
              <a:t>№</a:t>
            </a:r>
            <a:r>
              <a:rPr b="1" lang="kk-KZ" sz="2400" spc="-1" strike="noStrike">
                <a:solidFill>
                  <a:srgbClr val="3333ff"/>
                </a:solidFill>
                <a:latin typeface="Times New Roman"/>
              </a:rPr>
              <a:t>4 С.Сейфуллин атындағы орта мектеб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f3300"/>
                </a:solidFill>
                <a:latin typeface="Times New Roman"/>
              </a:rPr>
              <a:t>Ашық саб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3300"/>
                </a:solidFill>
                <a:latin typeface="Times New Roman"/>
              </a:rPr>
              <a:t>Тақырыбы</a:t>
            </a:r>
            <a:r>
              <a:rPr b="0" lang="kk-KZ" sz="24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kk-KZ" sz="2400" spc="-1" strike="noStrike">
                <a:solidFill>
                  <a:srgbClr val="3333ff"/>
                </a:solidFill>
                <a:latin typeface="Times New Roman"/>
              </a:rPr>
              <a:t>Қосымшаларға графиктік  объектілер  кірістіру, анимация әсерін ұйымдастыру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10 –</a:t>
            </a:r>
            <a:r>
              <a:rPr b="0" lang="kk-KZ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3333ff"/>
                </a:solidFill>
                <a:latin typeface="Times New Roman"/>
              </a:rPr>
              <a:t>сыны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3333ff"/>
                </a:solidFill>
                <a:latin typeface="Times New Roman"/>
              </a:rPr>
              <a:t>Мұғалімі: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k-KZ" sz="2400" spc="-1" strike="noStrike">
                <a:solidFill>
                  <a:srgbClr val="ff3300"/>
                </a:solidFill>
                <a:latin typeface="Times New Roman"/>
              </a:rPr>
              <a:t>Омарбекова Салтанат Күнтуғанқы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9999"/>
                </a:solidFill>
                <a:latin typeface="Times New Roman"/>
              </a:rPr>
              <a:t>Қызылорда қала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j0238267"/>
          <p:cNvPicPr/>
          <p:nvPr/>
        </p:nvPicPr>
        <p:blipFill>
          <a:blip r:embed="rId1"/>
          <a:stretch/>
        </p:blipFill>
        <p:spPr>
          <a:xfrm>
            <a:off x="3419640" y="836640"/>
            <a:ext cx="2382840" cy="1511280"/>
          </a:xfrm>
          <a:prstGeom prst="rect">
            <a:avLst/>
          </a:prstGeom>
          <a:ln w="0">
            <a:noFill/>
          </a:ln>
        </p:spPr>
      </p:pic>
      <p:pic>
        <p:nvPicPr>
          <p:cNvPr id="43" name="МАХАББАТ  БЕКЕТИ..mp3" descr=""/>
          <p:cNvPicPr/>
          <p:nvPr/>
        </p:nvPicPr>
        <p:blipFill>
          <a:blip r:embed="rId2"/>
          <a:stretch/>
        </p:blipFill>
        <p:spPr>
          <a:xfrm>
            <a:off x="8317080" y="404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8" descr="J0099171"/>
          <p:cNvPicPr/>
          <p:nvPr/>
        </p:nvPicPr>
        <p:blipFill>
          <a:blip r:embed="rId3"/>
          <a:stretch/>
        </p:blipFill>
        <p:spPr>
          <a:xfrm>
            <a:off x="272880" y="0"/>
            <a:ext cx="4392720" cy="409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9" descr="J0099171"/>
          <p:cNvPicPr/>
          <p:nvPr/>
        </p:nvPicPr>
        <p:blipFill>
          <a:blip r:embed="rId4"/>
          <a:stretch/>
        </p:blipFill>
        <p:spPr>
          <a:xfrm>
            <a:off x="4572000" y="0"/>
            <a:ext cx="4392720" cy="409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0" descr="J0099171"/>
          <p:cNvPicPr/>
          <p:nvPr/>
        </p:nvPicPr>
        <p:blipFill>
          <a:blip r:embed="rId5"/>
          <a:stretch/>
        </p:blipFill>
        <p:spPr>
          <a:xfrm rot="16200000">
            <a:off x="-1991160" y="1991520"/>
            <a:ext cx="4392720" cy="409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1" descr="J0099171"/>
          <p:cNvPicPr/>
          <p:nvPr/>
        </p:nvPicPr>
        <p:blipFill>
          <a:blip r:embed="rId6"/>
          <a:stretch/>
        </p:blipFill>
        <p:spPr>
          <a:xfrm rot="16200000">
            <a:off x="-1077480" y="5370480"/>
            <a:ext cx="2565360" cy="409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2" descr="J0099171"/>
          <p:cNvPicPr/>
          <p:nvPr/>
        </p:nvPicPr>
        <p:blipFill>
          <a:blip r:embed="rId7"/>
          <a:stretch/>
        </p:blipFill>
        <p:spPr>
          <a:xfrm>
            <a:off x="395280" y="6448320"/>
            <a:ext cx="4392720" cy="409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3" descr="J0099171"/>
          <p:cNvPicPr/>
          <p:nvPr/>
        </p:nvPicPr>
        <p:blipFill>
          <a:blip r:embed="rId8"/>
          <a:stretch/>
        </p:blipFill>
        <p:spPr>
          <a:xfrm>
            <a:off x="4751280" y="6448320"/>
            <a:ext cx="4392720" cy="409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4" descr="J0099171"/>
          <p:cNvPicPr/>
          <p:nvPr/>
        </p:nvPicPr>
        <p:blipFill>
          <a:blip r:embed="rId9"/>
          <a:stretch/>
        </p:blipFill>
        <p:spPr>
          <a:xfrm rot="16200000">
            <a:off x="6742800" y="1991520"/>
            <a:ext cx="4392720" cy="409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5" descr="J0099171"/>
          <p:cNvPicPr/>
          <p:nvPr/>
        </p:nvPicPr>
        <p:blipFill>
          <a:blip r:embed="rId10"/>
          <a:stretch/>
        </p:blipFill>
        <p:spPr>
          <a:xfrm rot="16200000">
            <a:off x="7656480" y="5370480"/>
            <a:ext cx="256536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800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800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000000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340000" y="1844640"/>
            <a:ext cx="439272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64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65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6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ff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6666ff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537080" cy="4005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9280" y="2276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9280" y="3284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422100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172360" y="198900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172360" y="306864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956720" y="407664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74072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2000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7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000000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2268360" y="1700280"/>
            <a:ext cx="431964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83" dur="1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84" dur="1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85" dur="1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ff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6666ff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537080" cy="4005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79280" y="2276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9280" y="3284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422100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172360" y="198900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172360" y="306864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956720" y="407664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74072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728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02000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9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000000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2556000" y="1760400"/>
            <a:ext cx="4032000" cy="33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02" dur="1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03" dur="1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04" dur="1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0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ff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6666ff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537080" cy="4005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79280" y="2276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9280" y="3284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422100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172360" y="198900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172360" y="306864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56720" y="407664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74072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8728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2000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31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000000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2268360" y="1700280"/>
            <a:ext cx="43196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21" dur="1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22" dur="1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23" dur="1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ccff66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3.  Сөзжұмбақ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268360" y="1413000"/>
          <a:ext cx="4969080" cy="37447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  <a:gridCol w="552600"/>
                <a:gridCol w="554040"/>
                <a:gridCol w="549360"/>
                <a:gridCol w="554040"/>
                <a:gridCol w="552240"/>
                <a:gridCol w="550800"/>
                <a:gridCol w="55260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537372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 Basic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ортасында  әр  түрлі құралдарда,  формалар,  модульдер т.б. экранға  шығара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ccff6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3.  Сөзжұмбақ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268360" y="1413000"/>
          <a:ext cx="4969080" cy="37447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  <a:gridCol w="552600"/>
                <a:gridCol w="554040"/>
                <a:gridCol w="549360"/>
                <a:gridCol w="554040"/>
                <a:gridCol w="552240"/>
                <a:gridCol w="550800"/>
                <a:gridCol w="55260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468360" y="5373720"/>
            <a:ext cx="82296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2. Формаға  уақыт-өлшеуіш шығаратын компон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ccff6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3.  Сөзжұмбақ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268360" y="1413000"/>
          <a:ext cx="4969080" cy="37447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  <a:gridCol w="552600"/>
                <a:gridCol w="554040"/>
                <a:gridCol w="549360"/>
                <a:gridCol w="554040"/>
                <a:gridCol w="552240"/>
                <a:gridCol w="550800"/>
                <a:gridCol w="55260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611280" y="5273640"/>
            <a:ext cx="8229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3. Формаға  әр түрлі  геометриялық  фигуралар  шығаратын  компон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ccff6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3.  Сөзжұмбақ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268360" y="1413000"/>
          <a:ext cx="4969080" cy="37447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  <a:gridCol w="552600"/>
                <a:gridCol w="554040"/>
                <a:gridCol w="549360"/>
                <a:gridCol w="554040"/>
                <a:gridCol w="552240"/>
                <a:gridCol w="550800"/>
                <a:gridCol w="55260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410920" y="5589360"/>
            <a:ext cx="3529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4.Енгізу  қора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ccff6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3.  Сөзжұмбақ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268360" y="1413000"/>
          <a:ext cx="4969080" cy="37447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  <a:gridCol w="552600"/>
                <a:gridCol w="554040"/>
                <a:gridCol w="549360"/>
                <a:gridCol w="554040"/>
                <a:gridCol w="552240"/>
                <a:gridCol w="550800"/>
                <a:gridCol w="55260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92360" y="5373360"/>
            <a:ext cx="6408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5. Ішіне  басқа  компоненттерді  орналастыр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ccff6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3.  Сөзжұмбақ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268360" y="1413000"/>
          <a:ext cx="4969080" cy="37447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  <a:gridCol w="552600"/>
                <a:gridCol w="554040"/>
                <a:gridCol w="549360"/>
                <a:gridCol w="554040"/>
                <a:gridCol w="552240"/>
                <a:gridCol w="550800"/>
                <a:gridCol w="55260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9280" y="5516640"/>
            <a:ext cx="79311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6.  Текстік  және  сандық  шамаларды шығару  үшін  қолданылатын  компонен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ccff6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3.  Сөзжұмбақ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268360" y="1413000"/>
          <a:ext cx="4969080" cy="37447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  <a:gridCol w="552600"/>
                <a:gridCol w="554040"/>
                <a:gridCol w="549360"/>
                <a:gridCol w="554040"/>
                <a:gridCol w="552240"/>
                <a:gridCol w="550800"/>
                <a:gridCol w="55260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Жаңа  саба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Қосымшаларға графиктік  объектілер  кірістіру, анимация әсерін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ұйымдастыру  тақырыбына  түсініктеме  бе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Visual  Basic </a:t>
            </a:r>
            <a:r>
              <a:rPr b="0" lang="kk-KZ" sz="2000" spc="-1" strike="noStrike">
                <a:solidFill>
                  <a:srgbClr val="3333ff"/>
                </a:solidFill>
                <a:latin typeface="Times New Roman"/>
              </a:rPr>
              <a:t>проектілеріне  графиктік  объектілерді  графиктік операторларын  пайдаланып программалау  немесе  компоненттер  панеліндегі  граиктік  компоненттерді  қолдану  арқылы  шығаруға  бола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операторы  түзу  және тіктөртбұрыштар  шығару  үшін  қолданылады, жазылу  форма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Line (X1, Y1)- (X2, Y2),C,[B,BF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Мұндағы: Х1,У1,Х2,У2 – түзудің  төбелерінің координатала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С – сызық түс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В – тік төртбұрыш шығару  к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F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– боялған  тік төртбұрыш  шығару к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P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операторы  нүкте  шығару үшін қолданылады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kk-KZ" sz="2800" spc="-1" strike="noStrike">
                <a:solidFill>
                  <a:srgbClr val="3333ff"/>
                </a:solidFill>
                <a:latin typeface="Arial"/>
              </a:rPr>
              <a:t>жазылу  форматы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Pset (X,Y),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Мұндағ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Х,У-нүктенің  координатала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С – сызық түс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DrawWidth</a:t>
            </a:r>
            <a:r>
              <a:rPr b="1" lang="kk-KZ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функциясы сызықтың  қалыңдығын орнату  үшін қолданылады,  </a:t>
            </a:r>
            <a:r>
              <a:rPr b="0" lang="kk-KZ" sz="2800" spc="-1" strike="noStrike">
                <a:solidFill>
                  <a:srgbClr val="3333ff"/>
                </a:solidFill>
                <a:latin typeface="Arial"/>
              </a:rPr>
              <a:t>жазылу форм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DrawWidth =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Мұндағы: а –сызықтың  қалыңдығ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Circle  </a:t>
            </a:r>
            <a:r>
              <a:rPr b="1" lang="kk-KZ" sz="2800" spc="-1" strike="noStrike">
                <a:solidFill>
                  <a:srgbClr val="000000"/>
                </a:solidFill>
                <a:latin typeface="Arial"/>
              </a:rPr>
              <a:t>операторы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шеңбер  және  доға  шығару  үшін  қолданылады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жазылу  форм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Circle</a:t>
            </a:r>
            <a:r>
              <a:rPr b="1" lang="kk-KZ" sz="2800" spc="-1" strike="noStrike">
                <a:solidFill>
                  <a:srgbClr val="ff0066"/>
                </a:solidFill>
                <a:latin typeface="Arial"/>
              </a:rPr>
              <a:t>(Х,У),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R,C[a,b,c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Мұндағ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Х,У-шеңбердің  центрінің  координатала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-шеңбердің радиу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-сызық  түс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-доға шығаруда қолданылатын параметрл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с-элипс шығаруда қолданылатын параметрл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77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0" dur="77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2" dur="77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4" dur="77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77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9" dur="77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1" dur="77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3" dur="77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77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8" dur="77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0" dur="77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2" dur="77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77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7" dur="77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9" dur="77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1" dur="77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77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77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8" dur="77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0" dur="77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77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5" dur="77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7" dur="77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9" dur="77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77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4" dur="77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6" dur="77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8" dur="77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77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3" dur="77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5" dur="77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7" dur="77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770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2" dur="77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4" dur="77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6" dur="77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Жаңадан  өтілген тақырыпқа  байланысты  жаттығулар  орында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2133720"/>
            <a:ext cx="7704360" cy="244944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50000">
                <a:srgbClr val="ffffff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27-жаттығ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Формаға  әртүрлі  фигурала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шығаратын  қосымша  жасау</a:t>
            </a:r>
            <a:r>
              <a:rPr b="0" lang="kk-K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95280" y="620640"/>
            <a:ext cx="8209080" cy="403236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50000">
                <a:srgbClr val="ffffff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0066"/>
                </a:solidFill>
                <a:latin typeface="Arial"/>
              </a:rPr>
              <a:t>28-жаттығу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kk-KZ" sz="4000" spc="-1" strike="noStrike">
                <a:solidFill>
                  <a:srgbClr val="ff0066"/>
                </a:solidFill>
                <a:latin typeface="Arial"/>
              </a:rPr>
              <a:t>8-март  мейрамына  байланыст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kk-KZ" sz="4000" spc="-1" strike="noStrike">
                <a:solidFill>
                  <a:srgbClr val="ff0066"/>
                </a:solidFill>
                <a:latin typeface="Arial"/>
              </a:rPr>
              <a:t>құттықтау  анимациялық  көріні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11280" y="1413000"/>
            <a:ext cx="8208720" cy="403200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50000">
                <a:srgbClr val="ffffff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Қорытын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Білімдеріне  қарай  бірнеш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оқушыларды  марапттау, бағала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218440" cy="60487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Сабақтың  тақырыбы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Қосымшаларға графиктік  объектілер  кірістіру, анимация әсерін ұйымдасты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Сабақтың  мақсаты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Оқушыларды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Visual  Basic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ортас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тақырыбы  бойынша  алған  білімдерін  нығайту,  тиянақтау,  бір  жүйеге келтіре  отырып,  теориялық  білімін  практикада  ұштасты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А)  Білімділігі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Оқушыларға  Қосымшаларға графиктік  объектілер  мен анимация әсеріне  түсінік  беру.  Бірнеше  мүмкіндіктерімен  таныстыра  отырып,  шығармашылыққа бау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Ә)  Тәрбиелігі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Оқушыларды  адалдыққа,  дүниетанымдыққа,  жауапкершілікке,  жүйелікке,  ауызбіршілікке  мықты  және  әдептілікке  тәрбиеле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Б)  Дамытушылығы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Оқушылардың  пәнге  деген  қызығушылығын  арттыру,  ой-өрісін  дамыту,  өз  бетінше  жұмыс  істей  алу  қабілетін  көтеру,  тапқырлыққа,  ізденімпаздылыққа,  шығармашылыққа  бау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Сабақтың міндеті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Оқушыларға  компьютер  алдында  еркін,  өз  бетінше  жұмыс  істеуді  қалыптасты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Сабақтың  түрі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Аралас  саба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11" descr="peace_dove_olive_branch_hg_wht"/>
          <p:cNvPicPr/>
          <p:nvPr/>
        </p:nvPicPr>
        <p:blipFill>
          <a:blip r:embed="rId1"/>
          <a:stretch/>
        </p:blipFill>
        <p:spPr>
          <a:xfrm>
            <a:off x="-500040" y="3714840"/>
            <a:ext cx="3467160" cy="24764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peace_dove_olive_branch_hg_wht"/>
          <p:cNvPicPr/>
          <p:nvPr/>
        </p:nvPicPr>
        <p:blipFill>
          <a:blip r:embed="rId2"/>
          <a:stretch/>
        </p:blipFill>
        <p:spPr>
          <a:xfrm>
            <a:off x="4143240" y="357120"/>
            <a:ext cx="3467160" cy="2476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peace_dove_olive_branch_hg_wht"/>
          <p:cNvPicPr/>
          <p:nvPr/>
        </p:nvPicPr>
        <p:blipFill>
          <a:blip r:embed="rId3"/>
          <a:stretch/>
        </p:blipFill>
        <p:spPr>
          <a:xfrm>
            <a:off x="6072120" y="2857680"/>
            <a:ext cx="3467160" cy="2476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peace_dove_olive_branch_hg_wht"/>
          <p:cNvPicPr/>
          <p:nvPr/>
        </p:nvPicPr>
        <p:blipFill>
          <a:blip r:embed="rId4"/>
          <a:stretch/>
        </p:blipFill>
        <p:spPr>
          <a:xfrm>
            <a:off x="428760" y="357120"/>
            <a:ext cx="3466800" cy="24764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peace_dove_olive_branch_hg_wht"/>
          <p:cNvPicPr/>
          <p:nvPr/>
        </p:nvPicPr>
        <p:blipFill>
          <a:blip r:embed="rId5"/>
          <a:stretch/>
        </p:blipFill>
        <p:spPr>
          <a:xfrm>
            <a:off x="2428920" y="2286000"/>
            <a:ext cx="3467160" cy="2476440"/>
          </a:xfrm>
          <a:prstGeom prst="rect">
            <a:avLst/>
          </a:prstGeom>
          <a:ln w="0">
            <a:noFill/>
          </a:ln>
        </p:spPr>
      </p:pic>
      <p:sp>
        <p:nvSpPr>
          <p:cNvPr id="212" name="WordArt 8"/>
          <p:cNvSpPr txBox="1"/>
          <p:nvPr/>
        </p:nvSpPr>
        <p:spPr>
          <a:xfrm>
            <a:off x="611280" y="2133720"/>
            <a:ext cx="2520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Наза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3" name="WordArt 9"/>
          <p:cNvSpPr txBox="1"/>
          <p:nvPr/>
        </p:nvSpPr>
        <p:spPr>
          <a:xfrm rot="1767600">
            <a:off x="3174480" y="1821960"/>
            <a:ext cx="470232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183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аударғандарыңызға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183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4" name="WordArt 10"/>
          <p:cNvSpPr txBox="1"/>
          <p:nvPr/>
        </p:nvSpPr>
        <p:spPr>
          <a:xfrm>
            <a:off x="2700360" y="4581360"/>
            <a:ext cx="3384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р а қ м е т !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218440" cy="590544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ccff66"/>
                </a:solidFill>
                <a:latin typeface="Times New Roman"/>
              </a:rPr>
              <a:t>Сабақтың  көрнекілігі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компьютер, сөзжұмбақ, тест  тапсырмалары, топтамалық сұрақта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ccff66"/>
                </a:solidFill>
                <a:latin typeface="Times New Roman"/>
              </a:rPr>
              <a:t>Сабақтың  бары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kk-KZ" sz="2400" spc="-1" strike="noStrike">
                <a:solidFill>
                  <a:srgbClr val="ccff66"/>
                </a:solidFill>
                <a:latin typeface="Times New Roman"/>
              </a:rPr>
              <a:t>а)  Ұйымдастыру  кезең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Оқушыларды  түгелдеп,  сабаққа  назарларын  ауда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kk-KZ" sz="2400" spc="-1" strike="noStrike">
                <a:solidFill>
                  <a:srgbClr val="ccff66"/>
                </a:solidFill>
                <a:latin typeface="Times New Roman"/>
              </a:rPr>
              <a:t>ә)  Үй  тапсырмасын  сұра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1.  Кубик лақтыру (Сұрақ-жауап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2.  Тест  сұрақта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3.  Сөзжұмба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kk-KZ" sz="2400" spc="-1" strike="noStrike">
                <a:solidFill>
                  <a:srgbClr val="ff0066"/>
                </a:solidFill>
                <a:latin typeface="Times New Roman"/>
              </a:rPr>
              <a:t>б)  Жаңа  саба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1. Қосымшаларға графиктік  объектілер  кірістіру, анимация әсерін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ұйымдастыру  тақырыбына  түсініктеме  бе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</a:rPr>
              <a:t>(компьютерден  осы  тақырып  бойынша  және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Visual  Basic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</a:rPr>
              <a:t>тақырыбы  бойынша  презентациялық  көрініс  көру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2.  жаттығу  орында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в)  Қорытын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4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9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4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9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4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9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4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9" dur="5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4" dur="5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9" dur="50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4" dur="50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ff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6666ff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537080" cy="4005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9280" y="2276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3284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422100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172360" y="198900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172360" y="306864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956720" y="407664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4072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8728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000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2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411280" y="1628640"/>
            <a:ext cx="4105440" cy="33991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000000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26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7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8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ff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6666ff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537080" cy="4005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79280" y="2276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3284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422100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172360" y="198900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172360" y="306864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956720" y="407664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8728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2000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3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000000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484360" y="1700280"/>
            <a:ext cx="41752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45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6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7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ff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6666ff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537080" cy="4005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9280" y="2276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3284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422100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72360" y="198900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172360" y="306864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956720" y="407664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74072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8728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2000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5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19:30:45Z</dcterms:created>
  <dc:creator>User</dc:creator>
  <dc:description/>
  <dc:language>en-US</dc:language>
  <cp:lastModifiedBy>Сауле</cp:lastModifiedBy>
  <dcterms:modified xsi:type="dcterms:W3CDTF">2011-06-07T15:41:51Z</dcterms:modified>
  <cp:revision>29</cp:revision>
  <dc:subject/>
  <dc:title>Слайд 1</dc:title>
</cp:coreProperties>
</file>