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.wmf" ContentType="image/x-wmf"/>
  <Override PartName="/ppt/media/image9.jpeg" ContentType="image/jpeg"/>
  <Override PartName="/ppt/media/image3.wmf" ContentType="image/x-wmf"/>
  <Override PartName="/ppt/media/image18.gif" ContentType="image/gif"/>
  <Override PartName="/ppt/media/coin.wav" ContentType="audio/x-wav"/>
  <Override PartName="/ppt/media/image2.png" ContentType="image/png"/>
  <Override PartName="/ppt/media/image4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597C-A2B0-4CAD-A512-5E32ABC66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78F1-C50E-42BF-B190-88EB0AEF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D78E-EB37-4F1F-8DAF-E53AC798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5EF-AA35-4BB7-9E48-CCBBD9FA5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F888-6F2C-43A8-93DF-C418E06B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C6D5-CAE5-4CC5-BFAE-816579E0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116-4982-44A3-BEA2-83E4DEC6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EE7-830C-486A-8C18-91A2D77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D430-0C00-4724-BF32-26A820CF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5D9-3C86-4167-A926-6321D5BD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01C-4FE6-4AD3-96A2-42C030A5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8EF0-4085-487D-AD50-C298DDFF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3084-F407-4AF9-BFA8-1A2388C9D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3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4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5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6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27&#1078;&#1078;.frm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2.png"/><Relationship Id="rId4" Type="http://schemas.openxmlformats.org/officeDocument/2006/relationships/audio" Target="../media/coin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audio" Target="../media/coin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0"/>
            <a:ext cx="7775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№</a:t>
            </a: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4 С.Сейфуллин атындағы орта мектеб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Ашық саб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3300"/>
                </a:solidFill>
                <a:latin typeface="Times New Roman"/>
              </a:rPr>
              <a:t>Тақырыбы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kk-KZ" sz="2400" spc="-1" strike="noStrike">
                <a:solidFill>
                  <a:srgbClr val="3333ff"/>
                </a:solidFill>
                <a:latin typeface="Times New Roman"/>
              </a:rPr>
              <a:t>Қосымшаларға графиктік  объектілер  кірістіру, анимация әсерін ұйымдастыру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</a:rPr>
              <a:t>10 –</a:t>
            </a:r>
            <a:r>
              <a:rPr b="0" lang="kk-KZ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3333ff"/>
                </a:solidFill>
                <a:latin typeface="Times New Roman"/>
              </a:rPr>
              <a:t>сыны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ff"/>
                </a:solidFill>
                <a:latin typeface="Times New Roman"/>
              </a:rPr>
              <a:t>Мұғалімі: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400" spc="-1" strike="noStrike">
                <a:solidFill>
                  <a:srgbClr val="ff3300"/>
                </a:solidFill>
                <a:latin typeface="Times New Roman"/>
              </a:rPr>
              <a:t>Омарбекова Салтанат Күнтуғанқы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9999"/>
                </a:solidFill>
                <a:latin typeface="Times New Roman"/>
              </a:rPr>
              <a:t>Қызылорда қал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j0238267"/>
          <p:cNvPicPr/>
          <p:nvPr/>
        </p:nvPicPr>
        <p:blipFill>
          <a:blip r:embed="rId1"/>
          <a:stretch/>
        </p:blipFill>
        <p:spPr>
          <a:xfrm>
            <a:off x="3419640" y="836640"/>
            <a:ext cx="2382840" cy="1511280"/>
          </a:xfrm>
          <a:prstGeom prst="rect">
            <a:avLst/>
          </a:prstGeom>
          <a:ln w="0">
            <a:noFill/>
          </a:ln>
        </p:spPr>
      </p:pic>
      <p:pic>
        <p:nvPicPr>
          <p:cNvPr id="43" name="МАХАББАТ  БЕКЕТИ..mp3" descr=""/>
          <p:cNvPicPr/>
          <p:nvPr/>
        </p:nvPicPr>
        <p:blipFill>
          <a:blip r:embed="rId2"/>
          <a:stretch/>
        </p:blipFill>
        <p:spPr>
          <a:xfrm>
            <a:off x="8317080" y="40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8" descr="J0099171"/>
          <p:cNvPicPr/>
          <p:nvPr/>
        </p:nvPicPr>
        <p:blipFill>
          <a:blip r:embed="rId3"/>
          <a:stretch/>
        </p:blipFill>
        <p:spPr>
          <a:xfrm>
            <a:off x="27288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9" descr="J0099171"/>
          <p:cNvPicPr/>
          <p:nvPr/>
        </p:nvPicPr>
        <p:blipFill>
          <a:blip r:embed="rId4"/>
          <a:stretch/>
        </p:blipFill>
        <p:spPr>
          <a:xfrm>
            <a:off x="4572000" y="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0" descr="J0099171"/>
          <p:cNvPicPr/>
          <p:nvPr/>
        </p:nvPicPr>
        <p:blipFill>
          <a:blip r:embed="rId5"/>
          <a:stretch/>
        </p:blipFill>
        <p:spPr>
          <a:xfrm rot="16200000">
            <a:off x="-199116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1" descr="J0099171"/>
          <p:cNvPicPr/>
          <p:nvPr/>
        </p:nvPicPr>
        <p:blipFill>
          <a:blip r:embed="rId6"/>
          <a:stretch/>
        </p:blipFill>
        <p:spPr>
          <a:xfrm rot="16200000">
            <a:off x="-1077480" y="5370480"/>
            <a:ext cx="2565360" cy="409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2" descr="J0099171"/>
          <p:cNvPicPr/>
          <p:nvPr/>
        </p:nvPicPr>
        <p:blipFill>
          <a:blip r:embed="rId7"/>
          <a:stretch/>
        </p:blipFill>
        <p:spPr>
          <a:xfrm>
            <a:off x="395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3" descr="J0099171"/>
          <p:cNvPicPr/>
          <p:nvPr/>
        </p:nvPicPr>
        <p:blipFill>
          <a:blip r:embed="rId8"/>
          <a:stretch/>
        </p:blipFill>
        <p:spPr>
          <a:xfrm>
            <a:off x="4751280" y="64483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4" descr="J0099171"/>
          <p:cNvPicPr/>
          <p:nvPr/>
        </p:nvPicPr>
        <p:blipFill>
          <a:blip r:embed="rId9"/>
          <a:stretch/>
        </p:blipFill>
        <p:spPr>
          <a:xfrm rot="16200000">
            <a:off x="6742800" y="1991520"/>
            <a:ext cx="4392720" cy="4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5" descr="J0099171"/>
          <p:cNvPicPr/>
          <p:nvPr/>
        </p:nvPicPr>
        <p:blipFill>
          <a:blip r:embed="rId10"/>
          <a:stretch/>
        </p:blipFill>
        <p:spPr>
          <a:xfrm rot="16200000">
            <a:off x="7656480" y="5370480"/>
            <a:ext cx="25653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340000" y="1844640"/>
            <a:ext cx="43927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5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83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4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2556000" y="1760400"/>
            <a:ext cx="4032000" cy="33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02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03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04" dur="1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31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2268360" y="1700280"/>
            <a:ext cx="43196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2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3" dur="1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ccff66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53737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 Basic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ортасында  әр  түрлі құралдарда,  формалар,  модульдер т.б. экранға  шығара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68360" y="5373720"/>
            <a:ext cx="82296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Формаға  уақыт-өлшеуіш шығаратын компон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611280" y="5273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3. Формаға  әр түрлі  геометриялық  фигуралар  шығаратын  компон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10920" y="5589360"/>
            <a:ext cx="352908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4.Енгізу  қора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92360" y="537336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5. Ішіне  басқа  компоненттерді  орналастыра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9280" y="5516640"/>
            <a:ext cx="79311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6.  Текстік  және  сандық  шамаларды шығару  үшін  қолданылатын  компоне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50000">
              <a:srgbClr val="ccff66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Arial"/>
              </a:rPr>
              <a:t>3.  Сөзжұмбақ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68360" y="1413000"/>
          <a:ext cx="4969080" cy="3744720"/>
        </p:xfrm>
        <a:graphic>
          <a:graphicData uri="http://schemas.openxmlformats.org/drawingml/2006/table">
            <a:tbl>
              <a:tblPr/>
              <a:tblGrid>
                <a:gridCol w="552600"/>
                <a:gridCol w="550800"/>
                <a:gridCol w="552600"/>
                <a:gridCol w="554040"/>
                <a:gridCol w="549360"/>
                <a:gridCol w="554040"/>
                <a:gridCol w="552240"/>
                <a:gridCol w="550800"/>
                <a:gridCol w="552600"/>
              </a:tblGrid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00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Visual  Basic </a:t>
            </a:r>
            <a:r>
              <a:rPr b="0" lang="kk-KZ" sz="2000" spc="-1" strike="noStrike">
                <a:solidFill>
                  <a:srgbClr val="3333ff"/>
                </a:solidFill>
                <a:latin typeface="Times New Roman"/>
              </a:rPr>
              <a:t>проектілеріне  графиктік  объектілерді  графиктік операторларын  пайдаланып программалау  немесе  компоненттер  панеліндегі  граиктік  компоненттерді  қолдану  арқылы  шығаруға  бол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ператоры  түзу  және тіктөртбұрыштар  шығару  үшін  қолданылады, жазылу  форма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Line (X1, Y1)- (X2, Y2),C,[B,BF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Мұндағы: Х1,У1,Х2,У2 – түзудің  төбелерінің координатал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С – сызық түс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В – тік төртбұрыш шығару  к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F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– боялған  тік төртбұрыш  шығару к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операторы  нүкте  шығару үшін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 формат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Pset (X,Y)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нүкте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 – сызық түс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функциясы сызықтың  қалыңдығын орнату  үшін қолданылады,  </a:t>
            </a:r>
            <a:r>
              <a:rPr b="0" lang="kk-KZ" sz="2800" spc="-1" strike="noStrike">
                <a:solidFill>
                  <a:srgbClr val="3333ff"/>
                </a:solidFill>
                <a:latin typeface="Arial"/>
              </a:rPr>
              <a:t>жазылу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rawWidth 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 а –сызықтың  қалыңдығ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  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операторы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 шеңбер  және  доға  шығару  үшін  қолданылады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жазылу  форм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Circle</a:t>
            </a:r>
            <a:r>
              <a:rPr b="1" lang="kk-KZ" sz="2800" spc="-1" strike="noStrike">
                <a:solidFill>
                  <a:srgbClr val="ff0066"/>
                </a:solidFill>
                <a:latin typeface="Arial"/>
              </a:rPr>
              <a:t>(Х,У),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R,C[a,b,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Мұндағ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Х,У-шеңбердің  центрінің  координатал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шеңбердің радиу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сызық  түс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-доға шығаруда қолданылатын параметрл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с-элипс шығаруда қолданылатын параметр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77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9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1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77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0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77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77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8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0" dur="77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77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5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7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9" dur="77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Жаңадан  өтілген тақырыпқа  байланысты  жаттығулар  орынд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2133720"/>
            <a:ext cx="7704360" cy="2449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27-жаттығ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Формаға  әртүрлі  фигурала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шығаратын  қосымша  жасау</a:t>
            </a:r>
            <a:r>
              <a:rPr b="0" lang="kk-K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95280" y="620640"/>
            <a:ext cx="8209080" cy="403236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28-жаттығ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8-март  мейрамына  байланыс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kk-KZ" sz="4000" spc="-1" strike="noStrike">
                <a:solidFill>
                  <a:srgbClr val="ff0066"/>
                </a:solidFill>
                <a:latin typeface="Arial"/>
              </a:rPr>
              <a:t>құттықтау  анимациялық  көріні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11280" y="1413000"/>
            <a:ext cx="8208720" cy="403200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50000">
                <a:srgbClr val="ffff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Қорытын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лімдеріне  қарай  бірнеш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оқушыларды  марапттау, бағала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6840" y="404640"/>
            <a:ext cx="8218440" cy="604872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ақырыб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Қосымшаларға графиктік  объектілер  кірістіру, анимация әсерін ұйымд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мақсат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Visual  Basic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ртас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тақырыбы  бойынша  алған  білімдерін  нығайту,  тиянақтау,  бір  жүйеге келтіре  отырып,  теориялық  білімін  практикада  ұш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А)  Білімд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Қосымшаларға графиктік  объектілер  мен анимация әсеріне  түсінік  беру.  Бірнеше  мүмкіндіктерімен  таныстыра  отырып,  шығармашылыққа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Ә)  Тәрбие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  адалдыққа,  дүниетанымдыққа,  жауапкершілікке,  жүйелікке,  ауызбіршілікке  мықты  және  әдептілікке  тәрбиеле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Б)  Дамытушылығы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дың  пәнге  деген  қызығушылығын  арттыру,  ой-өрісін  дамыту,  өз  бетінше  жұмыс  істей  алу  қабілетін  көтеру,  тапқырлыққа,  ізденімпаздылыққа,  шығармашылыққа  бау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міндет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Оқушыларға  компьютер  алдында  еркін,  өз  бетінше  жұмыс  істеуді  қалыптасты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Сабақтың  түр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Аралас  са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1" descr="peace_dove_olive_branch_hg_wht"/>
          <p:cNvPicPr/>
          <p:nvPr/>
        </p:nvPicPr>
        <p:blipFill>
          <a:blip r:embed="rId1"/>
          <a:stretch/>
        </p:blipFill>
        <p:spPr>
          <a:xfrm>
            <a:off x="-500040" y="371484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peace_dove_olive_branch_hg_wht"/>
          <p:cNvPicPr/>
          <p:nvPr/>
        </p:nvPicPr>
        <p:blipFill>
          <a:blip r:embed="rId2"/>
          <a:stretch/>
        </p:blipFill>
        <p:spPr>
          <a:xfrm>
            <a:off x="4143240" y="35712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peace_dove_olive_branch_hg_wht"/>
          <p:cNvPicPr/>
          <p:nvPr/>
        </p:nvPicPr>
        <p:blipFill>
          <a:blip r:embed="rId3"/>
          <a:stretch/>
        </p:blipFill>
        <p:spPr>
          <a:xfrm>
            <a:off x="6072120" y="2857680"/>
            <a:ext cx="3467160" cy="247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peace_dove_olive_branch_hg_wht"/>
          <p:cNvPicPr/>
          <p:nvPr/>
        </p:nvPicPr>
        <p:blipFill>
          <a:blip r:embed="rId4"/>
          <a:stretch/>
        </p:blipFill>
        <p:spPr>
          <a:xfrm>
            <a:off x="428760" y="357120"/>
            <a:ext cx="3466800" cy="2476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peace_dove_olive_branch_hg_wht"/>
          <p:cNvPicPr/>
          <p:nvPr/>
        </p:nvPicPr>
        <p:blipFill>
          <a:blip r:embed="rId5"/>
          <a:stretch/>
        </p:blipFill>
        <p:spPr>
          <a:xfrm>
            <a:off x="2428920" y="2286000"/>
            <a:ext cx="3467160" cy="2476440"/>
          </a:xfrm>
          <a:prstGeom prst="rect">
            <a:avLst/>
          </a:prstGeom>
          <a:ln w="0">
            <a:noFill/>
          </a:ln>
        </p:spPr>
      </p:pic>
      <p:sp>
        <p:nvSpPr>
          <p:cNvPr id="212" name="WordArt 8"/>
          <p:cNvSpPr txBox="1"/>
          <p:nvPr/>
        </p:nvSpPr>
        <p:spPr>
          <a:xfrm>
            <a:off x="611280" y="2133720"/>
            <a:ext cx="2520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Назар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3" name="WordArt 9"/>
          <p:cNvSpPr txBox="1"/>
          <p:nvPr/>
        </p:nvSpPr>
        <p:spPr>
          <a:xfrm rot="1767600">
            <a:off x="3174480" y="1821960"/>
            <a:ext cx="47023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83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аударғандарыңызғ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83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WordArt 10"/>
          <p:cNvSpPr txBox="1"/>
          <p:nvPr/>
        </p:nvSpPr>
        <p:spPr>
          <a:xfrm>
            <a:off x="2700360" y="4581360"/>
            <a:ext cx="3384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р а қ м е т !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218440" cy="5905440"/>
          </a:xfrm>
          <a:prstGeom prst="rect">
            <a:avLst/>
          </a:prstGeom>
          <a:gradFill rotWithShape="0">
            <a:gsLst>
              <a:gs pos="0">
                <a:srgbClr val="3333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көрнекілігі: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компьютер, сөзжұмбақ, тест  тапсырмалары, топтамалық сұрақт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ccff66"/>
                </a:solidFill>
                <a:latin typeface="Times New Roman"/>
              </a:rPr>
              <a:t>Сабақтың  бары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а)  Ұйымдастыру  кезең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Оқушыларды  түгелдеп,  сабаққа  назарларын  ауд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ccff66"/>
                </a:solidFill>
                <a:latin typeface="Times New Roman"/>
              </a:rPr>
              <a:t>ә)  Үй  тапсырмасын  сұр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 Кубик лақтыру (Сұрақ-жауап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Тест  сұрақта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3.  Сөзжұмба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kk-KZ" sz="2400" spc="-1" strike="noStrike">
                <a:solidFill>
                  <a:srgbClr val="ff0066"/>
                </a:solidFill>
                <a:latin typeface="Times New Roman"/>
              </a:rPr>
              <a:t>б)  Жаңа  саба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1. Қосымшаларға графиктік  объектілер  кірістіру, анимация әсерін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ұйымдастыру  тақырыбына  түсініктеме  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(компьютерден  осы  тақырып  бойынша  және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Visual  Basic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</a:rPr>
              <a:t>тақырыбы  бойынша  презентациялық  көрініс  көр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2.  жаттығу  орында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kk-KZ" sz="1800" spc="-1" strike="noStrike">
                <a:solidFill>
                  <a:srgbClr val="000000"/>
                </a:solidFill>
                <a:latin typeface="Times New Roman"/>
              </a:rPr>
              <a:t>в)  Қорыты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4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9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4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4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411280" y="1628640"/>
            <a:ext cx="4105440" cy="33991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26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7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000000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1752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66ff"/>
                </a:solidFill>
                <a:latin typeface="Arial"/>
              </a:rPr>
              <a:t>Кубик ла</a:t>
            </a:r>
            <a:r>
              <a:rPr b="1" i="1" lang="kk-KZ" sz="4400" spc="-1" strike="noStrike">
                <a:solidFill>
                  <a:srgbClr val="6666ff"/>
                </a:solidFill>
                <a:latin typeface="Arial"/>
              </a:rPr>
              <a:t>қты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1280" y="2133720"/>
            <a:ext cx="4537080" cy="4005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016360" cy="1722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2276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9280" y="328464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22100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2360" y="198900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172360" y="306864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56720" y="4076640"/>
            <a:ext cx="57600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40720" y="5229360"/>
            <a:ext cx="576360" cy="57600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20000" y="6021360"/>
            <a:ext cx="576360" cy="576360"/>
          </a:xfrm>
          <a:prstGeom prst="star5">
            <a:avLst/>
          </a:prstGeom>
          <a:gradFill rotWithShape="0">
            <a:gsLst>
              <a:gs pos="0">
                <a:srgbClr val="ffff99">
                  <a:alpha val="65098"/>
                </a:srgbClr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0" y="659772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11280" y="189000"/>
            <a:ext cx="4105440" cy="360360"/>
          </a:xfrm>
          <a:custGeom>
            <a:avLst/>
            <a:gdLst>
              <a:gd name="textAreaLeft" fmla="*/ 1026360 w 4105440"/>
              <a:gd name="textAreaRight" fmla="*/ 3079080 w 4105440"/>
              <a:gd name="textAreaTop" fmla="*/ 1044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gradFill rotWithShape="0">
            <a:gsLst>
              <a:gs pos="0">
                <a:srgbClr val="ffff99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19:30:45Z</dcterms:created>
  <dc:creator>User</dc:creator>
  <dc:description/>
  <dc:language>en-US</dc:language>
  <cp:lastModifiedBy>Сауле</cp:lastModifiedBy>
  <dcterms:modified xsi:type="dcterms:W3CDTF">2011-06-07T15:41:51Z</dcterms:modified>
  <cp:revision>29</cp:revision>
  <dc:subject/>
  <dc:title>Слайд 1</dc:title>
</cp:coreProperties>
</file>