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wmf" ContentType="image/x-wmf"/>
  <Override PartName="/ppt/media/image9.jpeg" ContentType="image/jpeg"/>
  <Override PartName="/ppt/media/image3.wmf" ContentType="image/x-wmf"/>
  <Override PartName="/ppt/media/image18.gif" ContentType="image/gif"/>
  <Override PartName="/ppt/media/coin.wav" ContentType="audio/x-wav"/>
  <Override PartName="/ppt/media/image2.png" ContentType="image/png"/>
  <Override PartName="/ppt/media/image4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DC6-095B-4D61-87D1-7FA4D6A1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335-EB2B-43F3-B347-7A1A01A2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AFD-E764-4386-88E3-71259D3C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CEE-7DAE-4EE0-96C8-74FE1D70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3FD-E9AF-4F5D-86D3-02508F29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08A-C59F-4B53-939E-F6020B69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144-CBAE-4052-8688-7664E9B7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80E-B647-4DAE-98C7-F2298FC0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68A-AB4C-41CE-8543-C3F4CF71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AFA-4204-4E05-B776-BA0DAA2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E32-C6B4-4243-8CEF-89D5DAD9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C69-D5E9-4246-8FB0-4EA8C9D7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9824-3576-4212-ACA2-9239B86BC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6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27&#1078;&#1078;.fr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7775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№</a:t>
            </a: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4 С.Сейфуллин атындағы орта мектеб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Ашық саб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Times New Roman"/>
              </a:rPr>
              <a:t>Тақырыбы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3333ff"/>
                </a:solidFill>
                <a:latin typeface="Times New Roman"/>
              </a:rPr>
              <a:t>Қосымшаларға графиктік  объектілер  кірістіру, анимация әсерін ұйымдастыру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10 –</a:t>
            </a:r>
            <a:r>
              <a:rPr b="0" lang="kk-KZ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н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Мұғалімі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Омарбекова Салтанат Күнтуған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9999"/>
                </a:solidFill>
                <a:latin typeface="Times New Roman"/>
              </a:rPr>
              <a:t>Қызылорда қал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j0238267"/>
          <p:cNvPicPr/>
          <p:nvPr/>
        </p:nvPicPr>
        <p:blipFill>
          <a:blip r:embed="rId1"/>
          <a:stretch/>
        </p:blipFill>
        <p:spPr>
          <a:xfrm>
            <a:off x="3419640" y="836640"/>
            <a:ext cx="2382840" cy="1511280"/>
          </a:xfrm>
          <a:prstGeom prst="rect">
            <a:avLst/>
          </a:prstGeom>
          <a:ln w="0">
            <a:noFill/>
          </a:ln>
        </p:spPr>
      </p:pic>
      <p:pic>
        <p:nvPicPr>
          <p:cNvPr id="43" name="МАХАББАТ  БЕКЕТИ..mp3" descr=""/>
          <p:cNvPicPr/>
          <p:nvPr/>
        </p:nvPicPr>
        <p:blipFill>
          <a:blip r:embed="rId2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J0099171"/>
          <p:cNvPicPr/>
          <p:nvPr/>
        </p:nvPicPr>
        <p:blipFill>
          <a:blip r:embed="rId3"/>
          <a:stretch/>
        </p:blipFill>
        <p:spPr>
          <a:xfrm>
            <a:off x="27288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9" descr="J0099171"/>
          <p:cNvPicPr/>
          <p:nvPr/>
        </p:nvPicPr>
        <p:blipFill>
          <a:blip r:embed="rId4"/>
          <a:stretch/>
        </p:blipFill>
        <p:spPr>
          <a:xfrm>
            <a:off x="457200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0" descr="J0099171"/>
          <p:cNvPicPr/>
          <p:nvPr/>
        </p:nvPicPr>
        <p:blipFill>
          <a:blip r:embed="rId5"/>
          <a:stretch/>
        </p:blipFill>
        <p:spPr>
          <a:xfrm rot="16200000">
            <a:off x="-199116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1" descr="J0099171"/>
          <p:cNvPicPr/>
          <p:nvPr/>
        </p:nvPicPr>
        <p:blipFill>
          <a:blip r:embed="rId6"/>
          <a:stretch/>
        </p:blipFill>
        <p:spPr>
          <a:xfrm rot="16200000">
            <a:off x="-1077480" y="5370480"/>
            <a:ext cx="256536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2" descr="J0099171"/>
          <p:cNvPicPr/>
          <p:nvPr/>
        </p:nvPicPr>
        <p:blipFill>
          <a:blip r:embed="rId7"/>
          <a:stretch/>
        </p:blipFill>
        <p:spPr>
          <a:xfrm>
            <a:off x="395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3" descr="J0099171"/>
          <p:cNvPicPr/>
          <p:nvPr/>
        </p:nvPicPr>
        <p:blipFill>
          <a:blip r:embed="rId8"/>
          <a:stretch/>
        </p:blipFill>
        <p:spPr>
          <a:xfrm>
            <a:off x="4751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4" descr="J0099171"/>
          <p:cNvPicPr/>
          <p:nvPr/>
        </p:nvPicPr>
        <p:blipFill>
          <a:blip r:embed="rId9"/>
          <a:stretch/>
        </p:blipFill>
        <p:spPr>
          <a:xfrm rot="16200000">
            <a:off x="674280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5" descr="J0099171"/>
          <p:cNvPicPr/>
          <p:nvPr/>
        </p:nvPicPr>
        <p:blipFill>
          <a:blip r:embed="rId10"/>
          <a:stretch/>
        </p:blipFill>
        <p:spPr>
          <a:xfrm rot="16200000">
            <a:off x="7656480" y="5370480"/>
            <a:ext cx="2565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40000" y="1844640"/>
            <a:ext cx="4392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1760400"/>
            <a:ext cx="40320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2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ff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 Basic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ортасында  әр  түрлі құралдарда,  формалар,  модульдер т.б. экранға  шығ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68360" y="537372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Формаға  уақыт-өлшеуіш шығаратын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11280" y="5273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Формаға  әр түрлі  геометриялық  фигуралар  шығаратын 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0920" y="5589360"/>
            <a:ext cx="3529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Енгізу  қо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92360" y="537336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. Ішіне  басқа  компоненттерді  орнал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5516640"/>
            <a:ext cx="7931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.  Текстік  және  сандық  шамаларды шығару  үшін  қолданылатын  компон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Visual  Basic </a:t>
            </a:r>
            <a:r>
              <a:rPr b="0" lang="kk-KZ" sz="2000" spc="-1" strike="noStrike">
                <a:solidFill>
                  <a:srgbClr val="3333ff"/>
                </a:solidFill>
                <a:latin typeface="Times New Roman"/>
              </a:rPr>
              <a:t>проектілеріне  графиктік  объектілерді  графиктік операторларын  пайдаланып программалау  немесе  компоненттер  панеліндегі  граиктік  компоненттерді  қолдану  арқылы  шығаруға  бо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ператоры  түзу  және тіктөртбұрыштар  шығару  үшін  қолданылады, жазылу  форм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ine (X1, Y1)- (X2, Y2),C,[B,BF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Мұндағы: Х1,У1,Х2,У2 – түзудің  төбелерінің координата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С – сызық тү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В – тік төртбұрыш шығару  к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– боялған  тік төртбұрыш  шығару к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операторы  нүкте  шығару үшін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 формат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 (X,Y)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нүкте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 – сызық түс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функциясы сызықтың  қалыңдығын орнату  үшін қолданылады,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 а –сызықтың  қалыңдығ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  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шеңбер  және  доға  шығару  үшін 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зылу 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(Х,У),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,C[a,b,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шеңбердің  центрі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шеңбердің ради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сызық  тү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доға шығаруда қолданылатын параметр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-элипс шығаруда қолданылатын параметр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77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Жаңадан  өтілген тақырыпқа  байланысты  жаттығулар  орынд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2133720"/>
            <a:ext cx="7704360" cy="2449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27-жаттығ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Формаға  әртүрлі  фигурала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шығаратын  қосымша  жасау</a:t>
            </a: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5280" y="620640"/>
            <a:ext cx="8209080" cy="403236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28-жаттығ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8-март  мейрамына  байланыс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құттықтау  анимациялық  көріні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1413000"/>
            <a:ext cx="8208720" cy="4032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Қорыты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лімдеріне  қарай  бірнеш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оқушыларды  марапттау, бағал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Қосымшаларға графиктік  объектілер  кірістіру, анимация әсерін ұйымд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Visual  Basic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ртас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тақырыбы  бойынша  алған  білімдерін  нығайту,  тиянақтау,  бір  жүйеге келтіре  отырып,  теориялық  білімін  практикада  ұш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 Білімд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Қосымшаларға графиктік  объектілер  мен анимация әсеріне  түсінік  беру.  Бірнеше  мүмкіндіктерімен  таныстыра  отырып,  шығармашылыққа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 Тәрбие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адалдыққа,  дүниетанымдыққа,  жауапкершілікке,  жүйелікке,  ауызбіршілікке  мықты  және  әдептілікке  тәрбие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)  Дамытушылығ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ң  пәнге  деген  қызығушылығын  арттыру,  ой-өрісін  дамыту,  өз  бетінше  жұмыс  істей  алу  қабілетін  көтеру,  тапқырлыққа,  ізденімпаздылыққа,  шығармашылыққа 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міндет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компьютер  алдында  еркін,  өз  бетінше  жұмыс  істеуді  қалып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Аралас  са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peace_dove_olive_branch_hg_wht"/>
          <p:cNvPicPr/>
          <p:nvPr/>
        </p:nvPicPr>
        <p:blipFill>
          <a:blip r:embed="rId1"/>
          <a:stretch/>
        </p:blipFill>
        <p:spPr>
          <a:xfrm>
            <a:off x="-500040" y="371484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peace_dove_olive_branch_hg_wht"/>
          <p:cNvPicPr/>
          <p:nvPr/>
        </p:nvPicPr>
        <p:blipFill>
          <a:blip r:embed="rId2"/>
          <a:stretch/>
        </p:blipFill>
        <p:spPr>
          <a:xfrm>
            <a:off x="4143240" y="35712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peace_dove_olive_branch_hg_wht"/>
          <p:cNvPicPr/>
          <p:nvPr/>
        </p:nvPicPr>
        <p:blipFill>
          <a:blip r:embed="rId3"/>
          <a:stretch/>
        </p:blipFill>
        <p:spPr>
          <a:xfrm>
            <a:off x="6072120" y="285768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peace_dove_olive_branch_hg_wht"/>
          <p:cNvPicPr/>
          <p:nvPr/>
        </p:nvPicPr>
        <p:blipFill>
          <a:blip r:embed="rId4"/>
          <a:stretch/>
        </p:blipFill>
        <p:spPr>
          <a:xfrm>
            <a:off x="428760" y="357120"/>
            <a:ext cx="3466800" cy="2476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eace_dove_olive_branch_hg_wht"/>
          <p:cNvPicPr/>
          <p:nvPr/>
        </p:nvPicPr>
        <p:blipFill>
          <a:blip r:embed="rId5"/>
          <a:stretch/>
        </p:blipFill>
        <p:spPr>
          <a:xfrm>
            <a:off x="2428920" y="2286000"/>
            <a:ext cx="3467160" cy="2476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8"/>
          <p:cNvSpPr txBox="1"/>
          <p:nvPr/>
        </p:nvSpPr>
        <p:spPr>
          <a:xfrm>
            <a:off x="611280" y="2133720"/>
            <a:ext cx="252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9"/>
          <p:cNvSpPr txBox="1"/>
          <p:nvPr/>
        </p:nvSpPr>
        <p:spPr>
          <a:xfrm rot="1767600">
            <a:off x="3174480" y="1821960"/>
            <a:ext cx="4702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83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аударғандарыңызғ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83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2700360" y="4581360"/>
            <a:ext cx="33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 а қ м е т 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5905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сөзжұмбақ, тест  тапсырмалары, топтамалық сұрақт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а)  Ұйымдастыру 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қушыларды  түгелдеп,  сабаққа  назарларын  ауд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ә)  Үй  тапсырмасын  сұр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 Кубик лақтыру (Сұрақ-жауа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Тест  сұрақт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 Сөзжұм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ff0066"/>
                </a:solidFill>
                <a:latin typeface="Times New Roman"/>
              </a:rPr>
              <a:t>б)  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(компьютерден  осы  тақырып  бойынша  жән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Visual  Basic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тақырыбы  бойынша  презентациялық  көрініс  көр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жаттығу  орында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в)  Қорыты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105440" cy="3399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4175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9:30:45Z</dcterms:created>
  <dc:creator>User</dc:creator>
  <dc:description/>
  <dc:language>en-US</dc:language>
  <cp:lastModifiedBy>Сауле</cp:lastModifiedBy>
  <dcterms:modified xsi:type="dcterms:W3CDTF">2011-06-07T15:41:51Z</dcterms:modified>
  <cp:revision>29</cp:revision>
  <dc:subject/>
  <dc:title>Слайд 1</dc:title>
</cp:coreProperties>
</file>