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8.wmf" ContentType="image/x-wmf"/>
  <Override PartName="/ppt/media/image13.png" ContentType="image/png"/>
  <Override PartName="/ppt/media/image12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.wmf" ContentType="image/x-wmf"/>
  <Override PartName="/ppt/media/image9.jpeg" ContentType="image/jpeg"/>
  <Override PartName="/ppt/media/image3.wmf" ContentType="image/x-wmf"/>
  <Override PartName="/ppt/media/image18.gif" ContentType="image/gif"/>
  <Override PartName="/ppt/media/coin.wav" ContentType="audio/x-wav"/>
  <Override PartName="/ppt/media/image2.png" ContentType="image/png"/>
  <Override PartName="/ppt/media/image4.jpeg" ContentType="image/jpe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F2BD-DAF9-4327-A6DD-3347B84F4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0B7D-F915-44C4-968F-28712F399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8FB7-8D5D-4117-A386-AAF7A4D0B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0244-08B9-4F6F-ADD1-FF7F20122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DBAE-5AA7-44DC-ADFE-4E800A664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1304-75AD-47E9-BA37-7D8FD12A9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B742-636C-47D9-A340-A71862436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8AB5-9558-4DED-9507-9BFE3DC29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CFF1-1C06-4B94-B1D1-618D8CD5E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BF67-5989-43F5-85BB-4B096D55B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9608-B864-4D8A-8C14-A80178856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2572-597D-4025-A351-9B96FAF22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D5D01-14BA-48EE-AE0D-66B057BBCF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image" Target="../media/image13.png"/><Relationship Id="rId4" Type="http://schemas.openxmlformats.org/officeDocument/2006/relationships/audio" Target="../media/coin.wav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audio" Target="../media/coin.wav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image" Target="../media/image14.png"/><Relationship Id="rId4" Type="http://schemas.openxmlformats.org/officeDocument/2006/relationships/audio" Target="../media/coin.wav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audio" Target="../media/coin.wav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image" Target="../media/image15.png"/><Relationship Id="rId4" Type="http://schemas.openxmlformats.org/officeDocument/2006/relationships/audio" Target="../media/coin.wav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audio" Target="../media/coin.wav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image" Target="../media/image16.png"/><Relationship Id="rId4" Type="http://schemas.openxmlformats.org/officeDocument/2006/relationships/audio" Target="../media/coin.wav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file:///27&#1078;&#1078;.frm" TargetMode="Externa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audio" Target="../media/coin.wav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audio" Target="../media/coin.wav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audio" Target="../media/coin.wav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image" Target="../media/image12.png"/><Relationship Id="rId4" Type="http://schemas.openxmlformats.org/officeDocument/2006/relationships/audio" Target="../media/coin.wav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audio" Target="../media/coin.wav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4360" y="0"/>
            <a:ext cx="77752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3333ff"/>
                </a:solidFill>
                <a:latin typeface="Times New Roman"/>
              </a:rPr>
              <a:t>№</a:t>
            </a:r>
            <a:r>
              <a:rPr b="1" lang="kk-KZ" sz="2400" spc="-1" strike="noStrike">
                <a:solidFill>
                  <a:srgbClr val="3333ff"/>
                </a:solidFill>
                <a:latin typeface="Times New Roman"/>
              </a:rPr>
              <a:t>4 С.Сейфуллин атындағы орта мектеб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f3300"/>
                </a:solidFill>
                <a:latin typeface="Times New Roman"/>
              </a:rPr>
              <a:t>Ашық саб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3300"/>
                </a:solidFill>
                <a:latin typeface="Times New Roman"/>
              </a:rPr>
              <a:t>Тақырыбы</a:t>
            </a:r>
            <a:r>
              <a:rPr b="0" lang="kk-KZ" sz="2400" spc="-1" strike="noStrike">
                <a:solidFill>
                  <a:srgbClr val="ff33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kk-KZ" sz="2400" spc="-1" strike="noStrike">
                <a:solidFill>
                  <a:srgbClr val="3333ff"/>
                </a:solidFill>
                <a:latin typeface="Times New Roman"/>
              </a:rPr>
              <a:t>Қосымшаларға графиктік  объектілер  кірістіру, анимация әсерін ұйымдастыру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</a:rPr>
              <a:t>10 –</a:t>
            </a:r>
            <a:r>
              <a:rPr b="0" lang="kk-KZ" sz="28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kk-KZ" sz="2800" spc="-1" strike="noStrike">
                <a:solidFill>
                  <a:srgbClr val="3333ff"/>
                </a:solidFill>
                <a:latin typeface="Times New Roman"/>
              </a:rPr>
              <a:t>сыны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3333ff"/>
                </a:solidFill>
                <a:latin typeface="Times New Roman"/>
              </a:rPr>
              <a:t>Мұғалімі: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k-KZ" sz="2400" spc="-1" strike="noStrike">
                <a:solidFill>
                  <a:srgbClr val="ff3300"/>
                </a:solidFill>
                <a:latin typeface="Times New Roman"/>
              </a:rPr>
              <a:t>Омарбекова Салтанат Күнтуғанқы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9999"/>
                </a:solidFill>
                <a:latin typeface="Times New Roman"/>
              </a:rPr>
              <a:t>Қызылорда қала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j0238267"/>
          <p:cNvPicPr/>
          <p:nvPr/>
        </p:nvPicPr>
        <p:blipFill>
          <a:blip r:embed="rId1"/>
          <a:stretch/>
        </p:blipFill>
        <p:spPr>
          <a:xfrm>
            <a:off x="3419640" y="836640"/>
            <a:ext cx="2382840" cy="1511280"/>
          </a:xfrm>
          <a:prstGeom prst="rect">
            <a:avLst/>
          </a:prstGeom>
          <a:ln w="0">
            <a:noFill/>
          </a:ln>
        </p:spPr>
      </p:pic>
      <p:pic>
        <p:nvPicPr>
          <p:cNvPr id="43" name="МАХАББАТ  БЕКЕТИ..mp3" descr=""/>
          <p:cNvPicPr/>
          <p:nvPr/>
        </p:nvPicPr>
        <p:blipFill>
          <a:blip r:embed="rId2"/>
          <a:stretch/>
        </p:blipFill>
        <p:spPr>
          <a:xfrm>
            <a:off x="8317080" y="404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8" descr="J0099171"/>
          <p:cNvPicPr/>
          <p:nvPr/>
        </p:nvPicPr>
        <p:blipFill>
          <a:blip r:embed="rId3"/>
          <a:stretch/>
        </p:blipFill>
        <p:spPr>
          <a:xfrm>
            <a:off x="272880" y="0"/>
            <a:ext cx="4392720" cy="409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9" descr="J0099171"/>
          <p:cNvPicPr/>
          <p:nvPr/>
        </p:nvPicPr>
        <p:blipFill>
          <a:blip r:embed="rId4"/>
          <a:stretch/>
        </p:blipFill>
        <p:spPr>
          <a:xfrm>
            <a:off x="4572000" y="0"/>
            <a:ext cx="4392720" cy="409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0" descr="J0099171"/>
          <p:cNvPicPr/>
          <p:nvPr/>
        </p:nvPicPr>
        <p:blipFill>
          <a:blip r:embed="rId5"/>
          <a:stretch/>
        </p:blipFill>
        <p:spPr>
          <a:xfrm rot="16200000">
            <a:off x="-1991160" y="1991520"/>
            <a:ext cx="4392720" cy="409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1" descr="J0099171"/>
          <p:cNvPicPr/>
          <p:nvPr/>
        </p:nvPicPr>
        <p:blipFill>
          <a:blip r:embed="rId6"/>
          <a:stretch/>
        </p:blipFill>
        <p:spPr>
          <a:xfrm rot="16200000">
            <a:off x="-1077480" y="5370480"/>
            <a:ext cx="2565360" cy="409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2" descr="J0099171"/>
          <p:cNvPicPr/>
          <p:nvPr/>
        </p:nvPicPr>
        <p:blipFill>
          <a:blip r:embed="rId7"/>
          <a:stretch/>
        </p:blipFill>
        <p:spPr>
          <a:xfrm>
            <a:off x="395280" y="6448320"/>
            <a:ext cx="4392720" cy="409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3" descr="J0099171"/>
          <p:cNvPicPr/>
          <p:nvPr/>
        </p:nvPicPr>
        <p:blipFill>
          <a:blip r:embed="rId8"/>
          <a:stretch/>
        </p:blipFill>
        <p:spPr>
          <a:xfrm>
            <a:off x="4751280" y="6448320"/>
            <a:ext cx="4392720" cy="409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4" descr="J0099171"/>
          <p:cNvPicPr/>
          <p:nvPr/>
        </p:nvPicPr>
        <p:blipFill>
          <a:blip r:embed="rId9"/>
          <a:stretch/>
        </p:blipFill>
        <p:spPr>
          <a:xfrm rot="16200000">
            <a:off x="6742800" y="1991520"/>
            <a:ext cx="4392720" cy="409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5" descr="J0099171"/>
          <p:cNvPicPr/>
          <p:nvPr/>
        </p:nvPicPr>
        <p:blipFill>
          <a:blip r:embed="rId10"/>
          <a:stretch/>
        </p:blipFill>
        <p:spPr>
          <a:xfrm rot="16200000">
            <a:off x="7656480" y="5370480"/>
            <a:ext cx="256536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800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800"/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77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770" fill="hold"/>
                                        <p:tgtEl>
                                          <p:spTgt spid="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Кубик ла</a:t>
            </a:r>
            <a:r>
              <a:rPr b="1" i="1" lang="kk-KZ" sz="4400" spc="-1" strike="noStrike">
                <a:solidFill>
                  <a:srgbClr val="000000"/>
                </a:solidFill>
                <a:latin typeface="Arial"/>
              </a:rPr>
              <a:t>қты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016360" cy="17222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411280" y="189000"/>
            <a:ext cx="4105440" cy="360360"/>
          </a:xfrm>
          <a:custGeom>
            <a:avLst/>
            <a:gdLst>
              <a:gd name="textAreaLeft" fmla="*/ 1026360 w 4105440"/>
              <a:gd name="textAreaRight" fmla="*/ 3079080 w 4105440"/>
              <a:gd name="textAreaTop" fmla="*/ 1044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2340000" y="1844640"/>
            <a:ext cx="4392720" cy="36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mph" presetID="32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64" dur="1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65" dur="1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6" dur="1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6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66ff"/>
                </a:solidFill>
                <a:latin typeface="Arial"/>
              </a:rPr>
              <a:t>Кубик ла</a:t>
            </a:r>
            <a:r>
              <a:rPr b="1" i="1" lang="kk-KZ" sz="4400" spc="-1" strike="noStrike">
                <a:solidFill>
                  <a:srgbClr val="6666ff"/>
                </a:solidFill>
                <a:latin typeface="Arial"/>
              </a:rPr>
              <a:t>қты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411280" y="2133720"/>
            <a:ext cx="4537080" cy="4005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659640" y="18900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2016360" cy="17222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79280" y="227664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9640" y="522936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9280" y="328464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4221000"/>
            <a:ext cx="57600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172360" y="198900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172360" y="306864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956720" y="4076640"/>
            <a:ext cx="57600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740720" y="522936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87280" y="602136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020000" y="602136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0" y="659772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411280" y="189000"/>
            <a:ext cx="4105440" cy="360360"/>
          </a:xfrm>
          <a:custGeom>
            <a:avLst/>
            <a:gdLst>
              <a:gd name="textAreaLeft" fmla="*/ 1026360 w 4105440"/>
              <a:gd name="textAreaRight" fmla="*/ 3079080 w 4105440"/>
              <a:gd name="textAreaTop" fmla="*/ 1044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7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Кубик ла</a:t>
            </a:r>
            <a:r>
              <a:rPr b="1" i="1" lang="kk-KZ" sz="4400" spc="-1" strike="noStrike">
                <a:solidFill>
                  <a:srgbClr val="000000"/>
                </a:solidFill>
                <a:latin typeface="Arial"/>
              </a:rPr>
              <a:t>қты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016360" cy="17222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411280" y="189000"/>
            <a:ext cx="4105440" cy="360360"/>
          </a:xfrm>
          <a:custGeom>
            <a:avLst/>
            <a:gdLst>
              <a:gd name="textAreaLeft" fmla="*/ 1026360 w 4105440"/>
              <a:gd name="textAreaRight" fmla="*/ 3079080 w 4105440"/>
              <a:gd name="textAreaTop" fmla="*/ 1044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2268360" y="1700280"/>
            <a:ext cx="4319640" cy="35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mph" presetID="32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83" dur="1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84" dur="1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85" dur="1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8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8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66ff"/>
                </a:solidFill>
                <a:latin typeface="Arial"/>
              </a:rPr>
              <a:t>Кубик ла</a:t>
            </a:r>
            <a:r>
              <a:rPr b="1" i="1" lang="kk-KZ" sz="4400" spc="-1" strike="noStrike">
                <a:solidFill>
                  <a:srgbClr val="6666ff"/>
                </a:solidFill>
                <a:latin typeface="Arial"/>
              </a:rPr>
              <a:t>қты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411280" y="2133720"/>
            <a:ext cx="4537080" cy="4005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6659640" y="18900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2016360" cy="17222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79280" y="227664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522936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79280" y="328464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4000" y="4221000"/>
            <a:ext cx="57600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172360" y="198900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172360" y="306864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956720" y="4076640"/>
            <a:ext cx="57600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740720" y="522936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87280" y="602136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020000" y="602136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0" y="659772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411280" y="189000"/>
            <a:ext cx="4105440" cy="360360"/>
          </a:xfrm>
          <a:custGeom>
            <a:avLst/>
            <a:gdLst>
              <a:gd name="textAreaLeft" fmla="*/ 1026360 w 4105440"/>
              <a:gd name="textAreaRight" fmla="*/ 3079080 w 4105440"/>
              <a:gd name="textAreaTop" fmla="*/ 1044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9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Кубик ла</a:t>
            </a:r>
            <a:r>
              <a:rPr b="1" i="1" lang="kk-KZ" sz="4400" spc="-1" strike="noStrike">
                <a:solidFill>
                  <a:srgbClr val="000000"/>
                </a:solidFill>
                <a:latin typeface="Arial"/>
              </a:rPr>
              <a:t>қты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016360" cy="17222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411280" y="189000"/>
            <a:ext cx="4105440" cy="360360"/>
          </a:xfrm>
          <a:custGeom>
            <a:avLst/>
            <a:gdLst>
              <a:gd name="textAreaLeft" fmla="*/ 1026360 w 4105440"/>
              <a:gd name="textAreaRight" fmla="*/ 3079080 w 4105440"/>
              <a:gd name="textAreaTop" fmla="*/ 1044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2556000" y="1760400"/>
            <a:ext cx="4032000" cy="33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mph" presetID="32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02" dur="1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03" dur="1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04" dur="1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0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0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66ff"/>
                </a:solidFill>
                <a:latin typeface="Arial"/>
              </a:rPr>
              <a:t>Кубик ла</a:t>
            </a:r>
            <a:r>
              <a:rPr b="1" i="1" lang="kk-KZ" sz="4400" spc="-1" strike="noStrike">
                <a:solidFill>
                  <a:srgbClr val="6666ff"/>
                </a:solidFill>
                <a:latin typeface="Arial"/>
              </a:rPr>
              <a:t>қты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411280" y="2133720"/>
            <a:ext cx="4537080" cy="4005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6659640" y="18900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2016360" cy="17222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79280" y="227664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9640" y="522936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9280" y="328464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4000" y="4221000"/>
            <a:ext cx="57600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172360" y="198900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172360" y="306864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956720" y="4076640"/>
            <a:ext cx="57600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740720" y="522936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87280" y="602136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020000" y="602136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0" y="659772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2411280" y="189000"/>
            <a:ext cx="4105440" cy="360360"/>
          </a:xfrm>
          <a:custGeom>
            <a:avLst/>
            <a:gdLst>
              <a:gd name="textAreaLeft" fmla="*/ 1026360 w 4105440"/>
              <a:gd name="textAreaRight" fmla="*/ 3079080 w 4105440"/>
              <a:gd name="textAreaTop" fmla="*/ 1044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31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Кубик ла</a:t>
            </a:r>
            <a:r>
              <a:rPr b="1" i="1" lang="kk-KZ" sz="4400" spc="-1" strike="noStrike">
                <a:solidFill>
                  <a:srgbClr val="000000"/>
                </a:solidFill>
                <a:latin typeface="Arial"/>
              </a:rPr>
              <a:t>қты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016360" cy="17222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2411280" y="189000"/>
            <a:ext cx="4105440" cy="360360"/>
          </a:xfrm>
          <a:custGeom>
            <a:avLst/>
            <a:gdLst>
              <a:gd name="textAreaLeft" fmla="*/ 1026360 w 4105440"/>
              <a:gd name="textAreaRight" fmla="*/ 3079080 w 4105440"/>
              <a:gd name="textAreaTop" fmla="*/ 1044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2268360" y="1700280"/>
            <a:ext cx="431964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mph" presetID="32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21" dur="1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22" dur="1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23" dur="1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2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2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ccff66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Arial"/>
              </a:rPr>
              <a:t>3.  Сөзжұмбақ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268360" y="1413000"/>
          <a:ext cx="4969080" cy="3744720"/>
        </p:xfrm>
        <a:graphic>
          <a:graphicData uri="http://schemas.openxmlformats.org/drawingml/2006/table">
            <a:tbl>
              <a:tblPr/>
              <a:tblGrid>
                <a:gridCol w="552600"/>
                <a:gridCol w="550800"/>
                <a:gridCol w="552600"/>
                <a:gridCol w="554040"/>
                <a:gridCol w="549360"/>
                <a:gridCol w="554040"/>
                <a:gridCol w="552240"/>
                <a:gridCol w="550800"/>
                <a:gridCol w="552600"/>
              </a:tblGrid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5280" y="537372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  Basic  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ортасында  әр  түрлі құралдарда,  формалар,  модульдер т.б. экранға  шығара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ccff6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Arial"/>
              </a:rPr>
              <a:t>3.  Сөзжұмбақ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268360" y="1413000"/>
          <a:ext cx="4969080" cy="3744720"/>
        </p:xfrm>
        <a:graphic>
          <a:graphicData uri="http://schemas.openxmlformats.org/drawingml/2006/table">
            <a:tbl>
              <a:tblPr/>
              <a:tblGrid>
                <a:gridCol w="552600"/>
                <a:gridCol w="550800"/>
                <a:gridCol w="552600"/>
                <a:gridCol w="554040"/>
                <a:gridCol w="549360"/>
                <a:gridCol w="554040"/>
                <a:gridCol w="552240"/>
                <a:gridCol w="550800"/>
                <a:gridCol w="552600"/>
              </a:tblGrid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468360" y="5373720"/>
            <a:ext cx="82296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536040" indent="-53604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2. Формаға  уақыт-өлшеуіш шығаратын компон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ccff6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Arial"/>
              </a:rPr>
              <a:t>3.  Сөзжұмбақ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2268360" y="1413000"/>
          <a:ext cx="4969080" cy="3744720"/>
        </p:xfrm>
        <a:graphic>
          <a:graphicData uri="http://schemas.openxmlformats.org/drawingml/2006/table">
            <a:tbl>
              <a:tblPr/>
              <a:tblGrid>
                <a:gridCol w="552600"/>
                <a:gridCol w="550800"/>
                <a:gridCol w="552600"/>
                <a:gridCol w="554040"/>
                <a:gridCol w="549360"/>
                <a:gridCol w="554040"/>
                <a:gridCol w="552240"/>
                <a:gridCol w="550800"/>
                <a:gridCol w="552600"/>
              </a:tblGrid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611280" y="5273640"/>
            <a:ext cx="82296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3. Формаға  әр түрлі  геометриялық  фигуралар  шығаратын  компон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ccff6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Arial"/>
              </a:rPr>
              <a:t>3.  Сөзжұмбақ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2268360" y="1413000"/>
          <a:ext cx="4969080" cy="3744720"/>
        </p:xfrm>
        <a:graphic>
          <a:graphicData uri="http://schemas.openxmlformats.org/drawingml/2006/table">
            <a:tbl>
              <a:tblPr/>
              <a:tblGrid>
                <a:gridCol w="552600"/>
                <a:gridCol w="550800"/>
                <a:gridCol w="552600"/>
                <a:gridCol w="554040"/>
                <a:gridCol w="549360"/>
                <a:gridCol w="554040"/>
                <a:gridCol w="552240"/>
                <a:gridCol w="550800"/>
                <a:gridCol w="552600"/>
              </a:tblGrid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410920" y="5589360"/>
            <a:ext cx="352908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4.Енгізу  қораб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ccff6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Arial"/>
              </a:rPr>
              <a:t>3.  Сөзжұмбақ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2268360" y="1413000"/>
          <a:ext cx="4969080" cy="3744720"/>
        </p:xfrm>
        <a:graphic>
          <a:graphicData uri="http://schemas.openxmlformats.org/drawingml/2006/table">
            <a:tbl>
              <a:tblPr/>
              <a:tblGrid>
                <a:gridCol w="552600"/>
                <a:gridCol w="550800"/>
                <a:gridCol w="552600"/>
                <a:gridCol w="554040"/>
                <a:gridCol w="549360"/>
                <a:gridCol w="554040"/>
                <a:gridCol w="552240"/>
                <a:gridCol w="550800"/>
                <a:gridCol w="552600"/>
              </a:tblGrid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692360" y="5373360"/>
            <a:ext cx="6408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5. Ішіне  басқа  компоненттерді  орналастыра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ccff6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Arial"/>
              </a:rPr>
              <a:t>3.  Сөзжұмбақ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268360" y="1413000"/>
          <a:ext cx="4969080" cy="3744720"/>
        </p:xfrm>
        <a:graphic>
          <a:graphicData uri="http://schemas.openxmlformats.org/drawingml/2006/table">
            <a:tbl>
              <a:tblPr/>
              <a:tblGrid>
                <a:gridCol w="552600"/>
                <a:gridCol w="550800"/>
                <a:gridCol w="552600"/>
                <a:gridCol w="554040"/>
                <a:gridCol w="549360"/>
                <a:gridCol w="554040"/>
                <a:gridCol w="552240"/>
                <a:gridCol w="550800"/>
                <a:gridCol w="552600"/>
              </a:tblGrid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9280" y="5516640"/>
            <a:ext cx="79311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6.  Текстік  және  сандық  шамаларды шығару  үшін  қолданылатын  компонен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ccff6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Arial"/>
              </a:rPr>
              <a:t>3.  Сөзжұмбақ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2268360" y="1413000"/>
          <a:ext cx="4969080" cy="3744720"/>
        </p:xfrm>
        <a:graphic>
          <a:graphicData uri="http://schemas.openxmlformats.org/drawingml/2006/table">
            <a:tbl>
              <a:tblPr/>
              <a:tblGrid>
                <a:gridCol w="552600"/>
                <a:gridCol w="550800"/>
                <a:gridCol w="552600"/>
                <a:gridCol w="554040"/>
                <a:gridCol w="549360"/>
                <a:gridCol w="554040"/>
                <a:gridCol w="552240"/>
                <a:gridCol w="550800"/>
                <a:gridCol w="552600"/>
              </a:tblGrid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ff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Жаңа  саба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Қосымшаларға графиктік  объектілер  кірістіру, анимация әсерін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ұйымдастыру  тақырыбына  түсініктеме  бе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Visual  Basic </a:t>
            </a:r>
            <a:r>
              <a:rPr b="0" lang="kk-KZ" sz="2000" spc="-1" strike="noStrike">
                <a:solidFill>
                  <a:srgbClr val="3333ff"/>
                </a:solidFill>
                <a:latin typeface="Times New Roman"/>
              </a:rPr>
              <a:t>проектілеріне  графиктік  объектілерді  графиктік операторларын  пайдаланып программалау  немесе  компоненттер  панеліндегі  граиктік  компоненттерді  қолдану  арқылы  шығаруға  бола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операторы  түзу  және тіктөртбұрыштар  шығару  үшін  қолданылады, жазылу  форма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Line (X1, Y1)- (X2, Y2),C,[B,BF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Мұндағы: Х1,У1,Х2,У2 – түзудің  төбелерінің координатала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С – сызық түс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В – тік төртбұрыш шығару  к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F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– боялған  тік төртбұрыш  шығару к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100000">
              <a:srgbClr val="cc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Ps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операторы  нүкте  шығару үшін қолданылады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0" lang="kk-KZ" sz="2800" spc="-1" strike="noStrike">
                <a:solidFill>
                  <a:srgbClr val="3333ff"/>
                </a:solidFill>
                <a:latin typeface="Arial"/>
              </a:rPr>
              <a:t>жазылу  форматы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Pset (X,Y),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Мұндағ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Х,У-нүктенің  координатала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С – сызық түс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DrawWidth</a:t>
            </a:r>
            <a:r>
              <a:rPr b="1" lang="kk-KZ" sz="2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функциясы сызықтың  қалыңдығын орнату  үшін қолданылады,  </a:t>
            </a:r>
            <a:r>
              <a:rPr b="0" lang="kk-KZ" sz="2800" spc="-1" strike="noStrike">
                <a:solidFill>
                  <a:srgbClr val="3333ff"/>
                </a:solidFill>
                <a:latin typeface="Arial"/>
              </a:rPr>
              <a:t>жазылу форма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DrawWidth =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Мұндағы: а –сызықтың  қалыңдығ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0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0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0" fill="hold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0" fill="hold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Circle  </a:t>
            </a:r>
            <a:r>
              <a:rPr b="1" lang="kk-KZ" sz="2800" spc="-1" strike="noStrike">
                <a:solidFill>
                  <a:srgbClr val="000000"/>
                </a:solidFill>
                <a:latin typeface="Arial"/>
              </a:rPr>
              <a:t>операторы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 шеңбер  және  доға  шығару  үшін  қолданылады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жазылу  форма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Circle</a:t>
            </a:r>
            <a:r>
              <a:rPr b="1" lang="kk-KZ" sz="2800" spc="-1" strike="noStrike">
                <a:solidFill>
                  <a:srgbClr val="ff0066"/>
                </a:solidFill>
                <a:latin typeface="Arial"/>
              </a:rPr>
              <a:t>(Х,У),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R,C[a,b,c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Мұндағ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Х,У-шеңбердің  центрінің  координатала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-шеңбердің радиу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-сызық  түс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-доға шығаруда қолданылатын параметрл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с-элипс шығаруда қолданылатын параметрл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77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0" dur="77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2" dur="77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4" dur="77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77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9" dur="77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1" dur="77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3" dur="77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77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8" dur="77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0" dur="77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2" dur="77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77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7" dur="77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9" dur="77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1" dur="77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77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6" dur="77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8" dur="77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0" dur="77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77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5" dur="77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7" dur="77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9" dur="77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77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4" dur="77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6" dur="77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8" dur="77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770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3" dur="770" fill="hold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5" dur="770" fill="hold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7" dur="770" fill="hold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770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2" dur="770" fill="hold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4" dur="770" fill="hold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6" dur="770" fill="hold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129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Жаңадан  өтілген тақырыпқа  байланысты  жаттығулар  орында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2133720"/>
            <a:ext cx="7704360" cy="2449440"/>
          </a:xfrm>
          <a:prstGeom prst="rect">
            <a:avLst/>
          </a:prstGeom>
          <a:gradFill rotWithShape="0">
            <a:gsLst>
              <a:gs pos="0">
                <a:srgbClr val="3333ff"/>
              </a:gs>
              <a:gs pos="50000">
                <a:srgbClr val="ffffff"/>
              </a:gs>
              <a:gs pos="100000">
                <a:srgbClr val="3333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Arial"/>
              </a:rPr>
              <a:t>27-жаттығ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Arial"/>
              </a:rPr>
              <a:t>Формаға  әртүрлі  фигурала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kk-KZ" sz="3200" spc="-1" strike="noStrike">
                <a:solidFill>
                  <a:srgbClr val="000000"/>
                </a:solidFill>
                <a:latin typeface="Arial"/>
              </a:rPr>
              <a:t>шығаратын  қосымша  жасау</a:t>
            </a:r>
            <a:r>
              <a:rPr b="0" lang="kk-KZ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95280" y="620640"/>
            <a:ext cx="8209080" cy="4032360"/>
          </a:xfrm>
          <a:prstGeom prst="rect">
            <a:avLst/>
          </a:prstGeom>
          <a:gradFill rotWithShape="0">
            <a:gsLst>
              <a:gs pos="0">
                <a:srgbClr val="3333ff"/>
              </a:gs>
              <a:gs pos="50000">
                <a:srgbClr val="ffffff"/>
              </a:gs>
              <a:gs pos="100000">
                <a:srgbClr val="3333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0066"/>
                </a:solidFill>
                <a:latin typeface="Arial"/>
              </a:rPr>
              <a:t>28-жаттығу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kk-KZ" sz="4000" spc="-1" strike="noStrike">
                <a:solidFill>
                  <a:srgbClr val="ff0066"/>
                </a:solidFill>
                <a:latin typeface="Arial"/>
              </a:rPr>
              <a:t>8-март  мейрамына  байланыст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kk-KZ" sz="4000" spc="-1" strike="noStrike">
                <a:solidFill>
                  <a:srgbClr val="ff0066"/>
                </a:solidFill>
                <a:latin typeface="Arial"/>
              </a:rPr>
              <a:t>құттықтау  анимациялық  көрініс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5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11280" y="1413000"/>
            <a:ext cx="8208720" cy="4032000"/>
          </a:xfrm>
          <a:prstGeom prst="rect">
            <a:avLst/>
          </a:prstGeom>
          <a:gradFill rotWithShape="0">
            <a:gsLst>
              <a:gs pos="0">
                <a:srgbClr val="3333ff"/>
              </a:gs>
              <a:gs pos="50000">
                <a:srgbClr val="ffffff"/>
              </a:gs>
              <a:gs pos="100000">
                <a:srgbClr val="3333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Arial"/>
              </a:rPr>
              <a:t>Қорытын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Arial"/>
              </a:rPr>
              <a:t>Білімдеріне  қарай  бірнеш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Arial"/>
              </a:rPr>
              <a:t>оқушыларды  марапттау, бағала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2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8218440" cy="60487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Сабақтың  тақырыбы: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Қосымшаларға графиктік  объектілер  кірістіру, анимация әсерін ұйымдасты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Сабақтың  мақсаты: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Оқушыларды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Visual  Basic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ортас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тақырыбы  бойынша  алған  білімдерін  нығайту,  тиянақтау,  бір  жүйеге келтіре  отырып,  теориялық  білімін  практикада  ұштасты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А)  Білімділігі: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Оқушыларға  Қосымшаларға графиктік  объектілер  мен анимация әсеріне  түсінік  беру.  Бірнеше  мүмкіндіктерімен  таныстыра  отырып,  шығармашылыққа баул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Ә)  Тәрбиелігі: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Оқушыларды  адалдыққа,  дүниетанымдыққа,  жауапкершілікке,  жүйелікке,  ауызбіршілікке  мықты  және  әдептілікке  тәрбиеле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Б)  Дамытушылығы: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Оқушылардың  пәнге  деген  қызығушылығын  арттыру,  ой-өрісін  дамыту,  өз  бетінше  жұмыс  істей  алу  қабілетін  көтеру,  тапқырлыққа,  ізденімпаздылыққа,  шығармашылыққа  баул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Сабақтың міндеті: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Оқушыларға  компьютер  алдында  еркін,  өз  бетінше  жұмыс  істеуді  қалыптасты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Сабақтың  түрі: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Аралас  саба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11" descr="peace_dove_olive_branch_hg_wht"/>
          <p:cNvPicPr/>
          <p:nvPr/>
        </p:nvPicPr>
        <p:blipFill>
          <a:blip r:embed="rId1"/>
          <a:stretch/>
        </p:blipFill>
        <p:spPr>
          <a:xfrm>
            <a:off x="-500040" y="3714840"/>
            <a:ext cx="3467160" cy="24764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9" descr="peace_dove_olive_branch_hg_wht"/>
          <p:cNvPicPr/>
          <p:nvPr/>
        </p:nvPicPr>
        <p:blipFill>
          <a:blip r:embed="rId2"/>
          <a:stretch/>
        </p:blipFill>
        <p:spPr>
          <a:xfrm>
            <a:off x="4143240" y="357120"/>
            <a:ext cx="3467160" cy="24764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9" descr="peace_dove_olive_branch_hg_wht"/>
          <p:cNvPicPr/>
          <p:nvPr/>
        </p:nvPicPr>
        <p:blipFill>
          <a:blip r:embed="rId3"/>
          <a:stretch/>
        </p:blipFill>
        <p:spPr>
          <a:xfrm>
            <a:off x="6072120" y="2857680"/>
            <a:ext cx="3467160" cy="24764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9" descr="peace_dove_olive_branch_hg_wht"/>
          <p:cNvPicPr/>
          <p:nvPr/>
        </p:nvPicPr>
        <p:blipFill>
          <a:blip r:embed="rId4"/>
          <a:stretch/>
        </p:blipFill>
        <p:spPr>
          <a:xfrm>
            <a:off x="428760" y="357120"/>
            <a:ext cx="3466800" cy="24764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peace_dove_olive_branch_hg_wht"/>
          <p:cNvPicPr/>
          <p:nvPr/>
        </p:nvPicPr>
        <p:blipFill>
          <a:blip r:embed="rId5"/>
          <a:stretch/>
        </p:blipFill>
        <p:spPr>
          <a:xfrm>
            <a:off x="2428920" y="2286000"/>
            <a:ext cx="3467160" cy="2476440"/>
          </a:xfrm>
          <a:prstGeom prst="rect">
            <a:avLst/>
          </a:prstGeom>
          <a:ln w="0">
            <a:noFill/>
          </a:ln>
        </p:spPr>
      </p:pic>
      <p:sp>
        <p:nvSpPr>
          <p:cNvPr id="212" name="WordArt 8"/>
          <p:cNvSpPr txBox="1"/>
          <p:nvPr/>
        </p:nvSpPr>
        <p:spPr>
          <a:xfrm>
            <a:off x="611280" y="2133720"/>
            <a:ext cx="2520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Назар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3" name="WordArt 9"/>
          <p:cNvSpPr txBox="1"/>
          <p:nvPr/>
        </p:nvSpPr>
        <p:spPr>
          <a:xfrm rot="1767600">
            <a:off x="3174480" y="1821960"/>
            <a:ext cx="470232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183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аударғандарыңызға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183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4" name="WordArt 10"/>
          <p:cNvSpPr txBox="1"/>
          <p:nvPr/>
        </p:nvSpPr>
        <p:spPr>
          <a:xfrm>
            <a:off x="2700360" y="4581360"/>
            <a:ext cx="3384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р а қ м е т !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8218440" cy="5905440"/>
          </a:xfrm>
          <a:prstGeom prst="rect">
            <a:avLst/>
          </a:prstGeom>
          <a:gradFill rotWithShape="0">
            <a:gsLst>
              <a:gs pos="0">
                <a:srgbClr val="3333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ccff66"/>
                </a:solidFill>
                <a:latin typeface="Times New Roman"/>
              </a:rPr>
              <a:t>Сабақтың  көрнекілігі: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компьютер, сөзжұмбақ, тест  тапсырмалары, топтамалық сұрақта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ccff66"/>
                </a:solidFill>
                <a:latin typeface="Times New Roman"/>
              </a:rPr>
              <a:t>Сабақтың  барыс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kk-KZ" sz="2400" spc="-1" strike="noStrike">
                <a:solidFill>
                  <a:srgbClr val="ccff66"/>
                </a:solidFill>
                <a:latin typeface="Times New Roman"/>
              </a:rPr>
              <a:t>а)  Ұйымдастыру  кезең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Оқушыларды  түгелдеп,  сабаққа  назарларын  ауда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kk-KZ" sz="2400" spc="-1" strike="noStrike">
                <a:solidFill>
                  <a:srgbClr val="ccff66"/>
                </a:solidFill>
                <a:latin typeface="Times New Roman"/>
              </a:rPr>
              <a:t>ә)  Үй  тапсырмасын  сұра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1.  Кубик лақтыру (Сұрақ-жауап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2.  Тест  сұрақта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3.  Сөзжұмба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kk-KZ" sz="2400" spc="-1" strike="noStrike">
                <a:solidFill>
                  <a:srgbClr val="ff0066"/>
                </a:solidFill>
                <a:latin typeface="Times New Roman"/>
              </a:rPr>
              <a:t>б)  Жаңа  саба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1. Қосымшаларға графиктік  объектілер  кірістіру, анимация әсерін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ұйымдастыру  тақырыбына  түсініктеме  бе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kk-KZ" sz="1600" spc="-1" strike="noStrike">
                <a:solidFill>
                  <a:srgbClr val="000000"/>
                </a:solidFill>
                <a:latin typeface="Times New Roman"/>
              </a:rPr>
              <a:t>(компьютерден  осы  тақырып  бойынша  және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“Visual  Basic</a:t>
            </a:r>
            <a:r>
              <a:rPr b="0" lang="kk-KZ" sz="16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k-KZ" sz="1600" spc="-1" strike="noStrike">
                <a:solidFill>
                  <a:srgbClr val="000000"/>
                </a:solidFill>
                <a:latin typeface="Times New Roman"/>
              </a:rPr>
              <a:t>тақырыбы  бойынша  презентациялық  көрініс  көру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2.  жаттығу  орында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в)  Қорытын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4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9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4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9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4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9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4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9" dur="5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4" dur="50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9" dur="500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4" dur="500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9" dur="500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4" dur="500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66ff"/>
                </a:solidFill>
                <a:latin typeface="Arial"/>
              </a:rPr>
              <a:t>Кубик ла</a:t>
            </a:r>
            <a:r>
              <a:rPr b="1" i="1" lang="kk-KZ" sz="4400" spc="-1" strike="noStrike">
                <a:solidFill>
                  <a:srgbClr val="6666ff"/>
                </a:solidFill>
                <a:latin typeface="Arial"/>
              </a:rPr>
              <a:t>қты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411280" y="2133720"/>
            <a:ext cx="4537080" cy="4005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659640" y="18900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2016360" cy="17222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79280" y="227664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522936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9280" y="328464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4221000"/>
            <a:ext cx="57600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172360" y="198900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172360" y="306864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956720" y="4076640"/>
            <a:ext cx="57600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740720" y="522936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87280" y="602136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0000" y="602136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0" y="659772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411280" y="189000"/>
            <a:ext cx="4105440" cy="360360"/>
          </a:xfrm>
          <a:custGeom>
            <a:avLst/>
            <a:gdLst>
              <a:gd name="textAreaLeft" fmla="*/ 1026360 w 4105440"/>
              <a:gd name="textAreaRight" fmla="*/ 3079080 w 4105440"/>
              <a:gd name="textAreaTop" fmla="*/ 1044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2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411280" y="1628640"/>
            <a:ext cx="4105440" cy="33991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Кубик ла</a:t>
            </a:r>
            <a:r>
              <a:rPr b="1" i="1" lang="kk-KZ" sz="4400" spc="-1" strike="noStrike">
                <a:solidFill>
                  <a:srgbClr val="000000"/>
                </a:solidFill>
                <a:latin typeface="Arial"/>
              </a:rPr>
              <a:t>қты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659640" y="18900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2016360" cy="17222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411280" y="189000"/>
            <a:ext cx="4105440" cy="360360"/>
          </a:xfrm>
          <a:custGeom>
            <a:avLst/>
            <a:gdLst>
              <a:gd name="textAreaLeft" fmla="*/ 1026360 w 4105440"/>
              <a:gd name="textAreaRight" fmla="*/ 3079080 w 4105440"/>
              <a:gd name="textAreaTop" fmla="*/ 1044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mph" presetID="32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26" dur="1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27" dur="1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28" dur="1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66ff"/>
                </a:solidFill>
                <a:latin typeface="Arial"/>
              </a:rPr>
              <a:t>Кубик ла</a:t>
            </a:r>
            <a:r>
              <a:rPr b="1" i="1" lang="kk-KZ" sz="4400" spc="-1" strike="noStrike">
                <a:solidFill>
                  <a:srgbClr val="6666ff"/>
                </a:solidFill>
                <a:latin typeface="Arial"/>
              </a:rPr>
              <a:t>қты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411280" y="2133720"/>
            <a:ext cx="4537080" cy="4005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6659640" y="18900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2016360" cy="17222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79280" y="227664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9640" y="522936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9280" y="328464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4221000"/>
            <a:ext cx="57600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172360" y="198900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172360" y="306864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956720" y="4076640"/>
            <a:ext cx="57600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522936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87280" y="602136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020000" y="602136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0" y="659772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411280" y="189000"/>
            <a:ext cx="4105440" cy="360360"/>
          </a:xfrm>
          <a:custGeom>
            <a:avLst/>
            <a:gdLst>
              <a:gd name="textAreaLeft" fmla="*/ 1026360 w 4105440"/>
              <a:gd name="textAreaRight" fmla="*/ 3079080 w 4105440"/>
              <a:gd name="textAreaTop" fmla="*/ 1044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3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Кубик ла</a:t>
            </a:r>
            <a:r>
              <a:rPr b="1" i="1" lang="kk-KZ" sz="4400" spc="-1" strike="noStrike">
                <a:solidFill>
                  <a:srgbClr val="000000"/>
                </a:solidFill>
                <a:latin typeface="Arial"/>
              </a:rPr>
              <a:t>қты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016360" cy="17222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411280" y="189000"/>
            <a:ext cx="4105440" cy="360360"/>
          </a:xfrm>
          <a:custGeom>
            <a:avLst/>
            <a:gdLst>
              <a:gd name="textAreaLeft" fmla="*/ 1026360 w 4105440"/>
              <a:gd name="textAreaRight" fmla="*/ 3079080 w 4105440"/>
              <a:gd name="textAreaTop" fmla="*/ 1044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2484360" y="1700280"/>
            <a:ext cx="417528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mph" presetID="32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45" dur="1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46" dur="1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7" dur="1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5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66ff"/>
                </a:solidFill>
                <a:latin typeface="Arial"/>
              </a:rPr>
              <a:t>Кубик ла</a:t>
            </a:r>
            <a:r>
              <a:rPr b="1" i="1" lang="kk-KZ" sz="4400" spc="-1" strike="noStrike">
                <a:solidFill>
                  <a:srgbClr val="6666ff"/>
                </a:solidFill>
                <a:latin typeface="Arial"/>
              </a:rPr>
              <a:t>қты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411280" y="2133720"/>
            <a:ext cx="4537080" cy="4005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659640" y="18900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2016360" cy="17222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79280" y="227664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9640" y="522936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9280" y="328464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4221000"/>
            <a:ext cx="57600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72360" y="198900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172360" y="306864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956720" y="4076640"/>
            <a:ext cx="57600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740720" y="522936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87280" y="602136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20000" y="602136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0" y="659772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411280" y="189000"/>
            <a:ext cx="4105440" cy="360360"/>
          </a:xfrm>
          <a:custGeom>
            <a:avLst/>
            <a:gdLst>
              <a:gd name="textAreaLeft" fmla="*/ 1026360 w 4105440"/>
              <a:gd name="textAreaRight" fmla="*/ 3079080 w 4105440"/>
              <a:gd name="textAreaTop" fmla="*/ 1044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5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5T19:30:45Z</dcterms:created>
  <dc:creator>User</dc:creator>
  <dc:description/>
  <dc:language>en-US</dc:language>
  <cp:lastModifiedBy>Сауле</cp:lastModifiedBy>
  <dcterms:modified xsi:type="dcterms:W3CDTF">2011-06-07T15:41:51Z</dcterms:modified>
  <cp:revision>29</cp:revision>
  <dc:subject/>
  <dc:title>Слайд 1</dc:title>
</cp:coreProperties>
</file>