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24D4-F323-406B-8231-E39120AB7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42720" y="526464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684F-636D-4563-B230-854C44E3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35053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A89E-453E-4BD0-B965-2A9E216C0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4272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242964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451656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6F90-C00A-4C6F-8E53-1EE0B2A4A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B7D6A6-4382-464E-93A0-F20ABAAB4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BFA15-B0C9-48AB-81FA-7B449EEF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7BF69-A572-4098-AE66-80B85AF1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D347DF-FBCD-4AD2-BF46-40647266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527E6-1E2D-4641-8A58-90E3A475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42720" y="30456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7D355-1085-4560-B90F-8EDA0229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4033EB-72C5-41DE-ACA7-E166D964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7508-E463-4B52-831F-FDBDC8E7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5053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78369-3928-4C7E-BBBD-938C3AEE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C7F0E7-8D9B-40CC-8426-63E9F945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42720" y="526464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3E78A-72B8-4225-9F91-9E470010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35053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DBDBAD-853B-4194-A812-5B0535174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4272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242964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451656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5F05E-08EB-4E2B-A667-73764E0AB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BFA6-60CE-4275-B702-5F6565F3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499F-6063-4A3C-AE59-E86D0310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F266-5E07-4F44-B79B-F4835641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342720" y="30456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1107-2867-4A03-BB03-6B6E9A22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79E4-1D31-4D72-9FC6-CADA6AADB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5053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B8EB-46FA-4C16-924C-C1ECB527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D96E-61BD-4F14-A272-85AA3137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6858000" cy="9143640"/>
            <a:chOff x="0" y="0"/>
            <a:chExt cx="6858000" cy="9143640"/>
          </a:xfrm>
        </p:grpSpPr>
        <p:sp>
          <p:nvSpPr>
            <p:cNvPr id="1" name=""/>
            <p:cNvSpPr/>
            <p:nvPr/>
          </p:nvSpPr>
          <p:spPr>
            <a:xfrm>
              <a:off x="0" y="6502320"/>
              <a:ext cx="6858000" cy="26413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6858000" cy="65023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4686480" y="8350200"/>
            <a:ext cx="2171520" cy="8128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8026560"/>
            <a:ext cx="5886360" cy="1142280"/>
            <a:chOff x="0" y="8026560"/>
            <a:chExt cx="5886360" cy="1142280"/>
          </a:xfrm>
        </p:grpSpPr>
        <p:sp>
          <p:nvSpPr>
            <p:cNvPr id="5" name=""/>
            <p:cNvSpPr/>
            <p:nvPr/>
          </p:nvSpPr>
          <p:spPr>
            <a:xfrm>
              <a:off x="1771560" y="8026560"/>
              <a:ext cx="3857400" cy="113400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2959920" y="8026560"/>
              <a:ext cx="2926440" cy="1142280"/>
              <a:chOff x="2959920" y="8026560"/>
              <a:chExt cx="2926440" cy="1142280"/>
            </a:xfrm>
          </p:grpSpPr>
          <p:sp>
            <p:nvSpPr>
              <p:cNvPr id="7" name=""/>
              <p:cNvSpPr/>
              <p:nvPr/>
            </p:nvSpPr>
            <p:spPr>
              <a:xfrm>
                <a:off x="4700520" y="8041320"/>
                <a:ext cx="1185840" cy="112752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187080" y="8026560"/>
                <a:ext cx="221400" cy="83556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607200" y="8240040"/>
                <a:ext cx="450000" cy="57312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319280" y="8182800"/>
                <a:ext cx="184680" cy="15624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959920" y="8168040"/>
                <a:ext cx="49680" cy="17100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8026560"/>
              <a:ext cx="4733640" cy="113220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469800" y="8028000"/>
            <a:ext cx="4263840" cy="1133280"/>
            <a:chOff x="469800" y="8028000"/>
            <a:chExt cx="4263840" cy="1133280"/>
          </a:xfrm>
        </p:grpSpPr>
        <p:sp>
          <p:nvSpPr>
            <p:cNvPr id="14" name=""/>
            <p:cNvSpPr/>
            <p:nvPr/>
          </p:nvSpPr>
          <p:spPr>
            <a:xfrm>
              <a:off x="1423440" y="8028000"/>
              <a:ext cx="434520" cy="61632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313000" y="8104320"/>
              <a:ext cx="2420640" cy="105696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78360" y="8091360"/>
              <a:ext cx="84240" cy="1292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17360" y="8131680"/>
              <a:ext cx="191520" cy="34740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39880" y="8157240"/>
              <a:ext cx="70200" cy="1292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69800" y="8065800"/>
              <a:ext cx="291600" cy="4384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DE90-EA42-4A65-BA0A-B72FC4F8D3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4680" y="27000"/>
            <a:ext cx="6858000" cy="9143640"/>
            <a:chOff x="-4680" y="27000"/>
            <a:chExt cx="6858000" cy="9143640"/>
          </a:xfrm>
        </p:grpSpPr>
        <p:sp>
          <p:nvSpPr>
            <p:cNvPr id="62" name=""/>
            <p:cNvSpPr/>
            <p:nvPr/>
          </p:nvSpPr>
          <p:spPr>
            <a:xfrm>
              <a:off x="-4680" y="6529320"/>
              <a:ext cx="6858000" cy="26413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4680" y="27000"/>
              <a:ext cx="6858000" cy="65023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681440" y="8358120"/>
            <a:ext cx="2171880" cy="8128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8045280"/>
            <a:ext cx="5884200" cy="1134720"/>
            <a:chOff x="-1440" y="8045280"/>
            <a:chExt cx="5884200" cy="1134720"/>
          </a:xfrm>
        </p:grpSpPr>
        <p:sp>
          <p:nvSpPr>
            <p:cNvPr id="66" name=""/>
            <p:cNvSpPr/>
            <p:nvPr/>
          </p:nvSpPr>
          <p:spPr>
            <a:xfrm>
              <a:off x="1770120" y="8045280"/>
              <a:ext cx="3857760" cy="113472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958840" y="8045280"/>
              <a:ext cx="2923920" cy="1134360"/>
              <a:chOff x="2958840" y="8045280"/>
              <a:chExt cx="2923920" cy="1134360"/>
            </a:xfrm>
          </p:grpSpPr>
          <p:sp>
            <p:nvSpPr>
              <p:cNvPr id="68" name=""/>
              <p:cNvSpPr/>
              <p:nvPr/>
            </p:nvSpPr>
            <p:spPr>
              <a:xfrm>
                <a:off x="4699440" y="8060040"/>
                <a:ext cx="1183320" cy="111960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186000" y="8045280"/>
                <a:ext cx="221400" cy="83628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606120" y="8258760"/>
                <a:ext cx="450000" cy="57348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318200" y="8201520"/>
                <a:ext cx="184680" cy="15624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958840" y="8186760"/>
                <a:ext cx="49680" cy="17136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8045280"/>
              <a:ext cx="4734000" cy="113292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469800" y="8028000"/>
            <a:ext cx="4263840" cy="1133280"/>
            <a:chOff x="469800" y="8028000"/>
            <a:chExt cx="4263840" cy="1133280"/>
          </a:xfrm>
        </p:grpSpPr>
        <p:sp>
          <p:nvSpPr>
            <p:cNvPr id="75" name=""/>
            <p:cNvSpPr/>
            <p:nvPr/>
          </p:nvSpPr>
          <p:spPr>
            <a:xfrm>
              <a:off x="1423440" y="8028000"/>
              <a:ext cx="434520" cy="61632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13000" y="8104320"/>
              <a:ext cx="2420640" cy="105696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78360" y="8091360"/>
              <a:ext cx="84240" cy="1292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17360" y="8131680"/>
              <a:ext cx="191520" cy="34740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39880" y="8157240"/>
              <a:ext cx="70200" cy="1292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69800" y="8065800"/>
              <a:ext cx="291600" cy="4384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B32F-773D-45AB-A04F-81D21710BA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image" Target="../media/image2.jpeg"/><Relationship Id="rId23" Type="http://schemas.openxmlformats.org/officeDocument/2006/relationships/image" Target="../media/image2.jpeg"/><Relationship Id="rId24" Type="http://schemas.openxmlformats.org/officeDocument/2006/relationships/image" Target="../media/image2.jpeg"/><Relationship Id="rId25" Type="http://schemas.openxmlformats.org/officeDocument/2006/relationships/image" Target="../media/image2.jpeg"/><Relationship Id="rId26" Type="http://schemas.openxmlformats.org/officeDocument/2006/relationships/slide" Target="slide9.xml"/><Relationship Id="rId2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28600" y="152280"/>
            <a:ext cx="6019920" cy="769644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371600" y="1523880"/>
            <a:ext cx="428616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Қызықты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информати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743200" y="5486400"/>
            <a:ext cx="160020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айыс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546200" y="2362320"/>
            <a:ext cx="3772080" cy="27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қпаратты енгізуге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рналған қрылғ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8080" y="2286000"/>
            <a:ext cx="42372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ас әріппен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азу батырмас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274680" y="2514600"/>
            <a:ext cx="6315120" cy="25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қпараттық процестерді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үзеге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сыратын құрал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762120" y="1981080"/>
            <a:ext cx="5410080" cy="285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ЭЕМ-нің ең аз құрам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536400" y="2133720"/>
            <a:ext cx="5791320" cy="420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Ақпаратт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қағаздан компьютер бетін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шығаратын құрылғ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066680" y="2514600"/>
            <a:ext cx="4770720" cy="25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дам  менк омпьютердің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ра қашықтығы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қанша болуы керек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38080" y="2514600"/>
            <a:ext cx="5105520" cy="24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К тіл өзгерту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ернелер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мбинацияс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914400" y="2362320"/>
            <a:ext cx="5105520" cy="27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искета қандай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жадыға жатады?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38080" y="2590920"/>
            <a:ext cx="510552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ринтер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түрлерін а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e3e3ff"/>
                </a:solidFill>
                <a:latin typeface="Arial"/>
              </a:rPr>
              <a:t>“</a:t>
            </a:r>
            <a:r>
              <a:rPr b="0" lang="kk-KZ" sz="4400" spc="-1" strike="noStrike">
                <a:solidFill>
                  <a:srgbClr val="e3e3ff"/>
                </a:solidFill>
                <a:latin typeface="Arial"/>
              </a:rPr>
              <a:t>	</a:t>
            </a:r>
            <a:r>
              <a:rPr b="0" lang="kk-KZ" sz="4400" spc="-1" strike="noStrike">
                <a:solidFill>
                  <a:srgbClr val="e3e3ff"/>
                </a:solidFill>
                <a:latin typeface="Arial"/>
              </a:rPr>
              <a:t>Полиглот”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Мектеп-кеме,білім-...(теңіз,море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a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Өлімнен ұят... (күшті,сильный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trong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Денсаулық- зор...(байлық, богатств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richness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Ананың сүті-...(бал, мед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oney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Білім-сандығы...(кітап, книг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book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Жақсы ат- жанға...(серік, друг,спутник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riend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Әдепті бала-арлы...(бала, ребенок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hild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Тіл адам жанының...(тілмәші, переводчик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lator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Ашу дұшпан, ақыл-...(дос,друг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riend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9960" y="304920"/>
            <a:ext cx="622944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e3e3ff"/>
                </a:solidFill>
                <a:latin typeface="Arial"/>
              </a:rPr>
              <a:t>Мақсаты:</a:t>
            </a:r>
            <a:r>
              <a:rPr b="0" lang="kk-KZ" sz="2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e3e3ff"/>
                </a:solidFill>
                <a:latin typeface="Arial"/>
              </a:rPr>
              <a:t>Ойын арқылы оқушылардың информатика сабағына деген қызығушылығын арттыру.Шапшаңдыққа , терең ойлана білуге, бірігуге, сыйластыққа тәрбиелеу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7120" y="294624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ffffff"/>
                </a:solidFill>
                <a:latin typeface="Arial"/>
              </a:rPr>
              <a:t>Жоспа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Оқушыларды екі топқа бөліп, әділқазылар алқасын сайла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Үй тапсырмасын тексер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Бәйге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Тапқырлар” сайыс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ім жүйрік” (Капитандар сайыс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Теңіздегі  шабуы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Полигло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өрермендермен ойы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1920" y="-45756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e3e3ff"/>
                </a:solidFill>
                <a:latin typeface="Arial"/>
              </a:rPr>
              <a:t>Көрермендермен ойын</a:t>
            </a:r>
            <a:br>
              <a:rPr sz="3200"/>
            </a:br>
            <a:r>
              <a:rPr b="0" lang="kk-KZ" sz="3200" spc="-1" strike="noStrike">
                <a:solidFill>
                  <a:srgbClr val="e3e3ff"/>
                </a:solidFill>
                <a:latin typeface="Arial"/>
              </a:rPr>
              <a:t>Жұмбақтар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1.Бір сарайда тұрады екен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Бес атаның  балала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Қыдырмашы біреуі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Бір күн бар да, бір күн жо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Соны есепке алсақ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Ұзын саны жүз жеті            (пернетақт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2.Экранның бетінде тұрағ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Қашан болсын жыпылықтап тұрады     (меңзер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3.Төртбұрышты әйнек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Тұнып тұрған әлек                        (монитор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4.Кемірушіге ұқсайды бейнесі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Түсі оның сұр, құйрығы ұзы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Ойланып. Білгіш болсаң жауап берші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Қалай деп аталады аты оның?           (тышқан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5.Ұзынтұра Жалқаубек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Тұрмай ылғи жата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Қозғала қалса артынан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Ешбір белгі қалмайды          (бос орын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6.Биологияда бұл парази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өзге зорға көрін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Информатикада өлшем бірлі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Ақпаратты өлшер                       (би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1447560"/>
            <a:ext cx="6172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3e3ff"/>
                </a:solidFill>
                <a:latin typeface="Arial"/>
              </a:rPr>
              <a:t>1- тур </a:t>
            </a:r>
            <a:r>
              <a:rPr b="0" lang="kk-KZ" sz="3200" spc="-1" strike="noStrike">
                <a:solidFill>
                  <a:srgbClr val="e3e3ff"/>
                </a:solidFill>
                <a:latin typeface="Arial"/>
              </a:rPr>
              <a:t>Үй тапсырмасын тексеру</a:t>
            </a:r>
            <a:r>
              <a:rPr b="0" lang="kk-KZ" sz="2800" spc="-1" strike="noStrike">
                <a:solidFill>
                  <a:srgbClr val="e3e3ff"/>
                </a:solidFill>
                <a:latin typeface="Arial"/>
              </a:rPr>
              <a:t>. Оқушыларға алдын-ала өз топтарын таныстыру жөнінде презентация жасап келу беріледі.</a:t>
            </a:r>
            <a:br>
              <a:rPr sz="3600"/>
            </a:br>
            <a:br>
              <a:rPr sz="3600"/>
            </a:br>
            <a:r>
              <a:rPr b="0" lang="kk-KZ" sz="3600" spc="-1" strike="noStrike">
                <a:solidFill>
                  <a:srgbClr val="e3e3ff"/>
                </a:solidFill>
                <a:latin typeface="Arial"/>
              </a:rPr>
              <a:t>2 -тур“Бәйге”</a:t>
            </a:r>
            <a:br>
              <a:rPr sz="3600"/>
            </a:br>
            <a:r>
              <a:rPr b="0" lang="kk-KZ" sz="2400" spc="-1" strike="noStrike">
                <a:solidFill>
                  <a:srgbClr val="e3e3ff"/>
                </a:solidFill>
                <a:latin typeface="Arial"/>
              </a:rPr>
              <a:t>Берілген түрлі анықтамалардың шешімін шапшаң жауап берген оқушылар 10 ұпайға ие болады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304920"/>
            <a:ext cx="67057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ДК құрамына кіретін негізгіқұрылғыларды атап шы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Жүйелік қорап, монитор, пернетеқта, тінтуі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Қосалқы құрылғыларды атап шы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олонка,құлаққап,модем,сканер, принтер, желілікк бейімдеуіш, т.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Ақпаратты тасымалдау құралдарын 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омпакт-диск, дискета, касета, флэш-жа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омпьютерде құжаттар қай жерде сақталады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Менің құжаттары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Уақытша жойылған құжаттар қайда тұрады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Себет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Қандай графикалық редакторды білесің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int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т.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омпьютерді қосқандағы ең алғашқы бет қалай аталады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Жұмыс үстелі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Жұмыс үстелінде стандартты түрде қандай таңбашалар тұрады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Менің құжаттарым,Менің    компьютерім, Себет, Желілік орта,Интерн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Пернетақтадағы қатені кетіру пернелерін 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lete, Backsp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Тінтуірдің сол жақ тетігі қандай қызмет атқарады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1 рет шерту-ерекшелейді, 2 рет шерту- файлдф ашад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e3e3ff"/>
                </a:solidFill>
                <a:latin typeface="Arial"/>
              </a:rPr>
              <a:t>2 топ сұрақтары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68544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қпаратпен орындалатын әрекеттер қалай аталад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қпараттық проце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Телеграф қандай кодта жұмыс жасайд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Морзе әліппес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Екілік санау жүйесі қалай аталад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Б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мерикандық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CII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коды неше символдан тұрад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0-2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Есептеуіш құрылғылар мен машиналардың даму барысын 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Есепшот, логорифм сызғышы, Паскаль машинасы, Арифмометр, қалта калькуляторы, Бэббидж машинасы, Холлерит машинасы, Марк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IAC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т.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қпараттық өлшембірлікті 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Бит,байт,килобайт,мегобайт,гигобай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Пернетақтада бас әріптерді басу пернесін 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s Lock, Shift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Тінтуірдің оң жақ пернесін бір рет басқанда қандай әрекет орындалад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Мәтінмәндік мәзір шыға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Пернетақтадағы символды енгізу пернесі қалай аталад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Пернетақтадағы цифрларды енгізу пернесі қалай аталад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m L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e3e3ff"/>
                </a:solidFill>
                <a:latin typeface="Arial"/>
              </a:rPr>
              <a:t>3</a:t>
            </a:r>
            <a:r>
              <a:rPr b="0" lang="kk-KZ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kk-KZ" sz="3600" spc="-1" strike="noStrike">
                <a:solidFill>
                  <a:srgbClr val="e3e3ff"/>
                </a:solidFill>
                <a:latin typeface="Arial"/>
              </a:rPr>
              <a:t>тур”Тапқырлар”</a:t>
            </a:r>
            <a:br>
              <a:rPr sz="3600"/>
            </a:br>
            <a:r>
              <a:rPr b="0" lang="kk-KZ" sz="2400" spc="-1" strike="noStrike">
                <a:solidFill>
                  <a:srgbClr val="e3e3ff"/>
                </a:solidFill>
                <a:latin typeface="Arial"/>
              </a:rPr>
              <a:t>Берілген тест тапсырмалардың дұрыс жауабын белгілеп отырыңдар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1.Ақпараттың ең кіші өлшембірлігі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а) байт  в)Кбайт   с)Мбайт  д)б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2.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xt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. Қандай фай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а)калькулятор    в) блакнот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с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nt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д)ойы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3.  Компьютер атасы кі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а)Ч.Бэбидж   в)Паскаль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с)Архимед   д)Ада Лавлей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4.Ең алғашқы ЭЕМ қай жерде , қай жылы жасалд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а)1942 ж Ресейде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в)1946ж АҚШ-т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с)1970 ж Жапонияд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д)1980ж Қазақстан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3e3ff"/>
                </a:solidFill>
                <a:latin typeface="Arial"/>
              </a:rPr>
              <a:t>4 тур “Кім жүйрік”</a:t>
            </a:r>
            <a:br>
              <a:rPr sz="2800"/>
            </a:br>
            <a:r>
              <a:rPr b="0" lang="kk-KZ" sz="2800" spc="-1" strike="noStrike">
                <a:solidFill>
                  <a:srgbClr val="e3e3ff"/>
                </a:solidFill>
                <a:latin typeface="Arial"/>
              </a:rPr>
              <a:t>(Капитандар сайысы)</a:t>
            </a:r>
            <a:br>
              <a:rPr sz="2800"/>
            </a:b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52280" y="1219320"/>
          <a:ext cx="6553440" cy="1888920"/>
        </p:xfrm>
        <a:graphic>
          <a:graphicData uri="http://schemas.openxmlformats.org/drawingml/2006/table">
            <a:tbl>
              <a:tblPr/>
              <a:tblGrid>
                <a:gridCol w="819360"/>
                <a:gridCol w="819000"/>
                <a:gridCol w="819360"/>
                <a:gridCol w="819000"/>
                <a:gridCol w="819000"/>
                <a:gridCol w="819360"/>
                <a:gridCol w="819000"/>
                <a:gridCol w="819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то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то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19440" y="3200400"/>
            <a:ext cx="6548040" cy="2288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Компьютер жанындағы өсімдік (кактус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Баспағы шығару құрылғысы (принтер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Жалпы желіге қосылуүшін не керек?(модем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Калькулятордың неше түрі бар?(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Ақпарат қай тілден шыққан? (латын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Вирусқа қарсы программа(антивирустық программ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Дыбыс шығару құрылғысы (колон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Бос орын қалдыру пернесі(пробел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5486400"/>
            <a:ext cx="6629400" cy="366012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46341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463416"/>
                </a:solidFill>
                <a:latin typeface="Tahoma"/>
              </a:rPr>
              <a:t>Дыбыс жазу құрылғысы(микрофон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6341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463416"/>
                </a:solidFill>
                <a:latin typeface="Tahoma"/>
              </a:rPr>
              <a:t>Вирус деген не?(компьютерді бүлдіретін арнайы программ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6341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463416"/>
                </a:solidFill>
                <a:latin typeface="Tahoma"/>
              </a:rPr>
              <a:t>Ақпаратты  компьютерге енгізу құрылғысы(пернетақт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6341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463416"/>
                </a:solidFill>
                <a:latin typeface="Tahoma"/>
              </a:rPr>
              <a:t>Бос орын қадыру пересі (пробел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6341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463416"/>
                </a:solidFill>
                <a:latin typeface="Tahoma"/>
              </a:rPr>
              <a:t>Монитор, пернетақта, жүйелік блок қандай құрылғылар? (негізгі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6341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463416"/>
                </a:solidFill>
                <a:latin typeface="Tahoma"/>
              </a:rPr>
              <a:t>Адамның денсаулыққа зиянды компьютер құрылғысы (монитор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6341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463416"/>
                </a:solidFill>
                <a:latin typeface="Tahoma"/>
              </a:rPr>
              <a:t>Өшірілген файлдар қай папкада сақталады?(себе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6341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463416"/>
                </a:solidFill>
                <a:latin typeface="Tahoma"/>
              </a:rPr>
              <a:t>Үлкен әрәпті шығару үшін соләріппен бірге қандай пернені басу керек? (</a:t>
            </a:r>
            <a:r>
              <a:rPr b="0" lang="en-US" sz="1800" spc="-1" strike="noStrike">
                <a:solidFill>
                  <a:srgbClr val="463416"/>
                </a:solidFill>
                <a:latin typeface="Tahoma"/>
              </a:rPr>
              <a:t>shift</a:t>
            </a:r>
            <a:r>
              <a:rPr b="0" lang="kk-KZ" sz="1800" spc="-1" strike="noStrike">
                <a:solidFill>
                  <a:srgbClr val="463416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1143000" y="1447920"/>
          <a:ext cx="4648320" cy="6248160"/>
        </p:xfrm>
        <a:graphic>
          <a:graphicData uri="http://schemas.openxmlformats.org/drawingml/2006/table">
            <a:tbl>
              <a:tblPr/>
              <a:tblGrid>
                <a:gridCol w="930240"/>
                <a:gridCol w="928800"/>
                <a:gridCol w="930240"/>
                <a:gridCol w="928800"/>
                <a:gridCol w="930240"/>
              </a:tblGrid>
              <a:tr h="12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12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125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12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12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37" name=""/>
          <p:cNvSpPr txBox="1"/>
          <p:nvPr/>
        </p:nvSpPr>
        <p:spPr>
          <a:xfrm>
            <a:off x="228600" y="1523880"/>
            <a:ext cx="457200" cy="617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95280" y="304920"/>
            <a:ext cx="4496040" cy="90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 2 3 4 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20574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3880" y="57150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5638680"/>
            <a:ext cx="533520" cy="38124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5638680"/>
            <a:ext cx="533520" cy="38124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57150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76920" y="5638680"/>
            <a:ext cx="533160" cy="38124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327672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3880" y="327672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124080"/>
            <a:ext cx="533160" cy="38124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14800" y="32004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32004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rId26" action="ppaction://hlinksldjump"/>
          </p:cNvPr>
          <p:cNvSpPr/>
          <p:nvPr/>
        </p:nvSpPr>
        <p:spPr>
          <a:xfrm>
            <a:off x="2362320" y="2133720"/>
            <a:ext cx="53316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00400" y="213372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38480" y="213372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05520" y="2057400"/>
            <a:ext cx="53316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45720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91120" y="4572000"/>
            <a:ext cx="53316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00400" y="464832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45720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45720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71600" y="6781680"/>
            <a:ext cx="533520" cy="38124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0" y="68580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00400" y="68580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91120" y="6858000"/>
            <a:ext cx="53316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29200" y="68580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219320" y="3276720"/>
            <a:ext cx="457200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қпаратт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ұзақ сақтауға 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рналған құрылғы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1-02-21T22:50:5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801000000000001024110</vt:lpwstr>
  </property>
  <property fmtid="{D5CDD505-2E9C-101B-9397-08002B2CF9AE}" pid="3" name="Version">
    <vt:r8>1</vt:r8>
  </property>
</Properties>
</file>