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9402-8031-4F3A-8F6B-9905A78D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2778-1BF8-4330-B2C6-BE0C9879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33D-B3B6-4D0D-B114-A982E80F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C7D5-6207-43E4-883B-66B61837C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95CD6-8DFC-4154-AEA2-09D39C16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98F25-3E9E-4B85-A8D9-3A5D7D38C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A9A1D-AC75-49CA-8913-94EC1F36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CA169-E5FD-4080-A4E4-B4870EC5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BFEB1-4E64-471B-AFBC-2F3AAFB4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4BA0B-AB24-4CA3-9B45-196DC75C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B6580-E992-429B-AF3E-09800358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C4DD-37BE-4BEC-AA69-958D52E9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C867A-1785-45A8-8CE1-DE6BE8FA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90CD3-3155-4B60-B968-80D29D01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D1EA6-5A19-4245-9D66-CF8138AB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B2EE2-8B9D-43E9-8BF7-EDF84D4C9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272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42964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16560" y="5264640"/>
            <a:ext cx="1987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1BC77-9C84-440C-AE6F-B9EFC0AC9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9CEA-DDB2-41AE-B64B-F39AE992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893-8777-4D05-AFF7-3BC0551C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726B-B0CE-4808-8C4E-63244A56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B533-6476-402B-B55D-0B059B7E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DEAE-AFBD-4209-86DC-E86AD2C7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505320" y="526464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30A5-495B-4B8D-BE05-AAE06E7B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2720" y="5264640"/>
            <a:ext cx="6172200" cy="28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5BE-6A95-46A3-AFB0-2D04B179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6858000" cy="9143640"/>
            <a:chOff x="0" y="0"/>
            <a:chExt cx="6858000" cy="9143640"/>
          </a:xfrm>
        </p:grpSpPr>
        <p:sp>
          <p:nvSpPr>
            <p:cNvPr id="1" name=""/>
            <p:cNvSpPr/>
            <p:nvPr/>
          </p:nvSpPr>
          <p:spPr>
            <a:xfrm>
              <a:off x="0" y="6502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4686480" y="8350200"/>
            <a:ext cx="217152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8026560"/>
            <a:ext cx="5886360" cy="1142280"/>
            <a:chOff x="0" y="8026560"/>
            <a:chExt cx="5886360" cy="1142280"/>
          </a:xfrm>
        </p:grpSpPr>
        <p:sp>
          <p:nvSpPr>
            <p:cNvPr id="5" name=""/>
            <p:cNvSpPr/>
            <p:nvPr/>
          </p:nvSpPr>
          <p:spPr>
            <a:xfrm>
              <a:off x="1771560" y="8026560"/>
              <a:ext cx="3857400" cy="113400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2959920" y="8026560"/>
              <a:ext cx="2926440" cy="1142280"/>
              <a:chOff x="2959920" y="8026560"/>
              <a:chExt cx="2926440" cy="1142280"/>
            </a:xfrm>
          </p:grpSpPr>
          <p:sp>
            <p:nvSpPr>
              <p:cNvPr id="7" name=""/>
              <p:cNvSpPr/>
              <p:nvPr/>
            </p:nvSpPr>
            <p:spPr>
              <a:xfrm>
                <a:off x="4700520" y="8041320"/>
                <a:ext cx="1185840" cy="112752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187080" y="8026560"/>
                <a:ext cx="221400" cy="83556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07200" y="8240040"/>
                <a:ext cx="450000" cy="57312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319280" y="818280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959920" y="8168040"/>
                <a:ext cx="49680" cy="17100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8026560"/>
              <a:ext cx="4733640" cy="113220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14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8C69-821E-48DE-B5D3-BC15330AB4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4680" y="27000"/>
            <a:ext cx="6858000" cy="9143640"/>
            <a:chOff x="-4680" y="27000"/>
            <a:chExt cx="6858000" cy="9143640"/>
          </a:xfrm>
        </p:grpSpPr>
        <p:sp>
          <p:nvSpPr>
            <p:cNvPr id="62" name=""/>
            <p:cNvSpPr/>
            <p:nvPr/>
          </p:nvSpPr>
          <p:spPr>
            <a:xfrm>
              <a:off x="-4680" y="6529320"/>
              <a:ext cx="6858000" cy="2641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4680" y="27000"/>
              <a:ext cx="6858000" cy="65023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681440" y="8358120"/>
            <a:ext cx="2171880" cy="8128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8045280"/>
            <a:ext cx="5884200" cy="1134720"/>
            <a:chOff x="-1440" y="8045280"/>
            <a:chExt cx="5884200" cy="1134720"/>
          </a:xfrm>
        </p:grpSpPr>
        <p:sp>
          <p:nvSpPr>
            <p:cNvPr id="66" name=""/>
            <p:cNvSpPr/>
            <p:nvPr/>
          </p:nvSpPr>
          <p:spPr>
            <a:xfrm>
              <a:off x="1770120" y="8045280"/>
              <a:ext cx="3857760" cy="113472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958840" y="8045280"/>
              <a:ext cx="2923920" cy="1134360"/>
              <a:chOff x="2958840" y="8045280"/>
              <a:chExt cx="2923920" cy="1134360"/>
            </a:xfrm>
          </p:grpSpPr>
          <p:sp>
            <p:nvSpPr>
              <p:cNvPr id="68" name=""/>
              <p:cNvSpPr/>
              <p:nvPr/>
            </p:nvSpPr>
            <p:spPr>
              <a:xfrm>
                <a:off x="4699440" y="8060040"/>
                <a:ext cx="1183320" cy="111960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186000" y="8045280"/>
                <a:ext cx="221400" cy="83628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606120" y="8258760"/>
                <a:ext cx="450000" cy="57348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318200" y="8201520"/>
                <a:ext cx="184680" cy="15624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958840" y="8186760"/>
                <a:ext cx="49680" cy="17136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8045280"/>
              <a:ext cx="4734000" cy="113292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69800" y="8028000"/>
            <a:ext cx="4263840" cy="1133280"/>
            <a:chOff x="469800" y="8028000"/>
            <a:chExt cx="4263840" cy="1133280"/>
          </a:xfrm>
        </p:grpSpPr>
        <p:sp>
          <p:nvSpPr>
            <p:cNvPr id="75" name=""/>
            <p:cNvSpPr/>
            <p:nvPr/>
          </p:nvSpPr>
          <p:spPr>
            <a:xfrm>
              <a:off x="1423440" y="8028000"/>
              <a:ext cx="434520" cy="61632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13000" y="8104320"/>
              <a:ext cx="2420640" cy="105696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78360" y="8091360"/>
              <a:ext cx="84240" cy="1292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17360" y="8131680"/>
              <a:ext cx="191520" cy="34740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9880" y="8157240"/>
              <a:ext cx="70200" cy="1292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9800" y="8065800"/>
              <a:ext cx="291600" cy="4384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1930320"/>
            <a:ext cx="61722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F9CE-6FD6-400D-8FBF-3C756FB2C0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slide" Target="slide9.xml"/><Relationship Id="rId2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28600" y="152280"/>
            <a:ext cx="6019920" cy="769644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371600" y="1523880"/>
            <a:ext cx="428616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ызықты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информатик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743200" y="5486400"/>
            <a:ext cx="160020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айыс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546200" y="2362320"/>
            <a:ext cx="377208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 енгізуге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рналған қрылғ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8080" y="2286000"/>
            <a:ext cx="4237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с әріппен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зу батырмас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274680" y="2514600"/>
            <a:ext cx="63151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қпараттық процестерді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үзеге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сыратын құрал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762120" y="1981080"/>
            <a:ext cx="5410080" cy="285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ЭЕМ-нің ең аз құрам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36400" y="2133720"/>
            <a:ext cx="5791320" cy="42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қағаздан компьютер бетін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шығаратын құрылғ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066680" y="2514600"/>
            <a:ext cx="4770720" cy="25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дам  менк омпьютердің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ра қашықтығы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қанша болуы керек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8080" y="2514600"/>
            <a:ext cx="5105520" cy="24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К тіл өзгерту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рнелер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мбинацияс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2362320"/>
            <a:ext cx="5105520" cy="27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искета қандай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жадыға жатады?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838080" y="2590920"/>
            <a:ext cx="51055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интер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түрлерін а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	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Полиглот”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Мектеп-кеме,білім-...(теңіз,море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a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лімнен ұят... (күшті,сильный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trong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енсаулық- зор...(байлық, богатств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richness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наның сүті-...(бал, мед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oney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Білім-сандығы...(кітап, книг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book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Жақсы ат- жанға...(серік, друг,спутн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Әдепті бала-арлы...(бала, ребено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il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Тіл адам жанының...(тілмәші, переводчик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lator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шу дұшпан, ақыл-...(дос,друг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iend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9960" y="304920"/>
            <a:ext cx="622944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e3e3ff"/>
                </a:solidFill>
                <a:latin typeface="Arial"/>
              </a:rPr>
              <a:t>Мақсаты: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Ойын арқылы оқушылардың информатика сабағына деген қызығушылығын арттыру.Шапшаңдыққа , терең ойлана білуге, бірігуге, сыйластыққа тәрбиелеу.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7120" y="294624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ffffff"/>
                </a:solidFill>
                <a:latin typeface="Arial"/>
              </a:rPr>
              <a:t>Жосп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қушыларды екі топқа бөліп, әділқазылар алқасын сайла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Үй тапсырмасын тексе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әйге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апқырлар” сайыс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ім жүйрік” (Капитандар сайыс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еңіздегі  шабуы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олигло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рермендермен ойы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1920" y="-4575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Көрермендермен ойын</a:t>
            </a:r>
            <a:br>
              <a:rPr sz="3200"/>
            </a:b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Жұмбақтар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.Бір сарайда тұрады еке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ес атаның  балала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ыдырмашы біреу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Бір күн бар да, бір күн жо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оны есепке алсақ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Ұзын саны жүз жеті            (пернетақт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2.Экранның бетінде тұрағ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шан болсын жыпылықтап тұрады     (меңзе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3.Төртбұрышты әйн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нып тұрған әлек                        (монито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4.Кемірушіге ұқсайды бейнес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үсі оның сұр, құйрығы ұзы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йланып. Білгіш болсаң жауап берші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лай деп аталады аты оның?           (тышқ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5.Ұзынтұра Жалқаубе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ұрмай ылғи жат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зғала қалса артынан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Ешбір белгі қалмайды          (бос оры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6.Биологияда бұл парази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өзге зорға көрін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Информатикада өлшем бірлі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өлшер                       (би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144756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1- тур </a:t>
            </a:r>
            <a:r>
              <a:rPr b="0" lang="kk-KZ" sz="3200" spc="-1" strike="noStrike">
                <a:solidFill>
                  <a:srgbClr val="e3e3ff"/>
                </a:solidFill>
                <a:latin typeface="Arial"/>
              </a:rPr>
              <a:t>Үй тапсырмасын тексеру</a:t>
            </a: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. Оқушыларға алдын-ала өз топтарын таныстыру жөнінде презентация жасап келу беріледі.</a:t>
            </a:r>
            <a:br>
              <a:rPr sz="3600"/>
            </a:br>
            <a:br>
              <a:rPr sz="3600"/>
            </a:b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2 -тур“Бәйге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үрлі анықтамалардың шешімін шапшаң жауап берген оқушылар 10 ұпайға ие болады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04920"/>
            <a:ext cx="67057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ДК құрамына кіретін негізгі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үйелік қорап, монитор, пернетеқта, тінтуі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осалқы құрылғыларды атап шы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лонка,құлаққап,модем,сканер, принтер, желілікк бейімдеуіш,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қпаратты тасымалдау құралдары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акт-диск, дискета, касета, флэш-жа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е құжаттар қай жерде сақ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Уақытша жойылған құжаттар қайда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Себет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Қандай графикалық редакторды білесің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Компьютерді қосқандағы ең алғашқы бет қалай атал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Жұмыс үстелінде стандартты түрде қандай таңбашалар тұ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енің құжаттарым,Менің    компьютерім, Себет, Желілік орта,Интерн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Пернетақтадағы қатені кетіру пернелерін 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ete, Back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Тінтуірдің сол жақ тетігі қандай қызмет атқара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1 рет шерту-ерекшелейді, 2 рет шерту- файлдф аша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3e3ff"/>
                </a:solidFill>
                <a:latin typeface="Arial"/>
              </a:rPr>
              <a:t>2 топ сұрақта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617220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пен орындалатын әрекеттер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проце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елеграф қандай кодта жұмыс жасай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орзе әліппес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кілік санау жүй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мерикандық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CII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коды неше символдан тұр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0-2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теуіш құрылғылар мен машиналардың даму барысы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Есепшот, логорифм сызғышы, Паскаль машинасы, Арифмометр, қалта калькуляторы, Бэббидж машинасы, Холлерит машинасы, Марк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IAC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т.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Ақпараттық өлшембірлікті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Бит,байт,килобайт,мегобайт,гигобай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 бас әріптерді басу пернесін 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s Lock, Shift+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Тінтуірдің оң жақ пернесін бір рет басқанда қандай әрекет орынд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Мәтінмәндік мәзір шығад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символ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Пернетақтадағы цифрларды енгізу пернесі қалай аталад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 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3</a:t>
            </a:r>
            <a:r>
              <a:rPr b="0" lang="kk-KZ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kk-KZ" sz="3600" spc="-1" strike="noStrike">
                <a:solidFill>
                  <a:srgbClr val="e3e3ff"/>
                </a:solidFill>
                <a:latin typeface="Arial"/>
              </a:rPr>
              <a:t>тур”Тапқырлар”</a:t>
            </a:r>
            <a:br>
              <a:rPr sz="3600"/>
            </a:br>
            <a:r>
              <a:rPr b="0" lang="kk-KZ" sz="2400" spc="-1" strike="noStrike">
                <a:solidFill>
                  <a:srgbClr val="e3e3ff"/>
                </a:solidFill>
                <a:latin typeface="Arial"/>
              </a:rPr>
              <a:t>Берілген тест тапсырмалардың дұрыс жауабын белгілеп отырыңдар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617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1.Ақпараттың ең кіші өлшембірлігі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 байт  в)Кбайт   с)Мбайт  д)б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2.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x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. Қандай фай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калькулятор    в) блакнот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int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д)ойы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3.  Компьютер атасы кім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Ч.Бэбидж   в)Паскаль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Архимед   д)Ада Лавлей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4.Ең алғашқы ЭЕМ қай жерде , қай жылы жасал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а)1942 ж Ресейде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в)1946ж АҚШ-т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)1970 ж Жапония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)1980ж Қазақстан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18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4 тур “Кім жүйрік”</a:t>
            </a:r>
            <a:br>
              <a:rPr sz="2800"/>
            </a:br>
            <a:r>
              <a:rPr b="0" lang="kk-KZ" sz="2800" spc="-1" strike="noStrike">
                <a:solidFill>
                  <a:srgbClr val="e3e3ff"/>
                </a:solidFill>
                <a:latin typeface="Arial"/>
              </a:rPr>
              <a:t>(Капитандар сайысы)</a:t>
            </a:r>
            <a:br>
              <a:rPr sz="2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52280" y="1219320"/>
          <a:ext cx="6553440" cy="1888920"/>
        </p:xfrm>
        <a:graphic>
          <a:graphicData uri="http://schemas.openxmlformats.org/drawingml/2006/table">
            <a:tbl>
              <a:tblPr/>
              <a:tblGrid>
                <a:gridCol w="819360"/>
                <a:gridCol w="819000"/>
                <a:gridCol w="819360"/>
                <a:gridCol w="819000"/>
                <a:gridCol w="819000"/>
                <a:gridCol w="819360"/>
                <a:gridCol w="819000"/>
                <a:gridCol w="819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 то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9440" y="3200400"/>
            <a:ext cx="6548040" cy="228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омпьютер жанындағы өсімдік (кактус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аспағы шығару құрылғысы (принте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Жалпы желіге қосылуүшін не керек?(моде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Калькулятордың неше түрі бар?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Ақпарат қай тілден шыққан? (латы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Вирусқа қарсы программа(антивирустық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Дыбыс шығару құрылғысы (колон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Tahoma"/>
              </a:rPr>
              <a:t>Бос орын қалдыру пернесі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86400"/>
            <a:ext cx="6629400" cy="36601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Дыбыс жазу құрылғысы(микрофон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Вирус деген не?(компьютерді бүлдіретін арнайы програм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қпаратты  компьютерге енгізу құрылғысы(пернетақт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Бос орын қадыру пересі (пробел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Монитор, пернетақта, жүйелік блок қандай құрылғылар? (негізгі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Адамның денсаулыққа зиянды компьютер құрылғысы (монитор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Өшірілген файлдар қай папкада сақталады?(себет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46341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Үлкен әрәпті шығару үшін соләріппен бірге қандай пернені басу керек? (</a:t>
            </a:r>
            <a:r>
              <a:rPr b="0" lang="en-US" sz="1800" spc="-1" strike="noStrike">
                <a:solidFill>
                  <a:srgbClr val="463416"/>
                </a:solidFill>
                <a:latin typeface="Tahoma"/>
              </a:rPr>
              <a:t>shift</a:t>
            </a:r>
            <a:r>
              <a:rPr b="0" lang="kk-KZ" sz="1800" spc="-1" strike="noStrike">
                <a:solidFill>
                  <a:srgbClr val="463416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43000" y="1447920"/>
          <a:ext cx="4648320" cy="6248160"/>
        </p:xfrm>
        <a:graphic>
          <a:graphicData uri="http://schemas.openxmlformats.org/drawingml/2006/table">
            <a:tbl>
              <a:tblPr/>
              <a:tblGrid>
                <a:gridCol w="930240"/>
                <a:gridCol w="928800"/>
                <a:gridCol w="930240"/>
                <a:gridCol w="928800"/>
                <a:gridCol w="930240"/>
              </a:tblGrid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2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124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7" name=""/>
          <p:cNvSpPr txBox="1"/>
          <p:nvPr/>
        </p:nvSpPr>
        <p:spPr>
          <a:xfrm>
            <a:off x="228600" y="1523880"/>
            <a:ext cx="457200" cy="617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95280" y="304920"/>
            <a:ext cx="4496040" cy="90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 2 3 4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23880" y="2057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5638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5715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76920" y="56386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276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124080"/>
            <a:ext cx="53316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32004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>
            <a:hlinkClick r:id="rId26" action="ppaction://hlinksldjump"/>
          </p:cNvPr>
          <p:cNvSpPr/>
          <p:nvPr/>
        </p:nvSpPr>
        <p:spPr>
          <a:xfrm>
            <a:off x="2362320" y="213372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040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21337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20574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91120" y="4572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464832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4572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6781680"/>
            <a:ext cx="533520" cy="38124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6858000"/>
            <a:ext cx="53316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6858000"/>
            <a:ext cx="533520" cy="380880"/>
          </a:xfrm>
          <a:prstGeom prst="star5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219320" y="3276720"/>
            <a:ext cx="45720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қпаратты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ұзақ сақтауға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рналған құрылғы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838188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1-02-21T22:50:5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1000000000001024110</vt:lpwstr>
  </property>
  <property fmtid="{D5CDD505-2E9C-101B-9397-08002B2CF9AE}" pid="3" name="Version">
    <vt:r8>1</vt:r8>
  </property>
</Properties>
</file>