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434-89B9-4ED6-819B-1E9B7BB5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D39-0ED6-4E8E-B246-53944C42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7DC-B623-437D-868D-9C74D7BD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6E5-5B73-4B13-B6A3-7561857F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C662F-B854-4733-8920-A1A7C1FC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AE116-CECA-401B-B30A-47C83209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EF546-1CDD-455B-A0EE-F9FC5AAF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ED956-3E85-4D91-B934-D62871D0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EBC2C-657A-4B28-917E-4ED9842A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F40D2-6A73-4687-A6DA-D329570E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9F7D4-0069-4965-8D81-BFD714DD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D8D-FF43-419C-BA87-15329C37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9A899-9BBC-469A-9DA0-F6E44A7E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8FB67-C4AA-4426-A39F-5FC02838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C4C5E-B9D1-444C-96C1-76888243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147E0-13C9-49DF-A234-FB40AE69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7D983-0399-45EE-98F9-A2E1ECEF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43C-B23F-40C6-A32E-04124771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38F-DA74-4185-8BD2-CE5DC249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F54-255D-4FB7-9962-B4D53123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ADA-1D54-41F4-A1EF-3393EC9A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F97-B626-44F4-AA4D-0604FDBD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8D4-1659-492B-BA4C-5E61D2DB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B75-1737-4710-AEE9-ABC29F49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4B4C-0B05-4D32-8523-876953C4E2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50D8-7B16-447F-98E5-ED000A790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slide" Target="slide9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152280"/>
            <a:ext cx="6019920" cy="76964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1523880"/>
            <a:ext cx="42861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ызықт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743200" y="5486400"/>
            <a:ext cx="16002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йыс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46200" y="2362320"/>
            <a:ext cx="377208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 енгізуг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рналған қрылғ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8080" y="2286000"/>
            <a:ext cx="4237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с әріппен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зу батырмас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74680" y="2514600"/>
            <a:ext cx="63151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қ процестерді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үзеге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ыратын құра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62120" y="1981080"/>
            <a:ext cx="5410080" cy="28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ЕМ-нің ең аз құра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36400" y="2133720"/>
            <a:ext cx="5791320" cy="42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ағаздан компьютер бетін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шығаратын құрылғ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66680" y="2514600"/>
            <a:ext cx="47707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дам  менк омпьютердің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ра қашықтығ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қанша болуы керек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8080" y="2514600"/>
            <a:ext cx="510552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К тіл өзгерт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нелер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бинацияс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2362320"/>
            <a:ext cx="510552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искета қандай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адыға жатады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8080" y="2590920"/>
            <a:ext cx="51055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инте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үрлерін 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Полиглот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Мектеп-кеме,білім-...(теңіз,море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a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лімнен ұят... (күшті,сильный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rong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енсаулық- зор...(байлық, богат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ichness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наның сүті-...(бал, мед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ney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ілім-сандығы...(кітап, книг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book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Жақсы ат- жанға...(серік, друг,спутн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депті бала-арлы...(бала, ребен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il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Тіл адам жанының...(тілмәші, переводч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or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шу дұшпан, ақыл-...(дос,друг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2944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3e3ff"/>
                </a:solidFill>
                <a:latin typeface="Arial"/>
              </a:rPr>
              <a:t>Мақсаты: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Ойын арқылы оқушылардың информатика сабағына деген қызығушылығын арттыру.Шапшаңдыққа , терең ойлана білуге, бірігуге, сыйластыққа тәрбиелеу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120" y="294624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Жосп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қушыларды екі топқа бөліп, әділқазылар алқасын сайла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Үй тапсырмасын тексе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әйге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апқырлар” сайы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ім жүйрік” (Капитандар сайыс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еңіздегі  шабуы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олигл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рермендермен ойы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4575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Көрермендермен ойын</a:t>
            </a:r>
            <a:br>
              <a:rPr sz="3200"/>
            </a:b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Жұмбақта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.Бір сарайда тұрады еке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ес атаның  балал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ыдырмашы біреу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ір күн бар да, бір күн жо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оны есепке алсақ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Ұзын саны жүз жеті            (пернетақ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2.Экранның бетінде тұрағ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шан болсын жыпылықтап тұрады     (меңзе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3.Төртбұрышты әйн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нып тұрған әлек                        (монито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4.Кемірушіге ұқсайды бейнес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үсі оның сұр, құйрығы ұзы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йланып. Білгіш болсаң жауап берш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лай деп аталады аты оның?           (тышқ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5.Ұзынтұра Жалқауб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рмай ылғи жат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зғала қалса артына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Ешбір белгі қалмайды          (бос оры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6.Биологияда бұл параз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зге зорға көрін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Информатикада өлшем бірл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өлшер                       (б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4475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1- тур </a:t>
            </a: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Үй тапсырмасын тексеру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. Оқушыларға алдын-ала өз топтарын таныстыру жөнінде презентация жасап келу беріледі.</a:t>
            </a:r>
            <a:br>
              <a:rPr sz="3600"/>
            </a:br>
            <a:br>
              <a:rPr sz="3600"/>
            </a:b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2 -тур“Бәйге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үрлі анықтамалардың шешімін шапшаң жауап берген оқушылар 10 ұпайға ие болады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04920"/>
            <a:ext cx="6705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ДК құрамына кіретін негізгі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үйелік қорап, монитор, пернетеқта, тінтуі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салқы 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лонка,құлаққап,модем,сканер, принтер, желілікк бейімдеуіш,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тасымалдау құралдары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акт-диск, дискета, касета, флэш-ж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е құжаттар қай жерде сақ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Уақытша жойылған құжаттар қайда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ебет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ндай графикалық редакторды білесің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і қосқандағы ең алғашқы бет қалай а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нде стандартты түрде қандай таңбашалар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,Менің    компьютерім, Себет, Желілік орта,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ернетақтадағы қатені кетіру пернелері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ete, Back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інтуірдің сол жақ тетігі қандай қызмет атқа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 рет шерту-ерекшелейді, 2 рет шерту- файлдф аша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3e3ff"/>
                </a:solidFill>
                <a:latin typeface="Arial"/>
              </a:rPr>
              <a:t>2 топ сұрақтар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пен орындалатын әрекеттер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елеграф қандай кодта жұмыс жасай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орзе әліпп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кілік санау жүй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мерикандық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CII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коды неше символдан тұр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0-2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теуіш құрылғылар мен машиналардың даму барысы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шот, логорифм сызғышы, Паскаль машинасы, Арифмометр, қалта калькуляторы, Бэббидж машинасы, Холлерит машинасы, Марк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IAC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өлшембірлікті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,байт,килобайт,мегобайт,гигобай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 бас әріптерді басу пернесі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s Lock, Shift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інтуірдің оң жақ пернесін бір рет басқанда қандай әрекет орынд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әтінмәндік мәзір шығ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символ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цифрлар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 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3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тур”Тапқырлар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ест тапсырмалардың дұрыс жауабын белгілеп отырыңдар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1.Ақпараттың ең кіші өлшембірлігі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 байт  в)Кбайт   с)Мбайт  д)б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x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. Қандай фай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калькулятор    в) блакно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д)ойы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3.  Компьютер атасы кі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Ч.Бэбидж   в)Паскал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Архимед   д)Ада Лавлей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4.Ең алғашқы ЭЕМ қай жерде , қай жылы жасал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1942 ж Ресейд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в)1946ж АҚШ-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1970 ж Жапония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)1980ж Қазақст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4 тур “Кім жүйрік”</a:t>
            </a:r>
            <a:br>
              <a:rPr sz="2800"/>
            </a:b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(Капитандар сайысы)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280" y="1219320"/>
          <a:ext cx="6553440" cy="1888920"/>
        </p:xfrm>
        <a:graphic>
          <a:graphicData uri="http://schemas.openxmlformats.org/drawingml/2006/table">
            <a:tbl>
              <a:tblPr/>
              <a:tblGrid>
                <a:gridCol w="819360"/>
                <a:gridCol w="819000"/>
                <a:gridCol w="819360"/>
                <a:gridCol w="819000"/>
                <a:gridCol w="819000"/>
                <a:gridCol w="819360"/>
                <a:gridCol w="819000"/>
                <a:gridCol w="819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9440" y="3200400"/>
            <a:ext cx="6548040" cy="228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омпьютер жанындағы өсімдік (какту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аспағы шығару құрылғысы (принте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алпы желіге қосылуүшін не керек?(моде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алькулятордың неше түрі бар?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қпарат қай тілден шыққан? (латы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Вирусқа қарсы программа(антивирустық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Дыбыс шығару құрылғысы (колон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ос орын қалдыру пернесі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86400"/>
            <a:ext cx="6629400" cy="36601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Дыбыс жазу құрылғысы(микрофо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Вирус деген не?(компьютерді бүлдіретін арнайы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қпаратты  компьютерге енгізу құрылғысы(пернетақ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Бос орын қадыру пересі 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Монитор, пернетақта, жүйелік блок қандай құрылғылар? (негізгі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дамның денсаулыққа зиянды компьютер құрылғысы (мони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Өшірілген файлдар қай папкада сақталады?(себе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Үлкен әрәпті шығару үшін соләріппен бірге қандай пернені басу керек? (</a:t>
            </a:r>
            <a:r>
              <a:rPr b="0" lang="en-US" sz="1800" spc="-1" strike="noStrike">
                <a:solidFill>
                  <a:srgbClr val="463416"/>
                </a:solidFill>
                <a:latin typeface="Tahoma"/>
              </a:rPr>
              <a:t>shift</a:t>
            </a: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43000" y="1447920"/>
          <a:ext cx="4648320" cy="6248160"/>
        </p:xfrm>
        <a:graphic>
          <a:graphicData uri="http://schemas.openxmlformats.org/drawingml/2006/table">
            <a:tbl>
              <a:tblPr/>
              <a:tblGrid>
                <a:gridCol w="930240"/>
                <a:gridCol w="928800"/>
                <a:gridCol w="930240"/>
                <a:gridCol w="928800"/>
                <a:gridCol w="930240"/>
              </a:tblGrid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7" name=""/>
          <p:cNvSpPr txBox="1"/>
          <p:nvPr/>
        </p:nvSpPr>
        <p:spPr>
          <a:xfrm>
            <a:off x="228600" y="1523880"/>
            <a:ext cx="45720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304920"/>
            <a:ext cx="449604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2 3 4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2057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56386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1240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6" action="ppaction://hlinksldjump"/>
          </p:cNvPr>
          <p:cNvSpPr/>
          <p:nvPr/>
        </p:nvSpPr>
        <p:spPr>
          <a:xfrm>
            <a:off x="2362320" y="213372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20574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572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46483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6781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6858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219320" y="3276720"/>
            <a:ext cx="4572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ұзақ сақтауғ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налған құрылғы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2-21T22:5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1000000000001024110</vt:lpwstr>
  </property>
  <property fmtid="{D5CDD505-2E9C-101B-9397-08002B2CF9AE}" pid="3" name="Version">
    <vt:r8>1</vt:r8>
  </property>
</Properties>
</file>