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7AE-27EB-423E-A35F-1E5E7A2D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BDB-CD92-46D1-8425-741D6D54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630-1DB4-45C4-B488-035787FB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1B5-A7EA-4062-B1F7-FB68D924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E96-DB2A-486E-A130-19BF67BC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D9E-05A8-406E-9525-FBD8E99F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F4F-E728-4D1A-8EB2-AA8F1CF6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848-3852-4A52-B678-0D616F6E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FB5-62AC-480B-A9E0-E92FF51D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505-74FA-4CE8-A997-981A178E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377-C8CC-4A68-AFD4-DDB68185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989-5453-42A2-BF15-69133D13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6c3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a29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5540-207E-4F36-B6A3-8375D13CF104}" type="slidenum">
              <a:rPr b="0" lang="en-US" sz="1200" spc="-1" strike="noStrike">
                <a:solidFill>
                  <a:srgbClr val="e7a29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12.01.2011 жыл 8 сынып Информатика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Мәтіндік құжатты өңдеу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1. Білімділік: Оқушыларды мәтін, мәтінді өңдеу жүйелерімен, мәтіндік құжатпен, мәтіндік редакторды іске қосу жолымен таныстыр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Тәрбиелік: Оқушыларды мәтіндік ақпаратты өңдеу жүйелерімен таныстыра отырып, оларды компьютермен ұқыпты жұмыс жүргізуге, жауапкершілікке, ұйымшылдыққа тәрбиеле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Дамытушылық: оқушыларды мәтіндік ақпаратты өңдеу жүйелерімен таныстыра отырып, олардың пәнге қызығушылығын арттыру, көру және есту арқылы есте сақтау қабілеттерін дамыту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ип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жаңа сабақ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аралас сабақ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әдіс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тірек сызба арқылы түсіндіру, сұрақ-жауап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интерактивті тақта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барыс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І.Ұйымдастыру бөлімі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 ІІ. Үй тапсырмасын сұрау 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ІІІ. Жаңа сабақ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333360"/>
            <a:ext cx="6408720" cy="863640"/>
          </a:xfrm>
          <a:prstGeom prst="flowChartTerminator">
            <a:avLst/>
          </a:prstGeom>
          <a:gradFill rotWithShape="0">
            <a:gsLst>
              <a:gs pos="0">
                <a:srgbClr val="e2a7c8"/>
              </a:gs>
              <a:gs pos="100000">
                <a:srgbClr val="f8f8f8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00080"/>
                </a:solidFill>
                <a:latin typeface="Times New Roman"/>
              </a:rPr>
              <a:t>Футбол ойыны</a:t>
            </a:r>
            <a:endParaRPr b="0" lang="en-US" sz="32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989000"/>
            <a:ext cx="7777080" cy="1800360"/>
          </a:xfrm>
          <a:prstGeom prst="flowChartAlternateProcess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Ойынның шарты: Оқушылар өздері қағазға жазып дайындаған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сұрақтарын бір-біріне лақтыру арқылы, бір-бірінің сұрақтарына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жауап береді.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Үй тапсырмасы: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8-бөлім. Мәтіндік ақпаратты өңде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8.1-сурет. Мәтіндік құжаттарды классификациялау схемасын дәптерге сыз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мәтіндік редакторлары жайлы рефераттар жазып келу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3"/>
          <p:cNvSpPr/>
          <p:nvPr/>
        </p:nvSpPr>
        <p:spPr>
          <a:xfrm>
            <a:off x="571680" y="428760"/>
            <a:ext cx="8143560" cy="607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5724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1071720" y="92880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>
            <a:off x="1071720" y="1212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1071720" y="1498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071720" y="1784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1071720" y="2070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1071720" y="2355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1071720" y="2641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1071720" y="2927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1071720" y="3213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1071720" y="3498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>
            <a:off x="1071720" y="3784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>
            <a:off x="1071720" y="4070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1071720" y="4356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6" name="Прямая соединительная линия 18"/>
          <p:cNvSpPr/>
          <p:nvPr/>
        </p:nvSpPr>
        <p:spPr>
          <a:xfrm>
            <a:off x="1071720" y="4641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>
            <a:off x="1071720" y="4927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1071720" y="5213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9" name="Прямая соединительная линия 21"/>
          <p:cNvSpPr/>
          <p:nvPr/>
        </p:nvSpPr>
        <p:spPr>
          <a:xfrm>
            <a:off x="1071720" y="5499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0" name="Прямая соединительная линия 22"/>
          <p:cNvSpPr/>
          <p:nvPr/>
        </p:nvSpPr>
        <p:spPr>
          <a:xfrm>
            <a:off x="1071720" y="5784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Он екінші қаңтар</a:t>
            </a:r>
            <a:br>
              <a:rPr sz="2000"/>
            </a:b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Сынып жұмысы</a:t>
            </a: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Мәтіндік ақпаратты өңдеу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тін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компьютерлік алфавит символдарының қандай да болсын тізбегі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құжат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ды пайдаланып жасалған, ішінде алфавиттік-сандық символдардан басқа, графиктік  обьектілер мен мәтінді пішімдеу туралы басқарушы ақпараты бар файл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2643120" y="1000080"/>
            <a:ext cx="33577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 өңдеу жүйелері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H="1">
            <a:off x="3285720" y="1428480"/>
            <a:ext cx="35784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4929120" y="1428480"/>
            <a:ext cx="28656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66" name="Скругленный прямоугольник 13"/>
          <p:cNvSpPr/>
          <p:nvPr/>
        </p:nvSpPr>
        <p:spPr>
          <a:xfrm>
            <a:off x="114300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7" name="Скругленный прямоугольник 14"/>
          <p:cNvSpPr/>
          <p:nvPr/>
        </p:nvSpPr>
        <p:spPr>
          <a:xfrm>
            <a:off x="507204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процесс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8" name="Прямая со стрелкой 18"/>
          <p:cNvCxnSpPr>
            <a:stCxn id="66" idx="2"/>
          </p:cNvCxnSpPr>
          <p:nvPr/>
        </p:nvCxnSpPr>
        <p:spPr>
          <a:xfrm flipH="1">
            <a:off x="228420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9" name="Прямая со стрелкой 19"/>
          <p:cNvCxnSpPr/>
          <p:nvPr/>
        </p:nvCxnSpPr>
        <p:spPr>
          <a:xfrm flipH="1">
            <a:off x="621324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70" name="Скругленный прямоугольник 20"/>
          <p:cNvSpPr/>
          <p:nvPr/>
        </p:nvSpPr>
        <p:spPr>
          <a:xfrm>
            <a:off x="114300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т.б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1" name="Скругленный прямоугольник 21"/>
          <p:cNvSpPr/>
          <p:nvPr/>
        </p:nvSpPr>
        <p:spPr>
          <a:xfrm>
            <a:off x="507204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428760" y="4317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редакто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агниттік дискіде мәтіндік құжат құруға, оны өңдеуге, құжат пішімін өзгертуге, басып шығаруға және т.б. қолданылатын қолданбалы программа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процессорла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ларға қарағанда мүмкіндіктері жоғары мәтіндік редактор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кругленный прямоугольник 3"/>
          <p:cNvSpPr/>
          <p:nvPr/>
        </p:nvSpPr>
        <p:spPr>
          <a:xfrm>
            <a:off x="3143160" y="142920"/>
            <a:ext cx="25718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427640" y="54756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258920" y="907920"/>
            <a:ext cx="655308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5892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320364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796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812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108000" y="126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2268360" y="1268280"/>
            <a:ext cx="18720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861080" y="1271520"/>
            <a:ext cx="187164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раммалық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7093080" y="1268280"/>
            <a:ext cx="1800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ь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111600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320364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79600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95672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8" name="Скругленный прямоугольник 3"/>
          <p:cNvSpPr/>
          <p:nvPr/>
        </p:nvSpPr>
        <p:spPr>
          <a:xfrm>
            <a:off x="108000" y="198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111600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108000" y="270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108000" y="342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>
            <a:off x="111600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1116000" y="3789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108000" y="414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өз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116000" y="450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108000" y="486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320364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268360" y="199224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268360" y="270828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ға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320364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2268360" y="342900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Ұяшық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4861080" y="213516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579600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4861080" y="285264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7021440" y="213372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р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>
            <a:off x="795672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7020000" y="2855880"/>
            <a:ext cx="187308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дық 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7956720" y="3355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7020000" y="371628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0" name="Line 43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7020000" y="4440240"/>
            <a:ext cx="194472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қа объ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755640" y="5376960"/>
            <a:ext cx="6696000" cy="100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– бұл басқа мәтіндермен графикалық, бейнелік, дыбыстық ақпаратпен мағыналық байланысын қамтитын мәтін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00040" y="1890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de6c36"/>
                </a:solidFill>
                <a:latin typeface="Times New Roman"/>
                <a:ea typeface="Times New Roman"/>
              </a:rPr>
              <a:t>	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сөз құралады.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ң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00040" y="218916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сөз    құралады. 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өл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500040" y="40464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 сөз   құралады. Сөздердің  араларын  бөлетін 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іс абзацтық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71680" y="1397160"/>
          <a:ext cx="8072280" cy="2225520"/>
        </p:xfrm>
        <a:graphic>
          <a:graphicData uri="http://schemas.openxmlformats.org/drawingml/2006/table">
            <a:tbl>
              <a:tblPr/>
              <a:tblGrid>
                <a:gridCol w="1346040"/>
                <a:gridCol w="1154160"/>
                <a:gridCol w="1536480"/>
                <a:gridCol w="1344600"/>
                <a:gridCol w="1346400"/>
                <a:gridCol w="1344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</a:tr>
            </a:tbl>
          </a:graphicData>
        </a:graphic>
      </p:graphicFrame>
      <p:sp>
        <p:nvSpPr>
          <p:cNvPr id="117" name="Овал 4"/>
          <p:cNvSpPr/>
          <p:nvPr/>
        </p:nvSpPr>
        <p:spPr>
          <a:xfrm>
            <a:off x="2071800" y="285840"/>
            <a:ext cx="4857480" cy="785880"/>
          </a:xfrm>
          <a:prstGeom prst="ellipse">
            <a:avLst/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Қалалардың арақашықтығы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 flipH="1">
            <a:off x="2999880" y="3071880"/>
            <a:ext cx="1000440" cy="171432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3000240" y="4786200"/>
            <a:ext cx="5857920" cy="180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3357720" y="42116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Ұяшық – бұл жол мен бағанның қиылысы нәтижесінде пайда болатын объект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3"/>
          <p:cNvSpPr/>
          <p:nvPr/>
        </p:nvSpPr>
        <p:spPr>
          <a:xfrm>
            <a:off x="2643120" y="260280"/>
            <a:ext cx="36576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 іске қо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00720" y="69228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050920" y="105264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05092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87708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68360" y="1413000"/>
            <a:ext cx="30970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аңа мәтіндік құжат құр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5292720" y="1413000"/>
            <a:ext cx="30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ұрын құрылған мәтіндік құжатты аш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468360" y="2205000"/>
            <a:ext cx="3097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 енгіз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050920" y="1844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050920" y="263700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6877080" y="1989000"/>
            <a:ext cx="0" cy="1008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2050920" y="299736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4" name="Скругленный прямоугольник 3"/>
          <p:cNvSpPr/>
          <p:nvPr/>
        </p:nvSpPr>
        <p:spPr>
          <a:xfrm>
            <a:off x="2556000" y="3213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редакциял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4500720" y="350028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2556000" y="3716280"/>
            <a:ext cx="38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мен жұмыс іст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500720" y="422100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8" name="Скругленный прямоугольник 3"/>
          <p:cNvSpPr/>
          <p:nvPr/>
        </p:nvSpPr>
        <p:spPr>
          <a:xfrm>
            <a:off x="2556000" y="4437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пішімд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00720" y="472608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0" name="Скругленный прямоугольник 3"/>
          <p:cNvSpPr/>
          <p:nvPr/>
        </p:nvSpPr>
        <p:spPr>
          <a:xfrm>
            <a:off x="2556000" y="4941720"/>
            <a:ext cx="381636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сақт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4500720" y="5229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2556000" y="54468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ба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4"/>
          <p:cNvSpPr/>
          <p:nvPr/>
        </p:nvSpPr>
        <p:spPr>
          <a:xfrm>
            <a:off x="714240" y="1344600"/>
            <a:ext cx="77155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714240" y="1920960"/>
            <a:ext cx="77155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мәтіндік процессордан айырмашылығы нед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714240" y="2703600"/>
            <a:ext cx="771552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қызметтері қандай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714240" y="3355920"/>
            <a:ext cx="7715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нің қандай түрлерін біл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714240" y="3938760"/>
            <a:ext cx="77155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714240" y="4591080"/>
            <a:ext cx="771552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 деп нені түсін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714240" y="5173560"/>
            <a:ext cx="7715520" cy="41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 қандай объектілерден тұрады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714240" y="5754600"/>
            <a:ext cx="7715520" cy="4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тық шегініс түр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714240" y="6308640"/>
            <a:ext cx="7715520" cy="4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лік мәтіннің объекті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60280"/>
            <a:ext cx="4896000" cy="838440"/>
          </a:xfrm>
          <a:prstGeom prst="ellipse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Сұрақ саған, жауап маған</a:t>
            </a:r>
            <a:endParaRPr b="0" lang="en-US" sz="24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3:29:52Z</dcterms:created>
  <dc:creator>ком</dc:creator>
  <dc:description/>
  <dc:language>en-US</dc:language>
  <cp:lastModifiedBy>UserXP</cp:lastModifiedBy>
  <dcterms:modified xsi:type="dcterms:W3CDTF">2011-04-05T08:08:31Z</dcterms:modified>
  <cp:revision>15</cp:revision>
  <dc:subject/>
  <dc:title>Слайд 1</dc:title>
</cp:coreProperties>
</file>