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97A-03C4-4B70-AD03-08856C21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69C-C048-4BDC-8B2F-3FA5D11F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BD6-828B-479C-9B5D-DB444433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B50-4619-40FF-8179-790D6430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51B-FEA4-4834-A3ED-281EDA74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95D-192A-47CD-8829-DB415ED4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F2D-FE59-47A5-A413-D75479DA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693-8F07-4214-9F83-AFBFA508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8FF-B4AE-444D-811A-917D939C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67D-90FE-4C1C-B1AF-1542B0C3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F8C-C8A1-4063-924E-A630A69D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C49-8A28-407A-AC59-DA8881E3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6c3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e6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e6c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e6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e6c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a29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a29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a29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78D3-55B8-40F6-BC65-80D10DE18756}" type="slidenum">
              <a:rPr b="0" lang="en-US" sz="1200" spc="-1" strike="noStrike">
                <a:solidFill>
                  <a:srgbClr val="e7a29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12.01.2011 жыл 8 сынып Информатика 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Мәтіндік құжатты өңдеу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Мақсат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1. Білімділік: Оқушыларды мәтін, мәтінді өңдеу жүйелерімен, мәтіндік құжатпен, мәтіндік редакторды іске қосу жолымен таныстыру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Тәрбиелік: Оқушыларды мәтіндік ақпаратты өңдеу жүйелерімен таныстыра отырып, оларды компьютермен ұқыпты жұмыс жүргізуге, жауапкершілікке, ұйымшылдыққа тәрбиелеу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Дамытушылық: оқушыларды мәтіндік ақпаратты өңдеу жүйелерімен таныстыра отырып, олардың пәнге қызығушылығын арттыру, көру және есту арқылы есте сақтау қабілеттерін дамыту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ипі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: жаңа сабақ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үр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аралас сабақ 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әдісі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: тірек сызба арқылы түсіндіру, сұрақ-жауап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көрнек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компьютер, интерактивті тақта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барыс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І.Ұйымдастыру бөлімі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                      ІІ. Үй тапсырмасын сұрау 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                     ІІІ. Жаңа сабақ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58920" y="333360"/>
            <a:ext cx="6408720" cy="863640"/>
          </a:xfrm>
          <a:prstGeom prst="flowChartTerminator">
            <a:avLst/>
          </a:prstGeom>
          <a:gradFill rotWithShape="0">
            <a:gsLst>
              <a:gs pos="0">
                <a:srgbClr val="e2a7c8"/>
              </a:gs>
              <a:gs pos="100000">
                <a:srgbClr val="f8f8f8">
                  <a:alpha val="99215"/>
                </a:srgbClr>
              </a:gs>
            </a:gsLst>
            <a:path path="rect">
              <a:fillToRect l="50000" t="50000" r="50000" b="50000"/>
            </a:path>
          </a:gra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800080"/>
                </a:solidFill>
                <a:latin typeface="Times New Roman"/>
              </a:rPr>
              <a:t>Футбол ойыны</a:t>
            </a:r>
            <a:endParaRPr b="0" lang="en-US" sz="32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1989000"/>
            <a:ext cx="7777080" cy="1800360"/>
          </a:xfrm>
          <a:prstGeom prst="flowChartAlternateProcess">
            <a:avLst/>
          </a:prstGeom>
          <a:gradFill rotWithShape="0">
            <a:gsLst>
              <a:gs pos="0">
                <a:srgbClr val="e2a7c8"/>
              </a:gs>
              <a:gs pos="100000">
                <a:srgbClr val="f8f8f8"/>
              </a:gs>
            </a:gsLst>
            <a:path path="rect">
              <a:fillToRect l="50000" t="50000" r="50000" b="50000"/>
            </a:path>
          </a:gradFill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Ойынның шарты: Оқушылар өздері қағазға жазып дайындаған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сұрақтарын бір-біріне лақтыру арқылы, бір-бірінің сұрақтарына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жауап береді.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Үй тапсырмасы: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8-бөлім. Мәтіндік ақпаратты өңдеу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8.1-сурет. Мәтіндік құжаттарды классификациялау схемасын дәптерге сызу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Pad, </a:t>
            </a: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кнот мәтіндік редакторлары жайлы рефераттар жазып келу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ый прямоугольник 3"/>
          <p:cNvSpPr/>
          <p:nvPr/>
        </p:nvSpPr>
        <p:spPr>
          <a:xfrm>
            <a:off x="571680" y="428760"/>
            <a:ext cx="8143560" cy="607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5724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3" name="Прямая соединительная линия 5"/>
          <p:cNvSpPr/>
          <p:nvPr/>
        </p:nvSpPr>
        <p:spPr>
          <a:xfrm>
            <a:off x="1071720" y="92880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4" name="Прямая соединительная линия 6"/>
          <p:cNvSpPr/>
          <p:nvPr/>
        </p:nvSpPr>
        <p:spPr>
          <a:xfrm>
            <a:off x="1071720" y="1212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1071720" y="1498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1071720" y="1784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7" name="Прямая соединительная линия 9"/>
          <p:cNvSpPr/>
          <p:nvPr/>
        </p:nvSpPr>
        <p:spPr>
          <a:xfrm>
            <a:off x="1071720" y="2070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8" name="Прямая соединительная линия 10"/>
          <p:cNvSpPr/>
          <p:nvPr/>
        </p:nvSpPr>
        <p:spPr>
          <a:xfrm>
            <a:off x="1071720" y="2355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9" name="Прямая соединительная линия 11"/>
          <p:cNvSpPr/>
          <p:nvPr/>
        </p:nvSpPr>
        <p:spPr>
          <a:xfrm>
            <a:off x="1071720" y="2641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0" name="Прямая соединительная линия 12"/>
          <p:cNvSpPr/>
          <p:nvPr/>
        </p:nvSpPr>
        <p:spPr>
          <a:xfrm>
            <a:off x="1071720" y="2927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1" name="Прямая соединительная линия 13"/>
          <p:cNvSpPr/>
          <p:nvPr/>
        </p:nvSpPr>
        <p:spPr>
          <a:xfrm>
            <a:off x="1071720" y="3213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2" name="Прямая соединительная линия 14"/>
          <p:cNvSpPr/>
          <p:nvPr/>
        </p:nvSpPr>
        <p:spPr>
          <a:xfrm>
            <a:off x="1071720" y="3498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3" name="Прямая соединительная линия 15"/>
          <p:cNvSpPr/>
          <p:nvPr/>
        </p:nvSpPr>
        <p:spPr>
          <a:xfrm>
            <a:off x="1071720" y="3784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4" name="Прямая соединительная линия 16"/>
          <p:cNvSpPr/>
          <p:nvPr/>
        </p:nvSpPr>
        <p:spPr>
          <a:xfrm>
            <a:off x="1071720" y="4070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5" name="Прямая соединительная линия 17"/>
          <p:cNvSpPr/>
          <p:nvPr/>
        </p:nvSpPr>
        <p:spPr>
          <a:xfrm>
            <a:off x="1071720" y="4356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6" name="Прямая соединительная линия 18"/>
          <p:cNvSpPr/>
          <p:nvPr/>
        </p:nvSpPr>
        <p:spPr>
          <a:xfrm>
            <a:off x="1071720" y="4641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7" name="Прямая соединительная линия 19"/>
          <p:cNvSpPr/>
          <p:nvPr/>
        </p:nvSpPr>
        <p:spPr>
          <a:xfrm>
            <a:off x="1071720" y="4927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8" name="Прямая соединительная линия 20"/>
          <p:cNvSpPr/>
          <p:nvPr/>
        </p:nvSpPr>
        <p:spPr>
          <a:xfrm>
            <a:off x="1071720" y="5213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9" name="Прямая соединительная линия 21"/>
          <p:cNvSpPr/>
          <p:nvPr/>
        </p:nvSpPr>
        <p:spPr>
          <a:xfrm>
            <a:off x="1071720" y="5499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0" name="Прямая соединительная линия 22"/>
          <p:cNvSpPr/>
          <p:nvPr/>
        </p:nvSpPr>
        <p:spPr>
          <a:xfrm>
            <a:off x="1071720" y="5784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Он екінші қаңтар</a:t>
            </a:r>
            <a:br>
              <a:rPr sz="2000"/>
            </a:br>
            <a:br>
              <a:rPr sz="2000"/>
            </a:b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Сынып жұмысы</a:t>
            </a:r>
            <a:br>
              <a:rPr sz="2000"/>
            </a:b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Мәтіндік ақпаратты өңдеу</a:t>
            </a:r>
            <a:endParaRPr b="0" lang="en-US" sz="20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r>
              <a:rPr b="1" i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әтін </a:t>
            </a: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компьютерлік алфавит символдарының қандай да болсын тізбегі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құжат </a:t>
            </a: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әтіндік редакторды пайдаланып жасалған, ішінде алфавиттік-сандық символдардан басқа, графиктік  обьектілер мен мәтінді пішімдеу туралы басқарушы ақпараты бар файл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ый прямоугольник 3"/>
          <p:cNvSpPr/>
          <p:nvPr/>
        </p:nvSpPr>
        <p:spPr>
          <a:xfrm>
            <a:off x="2643120" y="1000080"/>
            <a:ext cx="33577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 өңдеу жүйелері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H="1">
            <a:off x="3285720" y="1428480"/>
            <a:ext cx="357840" cy="78660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65" name="Прямая со стрелкой 7"/>
          <p:cNvCxnSpPr/>
          <p:nvPr/>
        </p:nvCxnSpPr>
        <p:spPr>
          <a:xfrm>
            <a:off x="4929120" y="1428480"/>
            <a:ext cx="286560" cy="78660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sp>
        <p:nvSpPr>
          <p:cNvPr id="66" name="Скругленный прямоугольник 13"/>
          <p:cNvSpPr/>
          <p:nvPr/>
        </p:nvSpPr>
        <p:spPr>
          <a:xfrm>
            <a:off x="1143000" y="2214720"/>
            <a:ext cx="2286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л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7" name="Скругленный прямоугольник 14"/>
          <p:cNvSpPr/>
          <p:nvPr/>
        </p:nvSpPr>
        <p:spPr>
          <a:xfrm>
            <a:off x="5072040" y="2214720"/>
            <a:ext cx="2286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процессорл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cxnSp>
        <p:nvCxnSpPr>
          <p:cNvPr id="68" name="Прямая со стрелкой 18"/>
          <p:cNvCxnSpPr>
            <a:stCxn id="66" idx="2"/>
          </p:cNvCxnSpPr>
          <p:nvPr/>
        </p:nvCxnSpPr>
        <p:spPr>
          <a:xfrm flipH="1">
            <a:off x="2284200" y="2785680"/>
            <a:ext cx="2160" cy="50076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69" name="Прямая со стрелкой 19"/>
          <p:cNvCxnSpPr/>
          <p:nvPr/>
        </p:nvCxnSpPr>
        <p:spPr>
          <a:xfrm flipH="1">
            <a:off x="6213240" y="2785680"/>
            <a:ext cx="2160" cy="50076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sp>
        <p:nvSpPr>
          <p:cNvPr id="70" name="Скругленный прямоугольник 20"/>
          <p:cNvSpPr/>
          <p:nvPr/>
        </p:nvSpPr>
        <p:spPr>
          <a:xfrm>
            <a:off x="1143000" y="3286080"/>
            <a:ext cx="2286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Pad, </a:t>
            </a: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кнот т.б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1" name="Скругленный прямоугольник 21"/>
          <p:cNvSpPr/>
          <p:nvPr/>
        </p:nvSpPr>
        <p:spPr>
          <a:xfrm>
            <a:off x="5072040" y="3286080"/>
            <a:ext cx="2286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428760" y="4317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редактор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агниттік дискіде мәтіндік құжат құруға, оны өңдеуге, құжат пішімін өзгертуге, басып шығаруға және т.б. қолданылатын қолданбалы программа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процессорлар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әтіндік редакторларға қарағанда мүмкіндіктері жоғары мәтіндік редактор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Скругленный прямоугольник 3"/>
          <p:cNvSpPr/>
          <p:nvPr/>
        </p:nvSpPr>
        <p:spPr>
          <a:xfrm>
            <a:off x="3143160" y="142920"/>
            <a:ext cx="25718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427640" y="54756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1258920" y="907920"/>
            <a:ext cx="655308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25892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320364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579600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781200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0" name="Скругленный прямоугольник 3"/>
          <p:cNvSpPr/>
          <p:nvPr/>
        </p:nvSpPr>
        <p:spPr>
          <a:xfrm>
            <a:off x="108000" y="126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әдімгі мәті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2268360" y="1268280"/>
            <a:ext cx="1872000" cy="35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есте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4861080" y="1271520"/>
            <a:ext cx="187164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граммалық мәті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7093080" y="1268280"/>
            <a:ext cx="18000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ьектіле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1116000" y="162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3203640" y="162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5796000" y="1773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7956720" y="1773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8" name="Скругленный прямоугольник 3"/>
          <p:cNvSpPr/>
          <p:nvPr/>
        </p:nvSpPr>
        <p:spPr>
          <a:xfrm>
            <a:off x="108000" y="198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1116000" y="2347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0" name="Скругленный прямоугольник 3"/>
          <p:cNvSpPr/>
          <p:nvPr/>
        </p:nvSpPr>
        <p:spPr>
          <a:xfrm>
            <a:off x="108000" y="270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бзац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1" name="Скругленный прямоугольник 3"/>
          <p:cNvSpPr/>
          <p:nvPr/>
        </p:nvSpPr>
        <p:spPr>
          <a:xfrm>
            <a:off x="108000" y="342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>
            <a:off x="1116000" y="306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>
            <a:off x="1116000" y="3789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4" name="Скругленный прямоугольник 3"/>
          <p:cNvSpPr/>
          <p:nvPr/>
        </p:nvSpPr>
        <p:spPr>
          <a:xfrm>
            <a:off x="108000" y="414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өз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5" name="Line 28"/>
          <p:cNvSpPr/>
          <p:nvPr/>
        </p:nvSpPr>
        <p:spPr>
          <a:xfrm>
            <a:off x="1116000" y="450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6" name="Скругленный прямоугольник 3"/>
          <p:cNvSpPr/>
          <p:nvPr/>
        </p:nvSpPr>
        <p:spPr>
          <a:xfrm>
            <a:off x="108000" y="486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мв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3203640" y="2347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2268360" y="199224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т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2268360" y="270828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ға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0" name="Line 33"/>
          <p:cNvSpPr/>
          <p:nvPr/>
        </p:nvSpPr>
        <p:spPr>
          <a:xfrm>
            <a:off x="3203640" y="306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2268360" y="342900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Ұяшық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4861080" y="213516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т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3" name="Line 36"/>
          <p:cNvSpPr/>
          <p:nvPr/>
        </p:nvSpPr>
        <p:spPr>
          <a:xfrm>
            <a:off x="5796000" y="249228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4861080" y="285264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мв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7021440" y="213372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ре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6" name="Line 39"/>
          <p:cNvSpPr/>
          <p:nvPr/>
        </p:nvSpPr>
        <p:spPr>
          <a:xfrm>
            <a:off x="7956720" y="249228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7020000" y="2855880"/>
            <a:ext cx="187308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лектрондық кесте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8" name="Line 41"/>
          <p:cNvSpPr/>
          <p:nvPr/>
        </p:nvSpPr>
        <p:spPr>
          <a:xfrm>
            <a:off x="7956720" y="3355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7020000" y="371628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аграмма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0" name="Line 43"/>
          <p:cNvSpPr/>
          <p:nvPr/>
        </p:nvSpPr>
        <p:spPr>
          <a:xfrm>
            <a:off x="7956720" y="4076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1" name="Скругленный прямоугольник 3"/>
          <p:cNvSpPr/>
          <p:nvPr/>
        </p:nvSpPr>
        <p:spPr>
          <a:xfrm>
            <a:off x="7020000" y="4440240"/>
            <a:ext cx="1944720" cy="50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сқа объектіле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2" name="Скругленный прямоугольник 3"/>
          <p:cNvSpPr/>
          <p:nvPr/>
        </p:nvSpPr>
        <p:spPr>
          <a:xfrm>
            <a:off x="755640" y="5376960"/>
            <a:ext cx="6696000" cy="100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мәтін – бұл басқа мәтіндермен графикалық, бейнелік, дыбыстық ақпаратпен мағыналық байланысын қамтитын мәтін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>
            <a:off x="500040" y="18900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de6c36"/>
                </a:solidFill>
                <a:latin typeface="Times New Roman"/>
                <a:ea typeface="Times New Roman"/>
              </a:rPr>
              <a:t>	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сөз құралады. Сөздердің араларын бөлетін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ң абзацты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00040" y="218916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    сөз    құралады.  Сөздердің араларын бөлетін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өл абзацты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500040" y="404640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     сөз   құралады. Сөздердің  араларын  бөлетін 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ріс абзацтық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71680" y="1397160"/>
          <a:ext cx="8072280" cy="2225520"/>
        </p:xfrm>
        <a:graphic>
          <a:graphicData uri="http://schemas.openxmlformats.org/drawingml/2006/table">
            <a:tbl>
              <a:tblPr/>
              <a:tblGrid>
                <a:gridCol w="1346040"/>
                <a:gridCol w="1154160"/>
                <a:gridCol w="1536480"/>
                <a:gridCol w="1344600"/>
                <a:gridCol w="1346400"/>
                <a:gridCol w="13446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лматы 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Қарағанды 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Мәскеу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ашкент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лматы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Қарағанды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Мәскеу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ашкент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</a:tr>
            </a:tbl>
          </a:graphicData>
        </a:graphic>
      </p:graphicFrame>
      <p:sp>
        <p:nvSpPr>
          <p:cNvPr id="117" name="Овал 4"/>
          <p:cNvSpPr/>
          <p:nvPr/>
        </p:nvSpPr>
        <p:spPr>
          <a:xfrm>
            <a:off x="2071800" y="285840"/>
            <a:ext cx="4857480" cy="785880"/>
          </a:xfrm>
          <a:prstGeom prst="ellipse">
            <a:avLst/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prstDash val="sysDot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Қалалардың арақашықтығы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 flipH="1">
            <a:off x="2999880" y="3071880"/>
            <a:ext cx="1000440" cy="1714320"/>
          </a:xfrm>
          <a:prstGeom prst="line">
            <a:avLst/>
          </a:prstGeom>
          <a:ln w="38160">
            <a:solidFill>
              <a:srgbClr val="5c1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9" name="Прямая соединительная линия 9"/>
          <p:cNvSpPr/>
          <p:nvPr/>
        </p:nvSpPr>
        <p:spPr>
          <a:xfrm>
            <a:off x="3000240" y="4786200"/>
            <a:ext cx="5857920" cy="1800"/>
          </a:xfrm>
          <a:prstGeom prst="line">
            <a:avLst/>
          </a:prstGeom>
          <a:ln w="38160">
            <a:solidFill>
              <a:srgbClr val="5c1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0" name="Прямоугольник 10"/>
          <p:cNvSpPr/>
          <p:nvPr/>
        </p:nvSpPr>
        <p:spPr>
          <a:xfrm>
            <a:off x="3357720" y="421164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Ұяшық – бұл жол мен бағанның қиылысы нәтижесінде пайда болатын объект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3"/>
          <p:cNvSpPr/>
          <p:nvPr/>
        </p:nvSpPr>
        <p:spPr>
          <a:xfrm>
            <a:off x="2643120" y="260280"/>
            <a:ext cx="36576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 іске қос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500720" y="69228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2050920" y="1052640"/>
            <a:ext cx="482616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2050920" y="1052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6877080" y="1052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6" name="Скругленный прямоугольник 3"/>
          <p:cNvSpPr/>
          <p:nvPr/>
        </p:nvSpPr>
        <p:spPr>
          <a:xfrm>
            <a:off x="468360" y="1413000"/>
            <a:ext cx="30970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аңа мәтіндік құжат құр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7" name="Скругленный прямоугольник 3"/>
          <p:cNvSpPr/>
          <p:nvPr/>
        </p:nvSpPr>
        <p:spPr>
          <a:xfrm>
            <a:off x="5292720" y="1413000"/>
            <a:ext cx="3095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ұрын құрылған мәтіндік құжатты аш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468360" y="2205000"/>
            <a:ext cx="30970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 енгіз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2050920" y="1844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050920" y="263700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6877080" y="1989000"/>
            <a:ext cx="0" cy="1008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2050920" y="2997360"/>
            <a:ext cx="482616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4500720" y="299736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4" name="Скругленный прямоугольник 3"/>
          <p:cNvSpPr/>
          <p:nvPr/>
        </p:nvSpPr>
        <p:spPr>
          <a:xfrm>
            <a:off x="2556000" y="32130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редакцияла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4500720" y="3500280"/>
            <a:ext cx="0" cy="21600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6" name="Скругленный прямоугольник 3"/>
          <p:cNvSpPr/>
          <p:nvPr/>
        </p:nvSpPr>
        <p:spPr>
          <a:xfrm>
            <a:off x="2556000" y="3716280"/>
            <a:ext cx="3816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ъектілермен жұмыс істе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4500720" y="4221000"/>
            <a:ext cx="0" cy="21600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8" name="Скругленный прямоугольник 3"/>
          <p:cNvSpPr/>
          <p:nvPr/>
        </p:nvSpPr>
        <p:spPr>
          <a:xfrm>
            <a:off x="2556000" y="44370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пішімде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4500720" y="472608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0" name="Скругленный прямоугольник 3"/>
          <p:cNvSpPr/>
          <p:nvPr/>
        </p:nvSpPr>
        <p:spPr>
          <a:xfrm>
            <a:off x="2556000" y="4941720"/>
            <a:ext cx="381636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сақта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4500720" y="522936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2" name="Скругленный прямоугольник 3"/>
          <p:cNvSpPr/>
          <p:nvPr/>
        </p:nvSpPr>
        <p:spPr>
          <a:xfrm>
            <a:off x="2556000" y="54468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бас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4"/>
          <p:cNvSpPr/>
          <p:nvPr/>
        </p:nvSpPr>
        <p:spPr>
          <a:xfrm>
            <a:off x="714240" y="1344600"/>
            <a:ext cx="77155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 дегеніміз н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714240" y="1920960"/>
            <a:ext cx="77155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ң мәтіндік процессордан айырмашылығы нед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5" name="Скругленный прямоугольник 6"/>
          <p:cNvSpPr/>
          <p:nvPr/>
        </p:nvSpPr>
        <p:spPr>
          <a:xfrm>
            <a:off x="714240" y="2703600"/>
            <a:ext cx="7715520" cy="43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ң қызметтері қандай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6" name="Скругленный прямоугольник 7"/>
          <p:cNvSpPr/>
          <p:nvPr/>
        </p:nvSpPr>
        <p:spPr>
          <a:xfrm>
            <a:off x="714240" y="3355920"/>
            <a:ext cx="77155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нің қандай түрлерін білесіңдер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7" name="Скругленный прямоугольник 8"/>
          <p:cNvSpPr/>
          <p:nvPr/>
        </p:nvSpPr>
        <p:spPr>
          <a:xfrm>
            <a:off x="714240" y="3938760"/>
            <a:ext cx="7715520" cy="42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мәтін дегеніміз н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8" name="Скругленный прямоугольник 9"/>
          <p:cNvSpPr/>
          <p:nvPr/>
        </p:nvSpPr>
        <p:spPr>
          <a:xfrm>
            <a:off x="714240" y="4591080"/>
            <a:ext cx="771552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ъектілер деп нені түсінесіңдер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9" name="Скругленный прямоугольник 10"/>
          <p:cNvSpPr/>
          <p:nvPr/>
        </p:nvSpPr>
        <p:spPr>
          <a:xfrm>
            <a:off x="714240" y="5173560"/>
            <a:ext cx="7715520" cy="41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әдімгі мәтін қандай объектілерден тұрады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0" name="Скругленный прямоугольник 11"/>
          <p:cNvSpPr/>
          <p:nvPr/>
        </p:nvSpPr>
        <p:spPr>
          <a:xfrm>
            <a:off x="714240" y="5754600"/>
            <a:ext cx="7715520" cy="41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бзацтық шегініс түрлерін атаңдар.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1" name="Скругленный прямоугольник 12"/>
          <p:cNvSpPr/>
          <p:nvPr/>
        </p:nvSpPr>
        <p:spPr>
          <a:xfrm>
            <a:off x="714240" y="6308640"/>
            <a:ext cx="7715520" cy="4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естелік мәтіннің объектілерін атаңдар.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260280"/>
            <a:ext cx="4896000" cy="838440"/>
          </a:xfrm>
          <a:prstGeom prst="ellipse">
            <a:avLst/>
          </a:prstGeom>
          <a:gradFill rotWithShape="0">
            <a:gsLst>
              <a:gs pos="0">
                <a:srgbClr val="e2a7c8"/>
              </a:gs>
              <a:gs pos="100000">
                <a:srgbClr val="f8f8f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800080"/>
                </a:solidFill>
                <a:latin typeface="Times New Roman"/>
              </a:rPr>
              <a:t>Сұрақ саған, жауап маған</a:t>
            </a:r>
            <a:endParaRPr b="0" lang="en-US" sz="24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2,-9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2,-9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3:29:52Z</dcterms:created>
  <dc:creator>ком</dc:creator>
  <dc:description/>
  <dc:language>en-US</dc:language>
  <cp:lastModifiedBy>UserXP</cp:lastModifiedBy>
  <dcterms:modified xsi:type="dcterms:W3CDTF">2011-04-05T08:08:31Z</dcterms:modified>
  <cp:revision>15</cp:revision>
  <dc:subject/>
  <dc:title>Слайд 1</dc:title>
</cp:coreProperties>
</file>