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801-4DEA-4F92-B743-23BEDE64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EE7-2662-48D1-8D62-A43A504F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986-D539-44CE-91C5-BB445D4C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59F-7B96-4D7E-A2C2-C4AB479A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DDD-8962-4077-B68B-8A4F4151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DAF-12B5-4B05-AC5E-7266D18C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7B6-BE54-46B5-A18E-7C714A7E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6DC-181C-4344-86D6-A740A6E0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5E3-D6E7-4750-ADD4-6EA7E153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030-9FAF-4D77-ACFD-248A149F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343-96B8-4A48-AF1E-AA85A456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EEB-AC05-43A8-8003-7FF52314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266F-B54F-454E-8258-A400E1562E43}" type="slidenum">
              <a:rPr b="0" lang="kk-K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efefe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122560"/>
            <a:ext cx="30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3168720" cy="432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.Ж.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.цилиндр,порше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Клапон,білік,шта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 Сұйық от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 Ауаға зиянды қалд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р шығар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484280"/>
            <a:ext cx="3168720" cy="417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.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,білік.қалақ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диск, соп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Қатты қызған б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Зияанды қалдық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шығарм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4.Жылдам айналғ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ықш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989000"/>
            <a:ext cx="1440000" cy="360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Ішкі энерги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сы  механика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Энергия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айналды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545200" y="1087200"/>
            <a:ext cx="4512240" cy="4474440"/>
            <a:chOff x="2545200" y="1087200"/>
            <a:chExt cx="4512240" cy="4474440"/>
          </a:xfrm>
        </p:grpSpPr>
        <p:sp>
          <p:nvSpPr>
            <p:cNvPr id="46" name="_s5155"/>
            <p:cNvSpPr/>
            <p:nvPr/>
          </p:nvSpPr>
          <p:spPr>
            <a:xfrm flipH="1" flipV="1">
              <a:off x="4014720" y="2134440"/>
              <a:ext cx="565920" cy="88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54"/>
            <p:cNvSpPr/>
            <p:nvPr/>
          </p:nvSpPr>
          <p:spPr>
            <a:xfrm>
              <a:off x="3382560" y="1382400"/>
              <a:ext cx="817560" cy="81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4 так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53"/>
            <p:cNvSpPr/>
            <p:nvPr/>
          </p:nvSpPr>
          <p:spPr>
            <a:xfrm flipH="1" flipV="1">
              <a:off x="3476520" y="2754360"/>
              <a:ext cx="953280" cy="43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52"/>
            <p:cNvSpPr/>
            <p:nvPr/>
          </p:nvSpPr>
          <p:spPr>
            <a:xfrm>
              <a:off x="2694240" y="2178360"/>
              <a:ext cx="817560" cy="817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Arial"/>
                </a:rPr>
                <a:t>Махов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51"/>
            <p:cNvSpPr/>
            <p:nvPr/>
          </p:nvSpPr>
          <p:spPr>
            <a:xfrm flipH="1">
              <a:off x="3359160" y="3420000"/>
              <a:ext cx="1038600" cy="147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50"/>
            <p:cNvSpPr/>
            <p:nvPr/>
          </p:nvSpPr>
          <p:spPr>
            <a:xfrm>
              <a:off x="2545200" y="3218760"/>
              <a:ext cx="817200" cy="817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Arial"/>
                </a:rPr>
                <a:t>Шату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47"/>
            <p:cNvSpPr/>
            <p:nvPr/>
          </p:nvSpPr>
          <p:spPr>
            <a:xfrm flipH="1">
              <a:off x="3699720" y="3629160"/>
              <a:ext cx="794160" cy="68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6"/>
            <p:cNvSpPr/>
            <p:nvPr/>
          </p:nvSpPr>
          <p:spPr>
            <a:xfrm>
              <a:off x="2982240" y="4175640"/>
              <a:ext cx="817560" cy="81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49"/>
            <p:cNvSpPr/>
            <p:nvPr/>
          </p:nvSpPr>
          <p:spPr>
            <a:xfrm flipH="1">
              <a:off x="4389840" y="3753720"/>
              <a:ext cx="298080" cy="1005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48"/>
            <p:cNvSpPr/>
            <p:nvPr/>
          </p:nvSpPr>
          <p:spPr>
            <a:xfrm>
              <a:off x="3867120" y="4744080"/>
              <a:ext cx="817560" cy="81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Цилинд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45"/>
            <p:cNvSpPr/>
            <p:nvPr/>
          </p:nvSpPr>
          <p:spPr>
            <a:xfrm>
              <a:off x="4917960" y="3751560"/>
              <a:ext cx="292680" cy="1007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44"/>
            <p:cNvSpPr/>
            <p:nvPr/>
          </p:nvSpPr>
          <p:spPr>
            <a:xfrm>
              <a:off x="4919400" y="4744080"/>
              <a:ext cx="817560" cy="81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орш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43"/>
            <p:cNvSpPr/>
            <p:nvPr/>
          </p:nvSpPr>
          <p:spPr>
            <a:xfrm>
              <a:off x="5110560" y="3626280"/>
              <a:ext cx="790560" cy="68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2"/>
            <p:cNvSpPr/>
            <p:nvPr/>
          </p:nvSpPr>
          <p:spPr>
            <a:xfrm>
              <a:off x="5803920" y="4174200"/>
              <a:ext cx="817560" cy="81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2 клап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35"/>
            <p:cNvSpPr/>
            <p:nvPr/>
          </p:nvSpPr>
          <p:spPr>
            <a:xfrm>
              <a:off x="5204520" y="3416400"/>
              <a:ext cx="1038600" cy="152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4"/>
            <p:cNvSpPr/>
            <p:nvPr/>
          </p:nvSpPr>
          <p:spPr>
            <a:xfrm>
              <a:off x="6239880" y="3217320"/>
              <a:ext cx="817560" cy="817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ензин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Керосин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мұна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2"/>
            <p:cNvSpPr/>
            <p:nvPr/>
          </p:nvSpPr>
          <p:spPr>
            <a:xfrm flipV="1">
              <a:off x="5171040" y="2756160"/>
              <a:ext cx="954720" cy="43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131"/>
            <p:cNvSpPr/>
            <p:nvPr/>
          </p:nvSpPr>
          <p:spPr>
            <a:xfrm>
              <a:off x="6089040" y="2176560"/>
              <a:ext cx="817560" cy="8175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кі эне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мех-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айн-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130"/>
            <p:cNvSpPr/>
            <p:nvPr/>
          </p:nvSpPr>
          <p:spPr>
            <a:xfrm flipV="1">
              <a:off x="5020200" y="2135880"/>
              <a:ext cx="568080" cy="88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29"/>
            <p:cNvSpPr/>
            <p:nvPr/>
          </p:nvSpPr>
          <p:spPr>
            <a:xfrm>
              <a:off x="5400360" y="1382400"/>
              <a:ext cx="817560" cy="8175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ы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інд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жана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28"/>
            <p:cNvSpPr/>
            <p:nvPr/>
          </p:nvSpPr>
          <p:spPr>
            <a:xfrm flipV="1">
              <a:off x="4800240" y="1904760"/>
              <a:ext cx="0" cy="1048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27"/>
            <p:cNvSpPr/>
            <p:nvPr/>
          </p:nvSpPr>
          <p:spPr>
            <a:xfrm>
              <a:off x="4391640" y="1087200"/>
              <a:ext cx="817560" cy="8175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-10 М</a:t>
              </a: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26"/>
            <p:cNvSpPr/>
            <p:nvPr/>
          </p:nvSpPr>
          <p:spPr>
            <a:xfrm>
              <a:off x="4391640" y="2954160"/>
              <a:ext cx="817560" cy="8175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000000"/>
                  </a:solidFill>
                  <a:latin typeface="Arial"/>
                </a:rPr>
                <a:t>У.Ж.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363528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2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131640" y="1197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98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Сығ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5892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1341360"/>
            <a:ext cx="7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Жұмыстық жүрі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1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1773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шыға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33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417760" y="1044720"/>
            <a:ext cx="4309920" cy="4309920"/>
            <a:chOff x="2417760" y="1044720"/>
            <a:chExt cx="4309920" cy="4309920"/>
          </a:xfrm>
        </p:grpSpPr>
        <p:sp>
          <p:nvSpPr>
            <p:cNvPr id="78" name="_s8215"/>
            <p:cNvSpPr/>
            <p:nvPr/>
          </p:nvSpPr>
          <p:spPr>
            <a:xfrm flipH="1" flipV="1">
              <a:off x="380952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4"/>
            <p:cNvSpPr/>
            <p:nvPr/>
          </p:nvSpPr>
          <p:spPr>
            <a:xfrm>
              <a:off x="2890800" y="151776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соп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8213"/>
            <p:cNvSpPr/>
            <p:nvPr/>
          </p:nvSpPr>
          <p:spPr>
            <a:xfrm flipH="1">
              <a:off x="349416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2"/>
            <p:cNvSpPr/>
            <p:nvPr/>
          </p:nvSpPr>
          <p:spPr>
            <a:xfrm>
              <a:off x="2417760" y="266076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дис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211"/>
            <p:cNvSpPr/>
            <p:nvPr/>
          </p:nvSpPr>
          <p:spPr>
            <a:xfrm flipH="1">
              <a:off x="380952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10"/>
            <p:cNvSpPr/>
            <p:nvPr/>
          </p:nvSpPr>
          <p:spPr>
            <a:xfrm>
              <a:off x="2890800" y="380376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лақш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8209"/>
            <p:cNvSpPr/>
            <p:nvPr/>
          </p:nvSpPr>
          <p:spPr>
            <a:xfrm>
              <a:off x="4572000" y="3735360"/>
              <a:ext cx="0" cy="54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8"/>
            <p:cNvSpPr/>
            <p:nvPr/>
          </p:nvSpPr>
          <p:spPr>
            <a:xfrm>
              <a:off x="4033800" y="4276800"/>
              <a:ext cx="10778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іл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207"/>
            <p:cNvSpPr/>
            <p:nvPr/>
          </p:nvSpPr>
          <p:spPr>
            <a:xfrm>
              <a:off x="495144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6"/>
            <p:cNvSpPr/>
            <p:nvPr/>
          </p:nvSpPr>
          <p:spPr>
            <a:xfrm>
              <a:off x="5176800" y="380376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ды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Ішкі механ-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айналу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04"/>
            <p:cNvSpPr/>
            <p:nvPr/>
          </p:nvSpPr>
          <p:spPr>
            <a:xfrm>
              <a:off x="510840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3"/>
            <p:cNvSpPr/>
            <p:nvPr/>
          </p:nvSpPr>
          <p:spPr>
            <a:xfrm>
              <a:off x="5649840" y="2660760"/>
              <a:ext cx="1077840" cy="107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т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ызған 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202"/>
            <p:cNvSpPr/>
            <p:nvPr/>
          </p:nvSpPr>
          <p:spPr>
            <a:xfrm flipV="1">
              <a:off x="495144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1"/>
            <p:cNvSpPr/>
            <p:nvPr/>
          </p:nvSpPr>
          <p:spPr>
            <a:xfrm>
              <a:off x="5176800" y="1517760"/>
              <a:ext cx="1077840" cy="107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у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00"/>
            <p:cNvSpPr/>
            <p:nvPr/>
          </p:nvSpPr>
          <p:spPr>
            <a:xfrm flipV="1">
              <a:off x="4572000" y="21207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4033800" y="1044720"/>
              <a:ext cx="1077840" cy="107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ықш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198"/>
            <p:cNvSpPr/>
            <p:nvPr/>
          </p:nvSpPr>
          <p:spPr>
            <a:xfrm>
              <a:off x="4033800" y="2662200"/>
              <a:ext cx="1077840" cy="1078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турбина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23:12Z</dcterms:created>
  <dc:creator>1191</dc:creator>
  <dc:description/>
  <dc:language>en-US</dc:language>
  <cp:lastModifiedBy>Владелец</cp:lastModifiedBy>
  <dcterms:modified xsi:type="dcterms:W3CDTF">2010-01-16T09:24:02Z</dcterms:modified>
  <cp:revision>7</cp:revision>
  <dc:subject/>
  <dc:title>Слайд 1</dc:title>
</cp:coreProperties>
</file>