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FBD-3A37-4F3F-B86E-D100C67E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C4E-99B0-4654-82F1-59DD46DA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4AF-4553-4236-8AE7-D62D5176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5B5-D4CD-4F07-A91E-0D0AD2BC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915-ABA6-43DB-A591-6A59216E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76A-DD4E-46B8-B2D0-F3A304DB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408-0BA1-45C4-A93E-7E44B2D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C3F-D121-45C6-8B72-C9CC4E9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48B-53BD-4717-A2AE-A985097D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010-5A96-4FB4-8CD2-AAA6F931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3F7-951B-4BF3-822A-E31B2FD0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C6C-72FA-47C8-B23D-009C0DE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5E7F-4982-4163-98A9-8ACD42378713}" type="slidenum">
              <a:rPr b="0" lang="kk-K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efefe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2122560"/>
            <a:ext cx="307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3168720" cy="4321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.Ж.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.цилиндр,поршен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Клапон,білік,штату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 Сұйық от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 Ауаға зиянды қалд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р шыға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484280"/>
            <a:ext cx="3168720" cy="4176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Б.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,білік.қалақш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диск, соп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2.Қатты қызған б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3.Зияанды қалдықта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шығарма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4.Жылдам айналға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ықш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1989000"/>
            <a:ext cx="1440000" cy="360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Ішкі энергия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сы  механикалы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Энергия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ff"/>
                </a:solidFill>
                <a:latin typeface="Arial"/>
              </a:rPr>
              <a:t>айналды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66cc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545200" y="1087200"/>
            <a:ext cx="4512240" cy="4474440"/>
            <a:chOff x="2545200" y="1087200"/>
            <a:chExt cx="4512240" cy="4474440"/>
          </a:xfrm>
        </p:grpSpPr>
        <p:sp>
          <p:nvSpPr>
            <p:cNvPr id="46" name="_s5155"/>
            <p:cNvSpPr/>
            <p:nvPr/>
          </p:nvSpPr>
          <p:spPr>
            <a:xfrm flipH="1" flipV="1">
              <a:off x="4014720" y="2134440"/>
              <a:ext cx="565920" cy="88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5154"/>
            <p:cNvSpPr/>
            <p:nvPr/>
          </p:nvSpPr>
          <p:spPr>
            <a:xfrm>
              <a:off x="3382560" y="1382400"/>
              <a:ext cx="817560" cy="81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4 такт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5153"/>
            <p:cNvSpPr/>
            <p:nvPr/>
          </p:nvSpPr>
          <p:spPr>
            <a:xfrm flipH="1" flipV="1">
              <a:off x="3476520" y="2754360"/>
              <a:ext cx="953280" cy="43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5152"/>
            <p:cNvSpPr/>
            <p:nvPr/>
          </p:nvSpPr>
          <p:spPr>
            <a:xfrm>
              <a:off x="2694240" y="2178360"/>
              <a:ext cx="817560" cy="817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200" spc="-1" strike="noStrike">
                  <a:solidFill>
                    <a:srgbClr val="000000"/>
                  </a:solidFill>
                  <a:latin typeface="Arial"/>
                </a:rPr>
                <a:t>Махови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5151"/>
            <p:cNvSpPr/>
            <p:nvPr/>
          </p:nvSpPr>
          <p:spPr>
            <a:xfrm flipH="1">
              <a:off x="3359160" y="3420000"/>
              <a:ext cx="1038600" cy="147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5150"/>
            <p:cNvSpPr/>
            <p:nvPr/>
          </p:nvSpPr>
          <p:spPr>
            <a:xfrm>
              <a:off x="2545200" y="3218760"/>
              <a:ext cx="817200" cy="817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Arial"/>
                </a:rPr>
                <a:t>Шату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5147"/>
            <p:cNvSpPr/>
            <p:nvPr/>
          </p:nvSpPr>
          <p:spPr>
            <a:xfrm flipH="1">
              <a:off x="3699720" y="3629160"/>
              <a:ext cx="794160" cy="68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46"/>
            <p:cNvSpPr/>
            <p:nvPr/>
          </p:nvSpPr>
          <p:spPr>
            <a:xfrm>
              <a:off x="2982240" y="4175640"/>
              <a:ext cx="817560" cy="81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8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5149"/>
            <p:cNvSpPr/>
            <p:nvPr/>
          </p:nvSpPr>
          <p:spPr>
            <a:xfrm flipH="1">
              <a:off x="4389840" y="3753720"/>
              <a:ext cx="298080" cy="1005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5148"/>
            <p:cNvSpPr/>
            <p:nvPr/>
          </p:nvSpPr>
          <p:spPr>
            <a:xfrm>
              <a:off x="3867120" y="4744080"/>
              <a:ext cx="817560" cy="81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Цилинд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45"/>
            <p:cNvSpPr/>
            <p:nvPr/>
          </p:nvSpPr>
          <p:spPr>
            <a:xfrm>
              <a:off x="4917960" y="3751560"/>
              <a:ext cx="292680" cy="1007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5144"/>
            <p:cNvSpPr/>
            <p:nvPr/>
          </p:nvSpPr>
          <p:spPr>
            <a:xfrm>
              <a:off x="4919400" y="4744080"/>
              <a:ext cx="817560" cy="81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орш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43"/>
            <p:cNvSpPr/>
            <p:nvPr/>
          </p:nvSpPr>
          <p:spPr>
            <a:xfrm>
              <a:off x="5110560" y="3626280"/>
              <a:ext cx="790560" cy="68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5142"/>
            <p:cNvSpPr/>
            <p:nvPr/>
          </p:nvSpPr>
          <p:spPr>
            <a:xfrm>
              <a:off x="5803920" y="4174200"/>
              <a:ext cx="817560" cy="81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2 клап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35"/>
            <p:cNvSpPr/>
            <p:nvPr/>
          </p:nvSpPr>
          <p:spPr>
            <a:xfrm>
              <a:off x="5204520" y="3416400"/>
              <a:ext cx="1038600" cy="15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5134"/>
            <p:cNvSpPr/>
            <p:nvPr/>
          </p:nvSpPr>
          <p:spPr>
            <a:xfrm>
              <a:off x="6239880" y="3217320"/>
              <a:ext cx="817560" cy="8175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ензин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Керосин</a:t>
              </a:r>
              <a:r>
                <a:rPr b="0" lang="kk-KZ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мұна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5132"/>
            <p:cNvSpPr/>
            <p:nvPr/>
          </p:nvSpPr>
          <p:spPr>
            <a:xfrm flipV="1">
              <a:off x="5171040" y="2756160"/>
              <a:ext cx="954720" cy="43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5131"/>
            <p:cNvSpPr/>
            <p:nvPr/>
          </p:nvSpPr>
          <p:spPr>
            <a:xfrm>
              <a:off x="6089040" y="2176560"/>
              <a:ext cx="817560" cy="8175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кі эне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мех-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айн-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5130"/>
            <p:cNvSpPr/>
            <p:nvPr/>
          </p:nvSpPr>
          <p:spPr>
            <a:xfrm flipV="1">
              <a:off x="5020200" y="2135880"/>
              <a:ext cx="568080" cy="88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5129"/>
            <p:cNvSpPr/>
            <p:nvPr/>
          </p:nvSpPr>
          <p:spPr>
            <a:xfrm>
              <a:off x="5400360" y="1382400"/>
              <a:ext cx="817560" cy="8175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ты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Ішінд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1400" spc="-1" strike="noStrike">
                  <a:solidFill>
                    <a:srgbClr val="000000"/>
                  </a:solidFill>
                  <a:latin typeface="Arial"/>
                </a:rPr>
                <a:t>жана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5128"/>
            <p:cNvSpPr/>
            <p:nvPr/>
          </p:nvSpPr>
          <p:spPr>
            <a:xfrm flipV="1">
              <a:off x="4800240" y="1904760"/>
              <a:ext cx="0" cy="1048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5127"/>
            <p:cNvSpPr/>
            <p:nvPr/>
          </p:nvSpPr>
          <p:spPr>
            <a:xfrm>
              <a:off x="4391640" y="1087200"/>
              <a:ext cx="817560" cy="8175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-10 М</a:t>
              </a: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5126"/>
            <p:cNvSpPr/>
            <p:nvPr/>
          </p:nvSpPr>
          <p:spPr>
            <a:xfrm>
              <a:off x="4391640" y="2954160"/>
              <a:ext cx="817560" cy="8175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000000"/>
                  </a:solidFill>
                  <a:latin typeface="Arial"/>
                </a:rPr>
                <a:t>У.Ж.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363528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62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131640" y="1197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40000" y="98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Сығ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5892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1341360"/>
            <a:ext cx="7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Жұмыстық жүрі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16000" y="19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5640" y="177336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шыға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66ff33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2417760" y="1044720"/>
            <a:ext cx="4309920" cy="4309920"/>
            <a:chOff x="2417760" y="1044720"/>
            <a:chExt cx="4309920" cy="4309920"/>
          </a:xfrm>
        </p:grpSpPr>
        <p:sp>
          <p:nvSpPr>
            <p:cNvPr id="78" name="_s8215"/>
            <p:cNvSpPr/>
            <p:nvPr/>
          </p:nvSpPr>
          <p:spPr>
            <a:xfrm flipH="1" flipV="1">
              <a:off x="380952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8214"/>
            <p:cNvSpPr/>
            <p:nvPr/>
          </p:nvSpPr>
          <p:spPr>
            <a:xfrm>
              <a:off x="2890800" y="151776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соп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8213"/>
            <p:cNvSpPr/>
            <p:nvPr/>
          </p:nvSpPr>
          <p:spPr>
            <a:xfrm flipH="1">
              <a:off x="349416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8212"/>
            <p:cNvSpPr/>
            <p:nvPr/>
          </p:nvSpPr>
          <p:spPr>
            <a:xfrm>
              <a:off x="2417760" y="266076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диск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8211"/>
            <p:cNvSpPr/>
            <p:nvPr/>
          </p:nvSpPr>
          <p:spPr>
            <a:xfrm flipH="1">
              <a:off x="380952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8210"/>
            <p:cNvSpPr/>
            <p:nvPr/>
          </p:nvSpPr>
          <p:spPr>
            <a:xfrm>
              <a:off x="2890800" y="380376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лақш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8209"/>
            <p:cNvSpPr/>
            <p:nvPr/>
          </p:nvSpPr>
          <p:spPr>
            <a:xfrm>
              <a:off x="4572000" y="3735360"/>
              <a:ext cx="0" cy="54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8208"/>
            <p:cNvSpPr/>
            <p:nvPr/>
          </p:nvSpPr>
          <p:spPr>
            <a:xfrm>
              <a:off x="4033800" y="4276800"/>
              <a:ext cx="10778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ілі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951440" y="357840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8206"/>
            <p:cNvSpPr/>
            <p:nvPr/>
          </p:nvSpPr>
          <p:spPr>
            <a:xfrm>
              <a:off x="5176800" y="380376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ды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Ішкі механ-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Энергияғ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айналу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8204"/>
            <p:cNvSpPr/>
            <p:nvPr/>
          </p:nvSpPr>
          <p:spPr>
            <a:xfrm>
              <a:off x="5108400" y="3198960"/>
              <a:ext cx="5414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5649840" y="2660760"/>
              <a:ext cx="1077840" cy="107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ат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ызған 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8202"/>
            <p:cNvSpPr/>
            <p:nvPr/>
          </p:nvSpPr>
          <p:spPr>
            <a:xfrm flipV="1">
              <a:off x="4951440" y="2436480"/>
              <a:ext cx="382680" cy="382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1"/>
            <p:cNvSpPr/>
            <p:nvPr/>
          </p:nvSpPr>
          <p:spPr>
            <a:xfrm>
              <a:off x="5176800" y="1517760"/>
              <a:ext cx="1077840" cy="107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қуа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8200"/>
            <p:cNvSpPr/>
            <p:nvPr/>
          </p:nvSpPr>
          <p:spPr>
            <a:xfrm flipV="1">
              <a:off x="4572000" y="21207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9"/>
            <p:cNvSpPr/>
            <p:nvPr/>
          </p:nvSpPr>
          <p:spPr>
            <a:xfrm>
              <a:off x="4033800" y="1044720"/>
              <a:ext cx="1077840" cy="107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ықш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4033800" y="2662200"/>
              <a:ext cx="1077840" cy="1078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Б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00"/>
                  </a:solidFill>
                  <a:latin typeface="Arial"/>
                </a:rPr>
                <a:t>турбинас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7:23:12Z</dcterms:created>
  <dc:creator>1191</dc:creator>
  <dc:description/>
  <dc:language>en-US</dc:language>
  <cp:lastModifiedBy>Владелец</cp:lastModifiedBy>
  <dcterms:modified xsi:type="dcterms:W3CDTF">2010-01-16T09:24:02Z</dcterms:modified>
  <cp:revision>7</cp:revision>
  <dc:subject/>
  <dc:title>Слайд 1</dc:title>
</cp:coreProperties>
</file>